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4.wmf" ContentType="image/x-wmf"/>
  <Override PartName="/ppt/media/image27.wmf" ContentType="image/x-wmf"/>
  <Override PartName="/ppt/media/image5.wmf" ContentType="image/x-wmf"/>
  <Override PartName="/ppt/media/image28.wmf" ContentType="image/x-wmf"/>
  <Override PartName="/ppt/media/image30.png" ContentType="image/png"/>
  <Override PartName="/ppt/media/image13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azer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629240" y="6610320"/>
            <a:ext cx="4514760" cy="2462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r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Bases de données </a:t>
            </a:r>
            <a:r>
              <a:rPr b="0" lang="fr-FR" sz="1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J-L Hainaut  2012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538D5C4F-37DA-454D-99C9-F08FE8B05781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95600" y="6114960"/>
            <a:ext cx="5591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upport du chapitre 4, </a:t>
            </a: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e l'ouvrage </a:t>
            </a: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Bases de données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, J-L Hainaut, Dunod 2012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94160" y="414504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ersion 2 - Janvier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5040" y="2373480"/>
            <a:ext cx="823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4. IMPLEMENTATION DES STRUCTURES DE DONN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par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42920" y="1392120"/>
            <a:ext cx="572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4.6  Organisation séquentielle index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9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0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1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9 Les techniques d'agrég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2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3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4" name=""/>
          <p:cNvSpPr/>
          <p:nvPr/>
        </p:nvSpPr>
        <p:spPr>
          <a:xfrm>
            <a:off x="1104840" y="1587600"/>
            <a:ext cx="708336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oximité logique 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proximité physi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5" name=""/>
          <p:cNvSpPr/>
          <p:nvPr/>
        </p:nvSpPr>
        <p:spPr>
          <a:xfrm>
            <a:off x="1123920" y="2301840"/>
            <a:ext cx="708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registrements d'un fichier lus successi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6" name=""/>
          <p:cNvSpPr/>
          <p:nvPr/>
        </p:nvSpPr>
        <p:spPr>
          <a:xfrm>
            <a:off x="1247760" y="2800440"/>
            <a:ext cx="6896160" cy="5202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lect NCLI, NOM, LOCALI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from   CLIEN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7" name=""/>
          <p:cNvSpPr/>
          <p:nvPr/>
        </p:nvSpPr>
        <p:spPr>
          <a:xfrm>
            <a:off x="1123920" y="3635280"/>
            <a:ext cx="7083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registrements rangés séquentiellement dans l'espac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haque page est lue une seule fo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8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9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0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1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9 Les techniques d'agrég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2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3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4" name=""/>
          <p:cNvSpPr/>
          <p:nvPr/>
        </p:nvSpPr>
        <p:spPr>
          <a:xfrm>
            <a:off x="1104840" y="1587600"/>
            <a:ext cx="708336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oximité logique 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proximité physi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"/>
          <p:cNvSpPr/>
          <p:nvPr/>
        </p:nvSpPr>
        <p:spPr>
          <a:xfrm>
            <a:off x="1123920" y="2301840"/>
            <a:ext cx="708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registrements lus dans un certain ord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6" name=""/>
          <p:cNvSpPr/>
          <p:nvPr/>
        </p:nvSpPr>
        <p:spPr>
          <a:xfrm>
            <a:off x="1247760" y="2809800"/>
            <a:ext cx="6896160" cy="733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lect NCLI, NOM, LOCALI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from   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order by NCL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7" name=""/>
          <p:cNvSpPr/>
          <p:nvPr/>
        </p:nvSpPr>
        <p:spPr>
          <a:xfrm>
            <a:off x="1123920" y="3863880"/>
            <a:ext cx="70833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es enregistrements sont rangés dans l'espace par valeurs croissante de NCL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haque page est lue une seule fo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8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9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0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1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9 Les techniques d'agrég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2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3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4" name=""/>
          <p:cNvSpPr/>
          <p:nvPr/>
        </p:nvSpPr>
        <p:spPr>
          <a:xfrm>
            <a:off x="1104840" y="1587600"/>
            <a:ext cx="708336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oximité logique 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proximité physi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5" name=""/>
          <p:cNvSpPr/>
          <p:nvPr/>
        </p:nvSpPr>
        <p:spPr>
          <a:xfrm>
            <a:off x="1123920" y="2301840"/>
            <a:ext cx="708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registrements couplés par des associ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6" name=""/>
          <p:cNvSpPr/>
          <p:nvPr/>
        </p:nvSpPr>
        <p:spPr>
          <a:xfrm>
            <a:off x="1247760" y="2790720"/>
            <a:ext cx="6896160" cy="733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lect M.NCOM, DATECOM, QCOM, NPR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from   COMMANDE M, DETAIL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where  M.NCOM = D.NCO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7" name=""/>
          <p:cNvSpPr/>
          <p:nvPr/>
        </p:nvSpPr>
        <p:spPr>
          <a:xfrm>
            <a:off x="1123920" y="3863880"/>
            <a:ext cx="70833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es enregistrements COMMANDE et DETAIL de mêmes valeurs de NCOM sont rangés dans la (les) même(s) page(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lusieurs enregistrements utiles dans une même pag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8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9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0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1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9 Les techniques d'agrég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2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3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4" name=""/>
          <p:cNvSpPr/>
          <p:nvPr/>
        </p:nvSpPr>
        <p:spPr>
          <a:xfrm>
            <a:off x="1123920" y="2301840"/>
            <a:ext cx="7083360" cy="102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ux techniques très répandues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clustering index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(p. ex. DB2, SQL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cluster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(p. ex. Orac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5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6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7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8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9 Les techniques d'agrég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9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0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1" name=""/>
          <p:cNvSpPr/>
          <p:nvPr/>
        </p:nvSpPr>
        <p:spPr>
          <a:xfrm>
            <a:off x="3200400" y="1596960"/>
            <a:ext cx="42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clustering index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2" name=""/>
          <p:cNvSpPr/>
          <p:nvPr/>
        </p:nvSpPr>
        <p:spPr>
          <a:xfrm>
            <a:off x="1123920" y="2197080"/>
            <a:ext cx="7083360" cy="22842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ndex secondaire sur une 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able de base a priori </a:t>
            </a:r>
            <a:r>
              <a:rPr b="1" lang="fr-FR" sz="1600" spc="-1" strike="noStrike">
                <a:solidFill>
                  <a:srgbClr val="0000ff"/>
                </a:solidFill>
                <a:latin typeface="Arial"/>
              </a:rPr>
              <a:t>en vrac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MAIS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tant qu'à fair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) on cherche à ranger les lignes selon les valeurs croissantes de 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ors du chargement initial, on laisse de l'espace libre dans chaque pag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s insertions se font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autant que possibl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de manière à respecter l'ordre selon 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près un certain temps, l'ordre est de moins en moins respecté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écessite une réorganisation de temps en temp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3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4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5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6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9 Les techniques d'agrég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7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8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9" name=""/>
          <p:cNvSpPr/>
          <p:nvPr/>
        </p:nvSpPr>
        <p:spPr>
          <a:xfrm>
            <a:off x="3200400" y="1596960"/>
            <a:ext cx="42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clustering index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0" name=""/>
          <p:cNvSpPr/>
          <p:nvPr/>
        </p:nvSpPr>
        <p:spPr>
          <a:xfrm>
            <a:off x="1123920" y="2197080"/>
            <a:ext cx="7083360" cy="1554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u début, performances aussi favorables que le séquentiel indexé (lecture d'une page pour Nrpp ligne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u cours du temps, les performances se dégradent et se rapprochent de celles d'une table en vrac (lecture d'une page pour chaque lign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 seul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clustering index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par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clut tout index primai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1" name=""/>
          <p:cNvSpPr/>
          <p:nvPr/>
        </p:nvSpPr>
        <p:spPr>
          <a:xfrm>
            <a:off x="1123920" y="4016520"/>
            <a:ext cx="7083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avorise les requêtes incluant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19044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order by 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19044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group by 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19044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K between k1 and k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19044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K &gt;= k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19044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K like 'MAC%'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2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3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4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5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9 Les techniques d'agrég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6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7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8" name=""/>
          <p:cNvSpPr/>
          <p:nvPr/>
        </p:nvSpPr>
        <p:spPr>
          <a:xfrm>
            <a:off x="3581280" y="1596960"/>
            <a:ext cx="42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9" name=""/>
          <p:cNvGrpSpPr/>
          <p:nvPr/>
        </p:nvGrpSpPr>
        <p:grpSpPr>
          <a:xfrm>
            <a:off x="1628640" y="3983040"/>
            <a:ext cx="5467320" cy="1798560"/>
            <a:chOff x="1628640" y="3983040"/>
            <a:chExt cx="5467320" cy="1798560"/>
          </a:xfrm>
        </p:grpSpPr>
        <p:sp>
          <p:nvSpPr>
            <p:cNvPr id="3650" name=""/>
            <p:cNvSpPr/>
            <p:nvPr/>
          </p:nvSpPr>
          <p:spPr>
            <a:xfrm>
              <a:off x="1753200" y="3983040"/>
              <a:ext cx="854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Index (NCOM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2905200" y="4200480"/>
              <a:ext cx="4190760" cy="15811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2967120" y="4689360"/>
              <a:ext cx="4044960" cy="183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2986200" y="4713120"/>
              <a:ext cx="1144440" cy="128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0179 C400 22/12/200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4147920" y="4713120"/>
              <a:ext cx="925560" cy="128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0179 CS262 006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5091120" y="4713120"/>
              <a:ext cx="925560" cy="128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0179 PA60 00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2967120" y="4914720"/>
              <a:ext cx="4044960" cy="184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2986200" y="4938480"/>
              <a:ext cx="1144440" cy="128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0182 S127 23/12/200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4147920" y="4938480"/>
              <a:ext cx="925560" cy="128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0182 PA60 003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2967120" y="4465440"/>
              <a:ext cx="4044960" cy="184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2986200" y="4489200"/>
              <a:ext cx="1144440" cy="128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0178 K111 22/12/200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4147920" y="4489200"/>
              <a:ext cx="925560" cy="128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0178 CS464 00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2967120" y="5140080"/>
              <a:ext cx="4044960" cy="184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2986200" y="5163840"/>
              <a:ext cx="1144440" cy="12888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0184 C400 23/12/200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4147920" y="5163840"/>
              <a:ext cx="925560" cy="12888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0184 CS464 01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5091120" y="5163840"/>
              <a:ext cx="925560" cy="12888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0184 PA45 00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2967120" y="5365440"/>
              <a:ext cx="4044960" cy="184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2986200" y="5389560"/>
              <a:ext cx="1144440" cy="128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0185 F011 02/01/200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4147920" y="5389560"/>
              <a:ext cx="925560" cy="128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0185 CS464 026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5091120" y="5389560"/>
              <a:ext cx="925560" cy="128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0185 PA60 00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6033960" y="5389560"/>
              <a:ext cx="925560" cy="128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0185 PS222 06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1628640" y="4200480"/>
              <a:ext cx="1114560" cy="15811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2" name=""/>
            <p:cNvGrpSpPr/>
            <p:nvPr/>
          </p:nvGrpSpPr>
          <p:grpSpPr>
            <a:xfrm>
              <a:off x="2187360" y="4302000"/>
              <a:ext cx="462240" cy="147600"/>
              <a:chOff x="2187360" y="4302000"/>
              <a:chExt cx="462240" cy="147600"/>
            </a:xfrm>
          </p:grpSpPr>
          <p:sp>
            <p:nvSpPr>
              <p:cNvPr id="3673" name=""/>
              <p:cNvSpPr/>
              <p:nvPr/>
            </p:nvSpPr>
            <p:spPr>
              <a:xfrm>
                <a:off x="2187360" y="4302000"/>
                <a:ext cx="324000" cy="14760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30177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74" name=""/>
              <p:cNvGrpSpPr/>
              <p:nvPr/>
            </p:nvGrpSpPr>
            <p:grpSpPr>
              <a:xfrm>
                <a:off x="2511360" y="4302000"/>
                <a:ext cx="138240" cy="147600"/>
                <a:chOff x="2511360" y="4302000"/>
                <a:chExt cx="138240" cy="147600"/>
              </a:xfrm>
            </p:grpSpPr>
            <p:sp>
              <p:nvSpPr>
                <p:cNvPr id="3675" name=""/>
                <p:cNvSpPr/>
                <p:nvPr/>
              </p:nvSpPr>
              <p:spPr>
                <a:xfrm>
                  <a:off x="2511360" y="4302000"/>
                  <a:ext cx="138240" cy="14760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6" name=""/>
                <p:cNvSpPr/>
                <p:nvPr/>
              </p:nvSpPr>
              <p:spPr>
                <a:xfrm>
                  <a:off x="2558880" y="4354200"/>
                  <a:ext cx="42840" cy="42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77" name=""/>
            <p:cNvGrpSpPr/>
            <p:nvPr/>
          </p:nvGrpSpPr>
          <p:grpSpPr>
            <a:xfrm>
              <a:off x="2187360" y="4478040"/>
              <a:ext cx="462240" cy="149040"/>
              <a:chOff x="2187360" y="4478040"/>
              <a:chExt cx="462240" cy="149040"/>
            </a:xfrm>
          </p:grpSpPr>
          <p:sp>
            <p:nvSpPr>
              <p:cNvPr id="3678" name=""/>
              <p:cNvSpPr/>
              <p:nvPr/>
            </p:nvSpPr>
            <p:spPr>
              <a:xfrm>
                <a:off x="2187360" y="4478040"/>
                <a:ext cx="324000" cy="14904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30178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79" name=""/>
              <p:cNvGrpSpPr/>
              <p:nvPr/>
            </p:nvGrpSpPr>
            <p:grpSpPr>
              <a:xfrm>
                <a:off x="2511360" y="4478040"/>
                <a:ext cx="138240" cy="149040"/>
                <a:chOff x="2511360" y="4478040"/>
                <a:chExt cx="138240" cy="149040"/>
              </a:xfrm>
            </p:grpSpPr>
            <p:sp>
              <p:nvSpPr>
                <p:cNvPr id="3680" name=""/>
                <p:cNvSpPr/>
                <p:nvPr/>
              </p:nvSpPr>
              <p:spPr>
                <a:xfrm>
                  <a:off x="2511360" y="4478040"/>
                  <a:ext cx="138240" cy="14904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1" name=""/>
                <p:cNvSpPr/>
                <p:nvPr/>
              </p:nvSpPr>
              <p:spPr>
                <a:xfrm>
                  <a:off x="2558880" y="4532040"/>
                  <a:ext cx="42840" cy="410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82" name=""/>
            <p:cNvGrpSpPr/>
            <p:nvPr/>
          </p:nvGrpSpPr>
          <p:grpSpPr>
            <a:xfrm>
              <a:off x="2187360" y="4655880"/>
              <a:ext cx="462240" cy="147600"/>
              <a:chOff x="2187360" y="4655880"/>
              <a:chExt cx="462240" cy="147600"/>
            </a:xfrm>
          </p:grpSpPr>
          <p:sp>
            <p:nvSpPr>
              <p:cNvPr id="3683" name=""/>
              <p:cNvSpPr/>
              <p:nvPr/>
            </p:nvSpPr>
            <p:spPr>
              <a:xfrm>
                <a:off x="2187360" y="4655880"/>
                <a:ext cx="324000" cy="14760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30179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84" name=""/>
              <p:cNvGrpSpPr/>
              <p:nvPr/>
            </p:nvGrpSpPr>
            <p:grpSpPr>
              <a:xfrm>
                <a:off x="2511360" y="4655880"/>
                <a:ext cx="138240" cy="147600"/>
                <a:chOff x="2511360" y="4655880"/>
                <a:chExt cx="138240" cy="147600"/>
              </a:xfrm>
            </p:grpSpPr>
            <p:sp>
              <p:nvSpPr>
                <p:cNvPr id="3685" name=""/>
                <p:cNvSpPr/>
                <p:nvPr/>
              </p:nvSpPr>
              <p:spPr>
                <a:xfrm>
                  <a:off x="2511360" y="4655880"/>
                  <a:ext cx="138240" cy="14760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6" name=""/>
                <p:cNvSpPr/>
                <p:nvPr/>
              </p:nvSpPr>
              <p:spPr>
                <a:xfrm>
                  <a:off x="2558880" y="4708440"/>
                  <a:ext cx="42840" cy="42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87" name=""/>
            <p:cNvGrpSpPr/>
            <p:nvPr/>
          </p:nvGrpSpPr>
          <p:grpSpPr>
            <a:xfrm>
              <a:off x="2187360" y="4833720"/>
              <a:ext cx="462240" cy="147600"/>
              <a:chOff x="2187360" y="4833720"/>
              <a:chExt cx="462240" cy="147600"/>
            </a:xfrm>
          </p:grpSpPr>
          <p:sp>
            <p:nvSpPr>
              <p:cNvPr id="3688" name=""/>
              <p:cNvSpPr/>
              <p:nvPr/>
            </p:nvSpPr>
            <p:spPr>
              <a:xfrm>
                <a:off x="2187360" y="4833720"/>
                <a:ext cx="324000" cy="14760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3018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89" name=""/>
              <p:cNvGrpSpPr/>
              <p:nvPr/>
            </p:nvGrpSpPr>
            <p:grpSpPr>
              <a:xfrm>
                <a:off x="2511360" y="4833720"/>
                <a:ext cx="138240" cy="147600"/>
                <a:chOff x="2511360" y="4833720"/>
                <a:chExt cx="138240" cy="147600"/>
              </a:xfrm>
            </p:grpSpPr>
            <p:sp>
              <p:nvSpPr>
                <p:cNvPr id="3690" name=""/>
                <p:cNvSpPr/>
                <p:nvPr/>
              </p:nvSpPr>
              <p:spPr>
                <a:xfrm>
                  <a:off x="2511360" y="4833720"/>
                  <a:ext cx="138240" cy="14760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1" name=""/>
                <p:cNvSpPr/>
                <p:nvPr/>
              </p:nvSpPr>
              <p:spPr>
                <a:xfrm>
                  <a:off x="2558880" y="4886280"/>
                  <a:ext cx="42840" cy="42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92" name=""/>
            <p:cNvGrpSpPr/>
            <p:nvPr/>
          </p:nvGrpSpPr>
          <p:grpSpPr>
            <a:xfrm>
              <a:off x="2187360" y="5010120"/>
              <a:ext cx="462240" cy="145800"/>
              <a:chOff x="2187360" y="5010120"/>
              <a:chExt cx="462240" cy="145800"/>
            </a:xfrm>
          </p:grpSpPr>
          <p:sp>
            <p:nvSpPr>
              <p:cNvPr id="3693" name=""/>
              <p:cNvSpPr/>
              <p:nvPr/>
            </p:nvSpPr>
            <p:spPr>
              <a:xfrm>
                <a:off x="2187360" y="5010120"/>
                <a:ext cx="324000" cy="14580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3018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94" name=""/>
              <p:cNvGrpSpPr/>
              <p:nvPr/>
            </p:nvGrpSpPr>
            <p:grpSpPr>
              <a:xfrm>
                <a:off x="2511360" y="5010120"/>
                <a:ext cx="138240" cy="145800"/>
                <a:chOff x="2511360" y="5010120"/>
                <a:chExt cx="138240" cy="145800"/>
              </a:xfrm>
            </p:grpSpPr>
            <p:sp>
              <p:nvSpPr>
                <p:cNvPr id="3695" name=""/>
                <p:cNvSpPr/>
                <p:nvPr/>
              </p:nvSpPr>
              <p:spPr>
                <a:xfrm>
                  <a:off x="2511360" y="5010120"/>
                  <a:ext cx="138240" cy="14580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6" name=""/>
                <p:cNvSpPr/>
                <p:nvPr/>
              </p:nvSpPr>
              <p:spPr>
                <a:xfrm>
                  <a:off x="2558880" y="5061960"/>
                  <a:ext cx="42840" cy="410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97" name=""/>
            <p:cNvGrpSpPr/>
            <p:nvPr/>
          </p:nvGrpSpPr>
          <p:grpSpPr>
            <a:xfrm>
              <a:off x="2187360" y="5186160"/>
              <a:ext cx="462240" cy="147600"/>
              <a:chOff x="2187360" y="5186160"/>
              <a:chExt cx="462240" cy="147600"/>
            </a:xfrm>
          </p:grpSpPr>
          <p:sp>
            <p:nvSpPr>
              <p:cNvPr id="3698" name=""/>
              <p:cNvSpPr/>
              <p:nvPr/>
            </p:nvSpPr>
            <p:spPr>
              <a:xfrm>
                <a:off x="2187360" y="5186160"/>
                <a:ext cx="324000" cy="14760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3018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99" name=""/>
              <p:cNvGrpSpPr/>
              <p:nvPr/>
            </p:nvGrpSpPr>
            <p:grpSpPr>
              <a:xfrm>
                <a:off x="2511360" y="5186160"/>
                <a:ext cx="138240" cy="147600"/>
                <a:chOff x="2511360" y="5186160"/>
                <a:chExt cx="138240" cy="147600"/>
              </a:xfrm>
            </p:grpSpPr>
            <p:sp>
              <p:nvSpPr>
                <p:cNvPr id="3700" name=""/>
                <p:cNvSpPr/>
                <p:nvPr/>
              </p:nvSpPr>
              <p:spPr>
                <a:xfrm>
                  <a:off x="2511360" y="5186160"/>
                  <a:ext cx="138240" cy="14760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1" name=""/>
                <p:cNvSpPr/>
                <p:nvPr/>
              </p:nvSpPr>
              <p:spPr>
                <a:xfrm>
                  <a:off x="2558880" y="5238360"/>
                  <a:ext cx="42840" cy="42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02" name=""/>
            <p:cNvGrpSpPr/>
            <p:nvPr/>
          </p:nvGrpSpPr>
          <p:grpSpPr>
            <a:xfrm>
              <a:off x="2187360" y="5362560"/>
              <a:ext cx="462240" cy="149040"/>
              <a:chOff x="2187360" y="5362560"/>
              <a:chExt cx="462240" cy="149040"/>
            </a:xfrm>
          </p:grpSpPr>
          <p:sp>
            <p:nvSpPr>
              <p:cNvPr id="3703" name=""/>
              <p:cNvSpPr/>
              <p:nvPr/>
            </p:nvSpPr>
            <p:spPr>
              <a:xfrm>
                <a:off x="2187360" y="5362560"/>
                <a:ext cx="324000" cy="14904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30186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04" name=""/>
              <p:cNvGrpSpPr/>
              <p:nvPr/>
            </p:nvGrpSpPr>
            <p:grpSpPr>
              <a:xfrm>
                <a:off x="2511360" y="5362560"/>
                <a:ext cx="138240" cy="149040"/>
                <a:chOff x="2511360" y="5362560"/>
                <a:chExt cx="138240" cy="149040"/>
              </a:xfrm>
            </p:grpSpPr>
            <p:sp>
              <p:nvSpPr>
                <p:cNvPr id="3705" name=""/>
                <p:cNvSpPr/>
                <p:nvPr/>
              </p:nvSpPr>
              <p:spPr>
                <a:xfrm>
                  <a:off x="2511360" y="5362560"/>
                  <a:ext cx="138240" cy="14904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6" name=""/>
                <p:cNvSpPr/>
                <p:nvPr/>
              </p:nvSpPr>
              <p:spPr>
                <a:xfrm>
                  <a:off x="2558880" y="5416560"/>
                  <a:ext cx="42840" cy="410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07" name=""/>
            <p:cNvGrpSpPr/>
            <p:nvPr/>
          </p:nvGrpSpPr>
          <p:grpSpPr>
            <a:xfrm>
              <a:off x="2187360" y="5541840"/>
              <a:ext cx="462240" cy="147600"/>
              <a:chOff x="2187360" y="5541840"/>
              <a:chExt cx="462240" cy="147600"/>
            </a:xfrm>
          </p:grpSpPr>
          <p:sp>
            <p:nvSpPr>
              <p:cNvPr id="3708" name=""/>
              <p:cNvSpPr/>
              <p:nvPr/>
            </p:nvSpPr>
            <p:spPr>
              <a:xfrm>
                <a:off x="2187360" y="5541840"/>
                <a:ext cx="324000" cy="14760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30187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09" name=""/>
              <p:cNvGrpSpPr/>
              <p:nvPr/>
            </p:nvGrpSpPr>
            <p:grpSpPr>
              <a:xfrm>
                <a:off x="2511360" y="5541840"/>
                <a:ext cx="138240" cy="147600"/>
                <a:chOff x="2511360" y="5541840"/>
                <a:chExt cx="138240" cy="147600"/>
              </a:xfrm>
            </p:grpSpPr>
            <p:sp>
              <p:nvSpPr>
                <p:cNvPr id="3710" name=""/>
                <p:cNvSpPr/>
                <p:nvPr/>
              </p:nvSpPr>
              <p:spPr>
                <a:xfrm>
                  <a:off x="2511360" y="5541840"/>
                  <a:ext cx="138240" cy="14760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1" name=""/>
                <p:cNvSpPr/>
                <p:nvPr/>
              </p:nvSpPr>
              <p:spPr>
                <a:xfrm>
                  <a:off x="2558880" y="5594400"/>
                  <a:ext cx="42840" cy="42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12" name=""/>
            <p:cNvSpPr/>
            <p:nvPr/>
          </p:nvSpPr>
          <p:spPr>
            <a:xfrm rot="16200000">
              <a:off x="1353960" y="4816080"/>
              <a:ext cx="1085760" cy="397080"/>
            </a:xfrm>
            <a:prstGeom prst="triangle">
              <a:avLst>
                <a:gd name="adj" fmla="val 50088"/>
              </a:avLst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13" name=""/>
            <p:cNvCxnSpPr>
              <a:stCxn id="3681" idx="6"/>
              <a:endCxn id="3660" idx="1"/>
            </p:cNvCxnSpPr>
            <p:nvPr/>
          </p:nvCxnSpPr>
          <p:spPr>
            <a:xfrm>
              <a:off x="2601720" y="4552920"/>
              <a:ext cx="385200" cy="2160"/>
            </a:xfrm>
            <a:prstGeom prst="curvedConnector5">
              <a:avLst>
                <a:gd name="adj1" fmla="val 49953"/>
                <a:gd name="adj2" fmla="val 40000"/>
                <a:gd name="adj3" fmla="val 49953"/>
              </a:avLst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3714" name=""/>
            <p:cNvCxnSpPr>
              <a:stCxn id="3686" idx="6"/>
              <a:endCxn id="3653" idx="1"/>
            </p:cNvCxnSpPr>
            <p:nvPr/>
          </p:nvCxnSpPr>
          <p:spPr>
            <a:xfrm>
              <a:off x="2601720" y="4730760"/>
              <a:ext cx="385200" cy="48240"/>
            </a:xfrm>
            <a:prstGeom prst="curvedConnector5">
              <a:avLst>
                <a:gd name="adj1" fmla="val 49953"/>
                <a:gd name="adj2" fmla="val 49624"/>
                <a:gd name="adj3" fmla="val 49953"/>
              </a:avLst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3715" name=""/>
            <p:cNvCxnSpPr>
              <a:stCxn id="3691" idx="6"/>
              <a:endCxn id="3657" idx="1"/>
            </p:cNvCxnSpPr>
            <p:nvPr/>
          </p:nvCxnSpPr>
          <p:spPr>
            <a:xfrm>
              <a:off x="2601720" y="4907880"/>
              <a:ext cx="385200" cy="96120"/>
            </a:xfrm>
            <a:prstGeom prst="curvedConnector5">
              <a:avLst>
                <a:gd name="adj1" fmla="val 49953"/>
                <a:gd name="adj2" fmla="val 50000"/>
                <a:gd name="adj3" fmla="val 49953"/>
              </a:avLst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3716" name=""/>
            <p:cNvCxnSpPr>
              <a:stCxn id="3696" idx="6"/>
              <a:endCxn id="3663" idx="1"/>
            </p:cNvCxnSpPr>
            <p:nvPr/>
          </p:nvCxnSpPr>
          <p:spPr>
            <a:xfrm>
              <a:off x="2601720" y="5082840"/>
              <a:ext cx="385200" cy="146880"/>
            </a:xfrm>
            <a:prstGeom prst="curvedConnector5">
              <a:avLst>
                <a:gd name="adj1" fmla="val 49953"/>
                <a:gd name="adj2" fmla="val 49877"/>
                <a:gd name="adj3" fmla="val 49953"/>
              </a:avLst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3717" name=""/>
            <p:cNvCxnSpPr>
              <a:stCxn id="3701" idx="6"/>
              <a:endCxn id="3667" idx="1"/>
            </p:cNvCxnSpPr>
            <p:nvPr/>
          </p:nvCxnSpPr>
          <p:spPr>
            <a:xfrm>
              <a:off x="2601720" y="5260680"/>
              <a:ext cx="385200" cy="194400"/>
            </a:xfrm>
            <a:prstGeom prst="curvedConnector5">
              <a:avLst>
                <a:gd name="adj1" fmla="val 49953"/>
                <a:gd name="adj2" fmla="val 49907"/>
                <a:gd name="adj3" fmla="val 49953"/>
              </a:avLst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3718" name=""/>
            <p:cNvSpPr/>
            <p:nvPr/>
          </p:nvSpPr>
          <p:spPr>
            <a:xfrm>
              <a:off x="3387960" y="3983040"/>
              <a:ext cx="33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Fichier de base : </a:t>
              </a:r>
              <a:r>
                <a:rPr b="1" i="1" lang="fr-FR" sz="800" spc="-1" strike="noStrike">
                  <a:solidFill>
                    <a:srgbClr val="000000"/>
                  </a:solidFill>
                  <a:latin typeface="Arial"/>
                </a:rPr>
                <a:t>clusters &lt;COMMANDE(NCOM), DETAIL(NCOM)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9" name=""/>
          <p:cNvSpPr/>
          <p:nvPr/>
        </p:nvSpPr>
        <p:spPr>
          <a:xfrm>
            <a:off x="1123920" y="2197080"/>
            <a:ext cx="7083360" cy="1310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asé sur une colonne (ou des colonnes) K commune(s) à une ou plusieurs table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s lignes de même valeur de K sont rangées dans la même page; si nécessaire dans des pages success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associe un index à chaque clu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0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1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2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3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9 Les techniques d'agrég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4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5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6" name=""/>
          <p:cNvSpPr/>
          <p:nvPr/>
        </p:nvSpPr>
        <p:spPr>
          <a:xfrm>
            <a:off x="1123920" y="2197080"/>
            <a:ext cx="7083360" cy="580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 seul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cluster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r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clut tout index primai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7" name=""/>
          <p:cNvSpPr/>
          <p:nvPr/>
        </p:nvSpPr>
        <p:spPr>
          <a:xfrm>
            <a:off x="1123920" y="3092400"/>
            <a:ext cx="7083360" cy="23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avorise les requêtes incluant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9540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s join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9540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s sous-requê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9540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group by 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9540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K = k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t, si l'index du cluster est en séquentiel indexé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9540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K between k1 and k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9540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K &gt;= k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9540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K like 'MAC%'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8" name=""/>
          <p:cNvSpPr/>
          <p:nvPr/>
        </p:nvSpPr>
        <p:spPr>
          <a:xfrm>
            <a:off x="3581280" y="1596960"/>
            <a:ext cx="42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9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0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1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2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3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4" name=""/>
          <p:cNvSpPr/>
          <p:nvPr/>
        </p:nvSpPr>
        <p:spPr>
          <a:xfrm>
            <a:off x="1487160" y="1392120"/>
            <a:ext cx="64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4.10 Un exemple : SQL Server de Microso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5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7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8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10 Un exemple : SQL Server de Microso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9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0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1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2" name=""/>
          <p:cNvSpPr/>
          <p:nvPr/>
        </p:nvSpPr>
        <p:spPr>
          <a:xfrm>
            <a:off x="3915720" y="3773520"/>
            <a:ext cx="128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ir annexe 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933640" y="2790720"/>
            <a:ext cx="2457360" cy="28670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81520" y="3238560"/>
            <a:ext cx="257040" cy="2858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33800" y="4095720"/>
            <a:ext cx="257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3075480" y="3883320"/>
            <a:ext cx="863640" cy="719280"/>
          </a:xfrm>
          <a:prstGeom prst="triangle">
            <a:avLst>
              <a:gd name="adj" fmla="val 50227"/>
            </a:avLst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27400" y="2938320"/>
            <a:ext cx="911160" cy="2595600"/>
          </a:xfrm>
          <a:prstGeom prst="rect">
            <a:avLst/>
          </a:prstGeom>
          <a:solidFill>
            <a:srgbClr val="f8f8f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60880" y="2975040"/>
            <a:ext cx="842760" cy="93600"/>
          </a:xfrm>
          <a:prstGeom prst="rect">
            <a:avLst/>
          </a:prstGeom>
          <a:solidFill>
            <a:srgbClr val="dddddd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60880" y="3068640"/>
            <a:ext cx="842760" cy="93600"/>
          </a:xfrm>
          <a:prstGeom prst="rect">
            <a:avLst/>
          </a:prstGeom>
          <a:solidFill>
            <a:srgbClr val="dddddd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60880" y="3162240"/>
            <a:ext cx="842760" cy="93600"/>
          </a:xfrm>
          <a:prstGeom prst="rect">
            <a:avLst/>
          </a:prstGeom>
          <a:solidFill>
            <a:srgbClr val="dddddd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60880" y="3255840"/>
            <a:ext cx="842760" cy="93960"/>
          </a:xfrm>
          <a:prstGeom prst="rect">
            <a:avLst/>
          </a:prstGeom>
          <a:solidFill>
            <a:srgbClr val="dddddd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60880" y="3349800"/>
            <a:ext cx="842760" cy="93600"/>
          </a:xfrm>
          <a:prstGeom prst="rect">
            <a:avLst/>
          </a:prstGeom>
          <a:solidFill>
            <a:srgbClr val="dddddd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60880" y="3443400"/>
            <a:ext cx="842760" cy="95040"/>
          </a:xfrm>
          <a:prstGeom prst="rect">
            <a:avLst/>
          </a:prstGeom>
          <a:solidFill>
            <a:srgbClr val="dddddd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60880" y="3538440"/>
            <a:ext cx="842760" cy="93600"/>
          </a:xfrm>
          <a:prstGeom prst="rect">
            <a:avLst/>
          </a:prstGeom>
          <a:solidFill>
            <a:srgbClr val="dddddd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60880" y="3632040"/>
            <a:ext cx="842760" cy="93960"/>
          </a:xfrm>
          <a:prstGeom prst="rect">
            <a:avLst/>
          </a:prstGeom>
          <a:solidFill>
            <a:srgbClr val="dddddd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60880" y="3726000"/>
            <a:ext cx="842760" cy="93600"/>
          </a:xfrm>
          <a:prstGeom prst="rect">
            <a:avLst/>
          </a:prstGeom>
          <a:solidFill>
            <a:srgbClr val="dddddd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60880" y="3817800"/>
            <a:ext cx="842760" cy="93960"/>
          </a:xfrm>
          <a:prstGeom prst="rect">
            <a:avLst/>
          </a:prstGeom>
          <a:solidFill>
            <a:srgbClr val="dddddd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60880" y="3911760"/>
            <a:ext cx="842760" cy="93600"/>
          </a:xfrm>
          <a:prstGeom prst="rect">
            <a:avLst/>
          </a:prstGeom>
          <a:solidFill>
            <a:srgbClr val="dddddd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60880" y="4005360"/>
            <a:ext cx="842760" cy="93600"/>
          </a:xfrm>
          <a:prstGeom prst="rect">
            <a:avLst/>
          </a:prstGeom>
          <a:solidFill>
            <a:srgbClr val="dddddd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60880" y="4098960"/>
            <a:ext cx="842760" cy="93600"/>
          </a:xfrm>
          <a:prstGeom prst="rect">
            <a:avLst/>
          </a:prstGeom>
          <a:solidFill>
            <a:srgbClr val="b2b2b2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60880" y="4192560"/>
            <a:ext cx="842760" cy="95400"/>
          </a:xfrm>
          <a:prstGeom prst="rect">
            <a:avLst/>
          </a:prstGeom>
          <a:solidFill>
            <a:srgbClr val="dddddd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60880" y="4287960"/>
            <a:ext cx="842760" cy="93600"/>
          </a:xfrm>
          <a:prstGeom prst="rect">
            <a:avLst/>
          </a:prstGeom>
          <a:solidFill>
            <a:srgbClr val="dddddd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60880" y="4381560"/>
            <a:ext cx="842760" cy="93600"/>
          </a:xfrm>
          <a:prstGeom prst="rect">
            <a:avLst/>
          </a:prstGeom>
          <a:solidFill>
            <a:srgbClr val="dddddd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60880" y="4475160"/>
            <a:ext cx="842760" cy="93600"/>
          </a:xfrm>
          <a:prstGeom prst="rect">
            <a:avLst/>
          </a:prstGeom>
          <a:solidFill>
            <a:srgbClr val="dddddd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60880" y="4568760"/>
            <a:ext cx="842760" cy="93600"/>
          </a:xfrm>
          <a:prstGeom prst="rect">
            <a:avLst/>
          </a:prstGeom>
          <a:solidFill>
            <a:srgbClr val="dddddd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60880" y="4660920"/>
            <a:ext cx="842760" cy="93600"/>
          </a:xfrm>
          <a:prstGeom prst="rect">
            <a:avLst/>
          </a:prstGeom>
          <a:solidFill>
            <a:srgbClr val="dddddd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60880" y="4754520"/>
            <a:ext cx="842760" cy="93600"/>
          </a:xfrm>
          <a:prstGeom prst="rect">
            <a:avLst/>
          </a:prstGeom>
          <a:solidFill>
            <a:srgbClr val="dddddd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60880" y="4848120"/>
            <a:ext cx="842760" cy="93600"/>
          </a:xfrm>
          <a:prstGeom prst="rect">
            <a:avLst/>
          </a:prstGeom>
          <a:solidFill>
            <a:srgbClr val="dddddd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60880" y="4941720"/>
            <a:ext cx="842760" cy="95400"/>
          </a:xfrm>
          <a:prstGeom prst="rect">
            <a:avLst/>
          </a:prstGeom>
          <a:solidFill>
            <a:srgbClr val="dddddd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60880" y="5037120"/>
            <a:ext cx="842760" cy="93600"/>
          </a:xfrm>
          <a:prstGeom prst="rect">
            <a:avLst/>
          </a:prstGeom>
          <a:solidFill>
            <a:srgbClr val="dddddd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60880" y="5130720"/>
            <a:ext cx="842760" cy="93600"/>
          </a:xfrm>
          <a:prstGeom prst="rect">
            <a:avLst/>
          </a:prstGeom>
          <a:solidFill>
            <a:srgbClr val="dddddd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60880" y="5224320"/>
            <a:ext cx="842760" cy="93960"/>
          </a:xfrm>
          <a:prstGeom prst="rect">
            <a:avLst/>
          </a:prstGeom>
          <a:solidFill>
            <a:srgbClr val="dddddd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60880" y="5318280"/>
            <a:ext cx="842760" cy="93600"/>
          </a:xfrm>
          <a:prstGeom prst="rect">
            <a:avLst/>
          </a:prstGeom>
          <a:solidFill>
            <a:srgbClr val="dddddd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60880" y="5410080"/>
            <a:ext cx="842760" cy="93960"/>
          </a:xfrm>
          <a:prstGeom prst="rect">
            <a:avLst/>
          </a:prstGeom>
          <a:solidFill>
            <a:srgbClr val="dddddd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23920" y="1673280"/>
            <a:ext cx="7083360" cy="824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 fichier séquentiel indexé de clé K est constitu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09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'un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ichier de bas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séquentiel ordonné sur le(s) champ(s) 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09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'un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sur 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19760" y="2790720"/>
            <a:ext cx="1295280" cy="4190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00"/>
                </a:solidFill>
                <a:latin typeface="Arial"/>
              </a:rPr>
              <a:t>fichier de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00"/>
                </a:solidFill>
                <a:latin typeface="Arial"/>
              </a:rPr>
              <a:t>ordonné sur 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71560" y="2790720"/>
            <a:ext cx="971640" cy="343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00"/>
                </a:solidFill>
                <a:latin typeface="Arial"/>
              </a:rPr>
              <a:t>index sur 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" name=""/>
          <p:cNvCxnSpPr>
            <a:stCxn id="158" idx="2"/>
            <a:endCxn id="122" idx="3"/>
          </p:cNvCxnSpPr>
          <p:nvPr/>
        </p:nvCxnSpPr>
        <p:spPr>
          <a:xfrm rot="5400000">
            <a:off x="5666400" y="2580840"/>
            <a:ext cx="172440" cy="1429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9" idx="2"/>
            <a:endCxn id="123" idx="1"/>
          </p:cNvCxnSpPr>
          <p:nvPr/>
        </p:nvCxnSpPr>
        <p:spPr>
          <a:xfrm flipH="1" rot="16200000">
            <a:off x="2143080" y="3247560"/>
            <a:ext cx="1105560" cy="876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rinci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3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4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5" name=""/>
          <p:cNvSpPr/>
          <p:nvPr/>
        </p:nvSpPr>
        <p:spPr>
          <a:xfrm>
            <a:off x="736560" y="2184480"/>
            <a:ext cx="77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in du modu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6" name=""/>
          <p:cNvSpPr/>
          <p:nvPr/>
        </p:nvSpPr>
        <p:spPr>
          <a:xfrm>
            <a:off x="736560" y="3822840"/>
            <a:ext cx="8035920" cy="9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odule suivan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000000"/>
                </a:solidFill>
                <a:latin typeface="Arial"/>
              </a:rPr>
              <a:t>5 : Les systèmes de gestion de bases de donné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7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8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"/>
          <p:cNvSpPr/>
          <p:nvPr/>
        </p:nvSpPr>
        <p:spPr>
          <a:xfrm>
            <a:off x="0" y="6610320"/>
            <a:ext cx="4638600" cy="244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0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1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23920" y="1673280"/>
            <a:ext cx="7321680" cy="1067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’index matérialise une fonction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qui transforme une valeur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de la clé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en une adress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fonction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est implémentée sous la forme d'un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able de correspondanc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fournissant une adresse (celle d'une page) pour chaque valeur d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rinci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71440" y="1711440"/>
            <a:ext cx="7093080" cy="2484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'organisation séquentielle indexée d'un fichier perm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lecture séquentielle ordonnée des enregistrements du fichier de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lecture séquentielle ordonnée des valeurs de K (via l'inde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'accès rapide à l'enregistrement tel que K = 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'accès rapide aux enregistrements tel que K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[k1, k2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'insertion rapide d'un enregistrement de clé 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modification rapide de la valeur de K d'un enregistr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suppression rapide d'un enregistr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rinci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39040" y="1523880"/>
            <a:ext cx="1133640" cy="419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00"/>
                </a:solidFill>
                <a:latin typeface="Arial"/>
              </a:rPr>
              <a:t>à démontrer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71440" y="4549680"/>
            <a:ext cx="7093080" cy="337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ette organisation s'inspire de structure d'arbre dite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B-tre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(balanced tre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71440" y="1720800"/>
            <a:ext cx="7093080" cy="1870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Hypothèses simplificatri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 La clé K est un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dentifiant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du fich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 Le fichier contient des enregistrements d'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n seul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 Les enregistrements sont d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aille fix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. La taille des enregistrements est inférieure à la moitié de celle des p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5. Un enregistrement est entièrement compris dans une 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rinci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rinci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81080" y="1182600"/>
            <a:ext cx="5236920" cy="5246640"/>
            <a:chOff x="181080" y="1182600"/>
            <a:chExt cx="5236920" cy="5246640"/>
          </a:xfrm>
        </p:grpSpPr>
        <p:grpSp>
          <p:nvGrpSpPr>
            <p:cNvPr id="193" name=""/>
            <p:cNvGrpSpPr/>
            <p:nvPr/>
          </p:nvGrpSpPr>
          <p:grpSpPr>
            <a:xfrm>
              <a:off x="181080" y="2200320"/>
              <a:ext cx="2739960" cy="3989520"/>
              <a:chOff x="181080" y="2200320"/>
              <a:chExt cx="2739960" cy="398952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120" y="2263680"/>
                <a:ext cx="2698920" cy="3926160"/>
              </a:xfrm>
              <a:custGeom>
                <a:avLst/>
                <a:gdLst/>
                <a:ahLst/>
                <a:rect l="l" t="t" r="r" b="b"/>
                <a:pathLst>
                  <a:path w="3399" h="4947">
                    <a:moveTo>
                      <a:pt x="0" y="2032"/>
                    </a:moveTo>
                    <a:lnTo>
                      <a:pt x="0" y="2870"/>
                    </a:lnTo>
                    <a:lnTo>
                      <a:pt x="3399" y="4947"/>
                    </a:lnTo>
                    <a:lnTo>
                      <a:pt x="3399" y="0"/>
                    </a:lnTo>
                    <a:lnTo>
                      <a:pt x="0" y="203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81080" y="2200320"/>
                <a:ext cx="2698560" cy="3925800"/>
              </a:xfrm>
              <a:custGeom>
                <a:avLst/>
                <a:gdLst/>
                <a:ahLst/>
                <a:rect l="l" t="t" r="r" b="b"/>
                <a:pathLst>
                  <a:path w="3399" h="4946">
                    <a:moveTo>
                      <a:pt x="0" y="2032"/>
                    </a:moveTo>
                    <a:lnTo>
                      <a:pt x="0" y="2869"/>
                    </a:lnTo>
                    <a:lnTo>
                      <a:pt x="3399" y="4946"/>
                    </a:lnTo>
                    <a:lnTo>
                      <a:pt x="3399" y="0"/>
                    </a:lnTo>
                    <a:lnTo>
                      <a:pt x="0" y="2032"/>
                    </a:lnTo>
                    <a:close/>
                  </a:path>
                </a:pathLst>
              </a:custGeom>
              <a:solidFill>
                <a:srgbClr val="f8f8f8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3255840" y="1409760"/>
              <a:ext cx="2162160" cy="5019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218040" y="1376280"/>
              <a:ext cx="2155680" cy="5013360"/>
            </a:xfrm>
            <a:prstGeom prst="rect">
              <a:avLst/>
            </a:prstGeom>
            <a:solidFill>
              <a:srgbClr val="f8f8f8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3313080" y="1455840"/>
              <a:ext cx="1995480" cy="403200"/>
              <a:chOff x="3313080" y="1455840"/>
              <a:chExt cx="1995480" cy="403200"/>
            </a:xfrm>
          </p:grpSpPr>
          <p:sp>
            <p:nvSpPr>
              <p:cNvPr id="199" name=""/>
              <p:cNvSpPr/>
              <p:nvPr/>
            </p:nvSpPr>
            <p:spPr>
              <a:xfrm>
                <a:off x="3313080" y="1455840"/>
                <a:ext cx="1995480" cy="4032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327480" y="1468440"/>
                <a:ext cx="196668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415320" y="1479600"/>
                <a:ext cx="206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06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830040" y="1479600"/>
                <a:ext cx="333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GOFFI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463640" y="1479600"/>
                <a:ext cx="2642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amu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136480" y="1479600"/>
                <a:ext cx="1090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327480" y="1600200"/>
                <a:ext cx="196668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415320" y="1611360"/>
                <a:ext cx="206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11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854880" y="1611360"/>
                <a:ext cx="494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HANSENN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462560" y="1611360"/>
                <a:ext cx="294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oitier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137560" y="1611360"/>
                <a:ext cx="1134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327480" y="1731960"/>
                <a:ext cx="196668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415320" y="1743120"/>
                <a:ext cx="206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33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822840" y="1743120"/>
                <a:ext cx="2840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ONT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463640" y="1743120"/>
                <a:ext cx="308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Genèv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136480" y="1743120"/>
                <a:ext cx="1090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670200" y="1460520"/>
                <a:ext cx="1800" cy="39204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390920" y="1460520"/>
                <a:ext cx="1800" cy="39204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022720" y="1460520"/>
                <a:ext cx="1800" cy="39204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3313080" y="1905120"/>
              <a:ext cx="1995480" cy="403200"/>
              <a:chOff x="3313080" y="1905120"/>
              <a:chExt cx="1995480" cy="403200"/>
            </a:xfrm>
          </p:grpSpPr>
          <p:sp>
            <p:nvSpPr>
              <p:cNvPr id="219" name=""/>
              <p:cNvSpPr/>
              <p:nvPr/>
            </p:nvSpPr>
            <p:spPr>
              <a:xfrm>
                <a:off x="3313080" y="1905120"/>
                <a:ext cx="1995480" cy="4032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327480" y="1917720"/>
                <a:ext cx="196668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415320" y="1928880"/>
                <a:ext cx="206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51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825720" y="1928880"/>
                <a:ext cx="303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GILLE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463640" y="1928880"/>
                <a:ext cx="2642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amu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136480" y="1928880"/>
                <a:ext cx="1090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327480" y="2049480"/>
                <a:ext cx="196668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416400" y="2060640"/>
                <a:ext cx="210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00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826440" y="2060640"/>
                <a:ext cx="3160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VRO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462560" y="2060640"/>
                <a:ext cx="294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oitier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136480" y="2060640"/>
                <a:ext cx="1090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670200" y="1909800"/>
                <a:ext cx="1800" cy="39204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390920" y="1909800"/>
                <a:ext cx="1800" cy="39204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022720" y="1909800"/>
                <a:ext cx="1800" cy="39204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3313080" y="2354400"/>
              <a:ext cx="1995480" cy="406440"/>
              <a:chOff x="3313080" y="2354400"/>
              <a:chExt cx="1995480" cy="406440"/>
            </a:xfrm>
          </p:grpSpPr>
          <p:sp>
            <p:nvSpPr>
              <p:cNvPr id="234" name=""/>
              <p:cNvSpPr/>
              <p:nvPr/>
            </p:nvSpPr>
            <p:spPr>
              <a:xfrm>
                <a:off x="3313080" y="2357280"/>
                <a:ext cx="1995480" cy="4035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327480" y="2370240"/>
                <a:ext cx="196668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415320" y="2381400"/>
                <a:ext cx="206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51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825720" y="2381400"/>
                <a:ext cx="303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GILLE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542840" y="2381400"/>
                <a:ext cx="2642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amu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136480" y="2381400"/>
                <a:ext cx="1090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327480" y="2502000"/>
                <a:ext cx="196668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416400" y="2511360"/>
                <a:ext cx="210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00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826440" y="2511360"/>
                <a:ext cx="3160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VRO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541760" y="2511360"/>
                <a:ext cx="294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oitier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137560" y="2511360"/>
                <a:ext cx="1134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327480" y="2631960"/>
                <a:ext cx="1966680" cy="117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416400" y="2643120"/>
                <a:ext cx="210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12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841200" y="2643120"/>
                <a:ext cx="40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ERCI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543200" y="2643120"/>
                <a:ext cx="308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Genèv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36480" y="2643120"/>
                <a:ext cx="1090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649680" y="2362320"/>
                <a:ext cx="1440" cy="39204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43480" y="2362320"/>
                <a:ext cx="1440" cy="39204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975200" y="2362320"/>
                <a:ext cx="1440" cy="39204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313080" y="2354400"/>
                <a:ext cx="1995480" cy="4032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327480" y="2367000"/>
                <a:ext cx="196668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416400" y="2378160"/>
                <a:ext cx="210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12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841200" y="2378160"/>
                <a:ext cx="40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ERCI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463640" y="2378160"/>
                <a:ext cx="2642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amu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137560" y="2378160"/>
                <a:ext cx="1134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327480" y="2498760"/>
                <a:ext cx="196668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416400" y="2509920"/>
                <a:ext cx="210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40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835440" y="2509920"/>
                <a:ext cx="3650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ERAR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462560" y="2509920"/>
                <a:ext cx="294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oitier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136480" y="2509920"/>
                <a:ext cx="1090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327480" y="2630520"/>
                <a:ext cx="196668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416400" y="2641680"/>
                <a:ext cx="210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06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841200" y="2641680"/>
                <a:ext cx="40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ERCI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545720" y="2641680"/>
                <a:ext cx="361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oulous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670200" y="2359080"/>
                <a:ext cx="1800" cy="39204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390920" y="2359080"/>
                <a:ext cx="1800" cy="39204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022720" y="2359080"/>
                <a:ext cx="1800" cy="39204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3313080" y="2808360"/>
              <a:ext cx="1995480" cy="403200"/>
              <a:chOff x="3313080" y="2808360"/>
              <a:chExt cx="1995480" cy="403200"/>
            </a:xfrm>
          </p:grpSpPr>
          <p:sp>
            <p:nvSpPr>
              <p:cNvPr id="272" name=""/>
              <p:cNvSpPr/>
              <p:nvPr/>
            </p:nvSpPr>
            <p:spPr>
              <a:xfrm>
                <a:off x="3313080" y="2808360"/>
                <a:ext cx="1995480" cy="4032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327480" y="2820960"/>
                <a:ext cx="196668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415320" y="2830680"/>
                <a:ext cx="20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01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857400" y="2830680"/>
                <a:ext cx="506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OUSSAI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462560" y="2830680"/>
                <a:ext cx="294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oitier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137560" y="2830680"/>
                <a:ext cx="1134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327480" y="2951280"/>
                <a:ext cx="196668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415320" y="2962440"/>
                <a:ext cx="20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01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853080" y="2962440"/>
                <a:ext cx="4777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ONCELE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62560" y="2962440"/>
                <a:ext cx="294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oitier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136480" y="2962440"/>
                <a:ext cx="1090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327480" y="3083040"/>
                <a:ext cx="196668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415320" y="3094200"/>
                <a:ext cx="20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40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823920" y="3094200"/>
                <a:ext cx="296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JACO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462560" y="3094200"/>
                <a:ext cx="363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ruxelle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137560" y="3094200"/>
                <a:ext cx="1134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670200" y="2813040"/>
                <a:ext cx="1800" cy="39060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90920" y="2813040"/>
                <a:ext cx="1800" cy="39060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022720" y="2813040"/>
                <a:ext cx="1800" cy="39060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3311640" y="4532400"/>
              <a:ext cx="1995480" cy="403200"/>
              <a:chOff x="3311640" y="4532400"/>
              <a:chExt cx="1995480" cy="403200"/>
            </a:xfrm>
          </p:grpSpPr>
          <p:sp>
            <p:nvSpPr>
              <p:cNvPr id="292" name=""/>
              <p:cNvSpPr/>
              <p:nvPr/>
            </p:nvSpPr>
            <p:spPr>
              <a:xfrm>
                <a:off x="3311640" y="4532400"/>
                <a:ext cx="1995480" cy="4032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325680" y="4545000"/>
                <a:ext cx="196848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413520" y="4556160"/>
                <a:ext cx="206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K11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835080" y="4556160"/>
                <a:ext cx="3801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VANBIS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459680" y="4556160"/>
                <a:ext cx="1576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ill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134680" y="4556160"/>
                <a:ext cx="1090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325680" y="4676760"/>
                <a:ext cx="196848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413520" y="4687920"/>
                <a:ext cx="206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K729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836520" y="4687920"/>
                <a:ext cx="384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EUMA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544280" y="4687920"/>
                <a:ext cx="361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oulous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670200" y="4537080"/>
                <a:ext cx="1800" cy="39204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390920" y="4537080"/>
                <a:ext cx="1800" cy="39204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021280" y="4537080"/>
                <a:ext cx="1440" cy="39204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3311640" y="5440320"/>
              <a:ext cx="1995480" cy="403200"/>
              <a:chOff x="3311640" y="5440320"/>
              <a:chExt cx="1995480" cy="403200"/>
            </a:xfrm>
          </p:grpSpPr>
          <p:sp>
            <p:nvSpPr>
              <p:cNvPr id="306" name=""/>
              <p:cNvSpPr/>
              <p:nvPr/>
            </p:nvSpPr>
            <p:spPr>
              <a:xfrm>
                <a:off x="3311640" y="5440320"/>
                <a:ext cx="1995480" cy="4032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325680" y="5452920"/>
                <a:ext cx="1968480" cy="117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414600" y="5464080"/>
                <a:ext cx="210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227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829320" y="5464080"/>
                <a:ext cx="339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ARTI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460760" y="5464080"/>
                <a:ext cx="363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ruxelle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135760" y="5464080"/>
                <a:ext cx="1134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325680" y="5584680"/>
                <a:ext cx="1968480" cy="117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413520" y="5594400"/>
                <a:ext cx="206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65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837600" y="5594400"/>
                <a:ext cx="393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NTOIN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461120" y="5594400"/>
                <a:ext cx="294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oitier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134680" y="5594400"/>
                <a:ext cx="1090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670200" y="5445000"/>
                <a:ext cx="1800" cy="39240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390920" y="5445000"/>
                <a:ext cx="1800" cy="39240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2228760" y="2817720"/>
              <a:ext cx="567000" cy="528840"/>
              <a:chOff x="2228760" y="2817720"/>
              <a:chExt cx="567000" cy="528840"/>
            </a:xfrm>
          </p:grpSpPr>
          <p:sp>
            <p:nvSpPr>
              <p:cNvPr id="320" name=""/>
              <p:cNvSpPr/>
              <p:nvPr/>
            </p:nvSpPr>
            <p:spPr>
              <a:xfrm>
                <a:off x="2228760" y="2817720"/>
                <a:ext cx="567000" cy="5288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243160" y="2830680"/>
                <a:ext cx="53640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331000" y="2838600"/>
                <a:ext cx="206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33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706120" y="2817720"/>
                <a:ext cx="43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43160" y="2959200"/>
                <a:ext cx="53640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332080" y="2967120"/>
                <a:ext cx="210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00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706120" y="2946240"/>
                <a:ext cx="43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243160" y="3089160"/>
                <a:ext cx="536400" cy="117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332080" y="3095640"/>
                <a:ext cx="210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06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706120" y="3075120"/>
                <a:ext cx="43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243160" y="3218040"/>
                <a:ext cx="53640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331000" y="3225960"/>
                <a:ext cx="20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40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706120" y="3205080"/>
                <a:ext cx="43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610000" y="2820960"/>
                <a:ext cx="1440" cy="51768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2228760" y="3375000"/>
              <a:ext cx="567000" cy="528840"/>
              <a:chOff x="2228760" y="3375000"/>
              <a:chExt cx="567000" cy="528840"/>
            </a:xfrm>
          </p:grpSpPr>
          <p:sp>
            <p:nvSpPr>
              <p:cNvPr id="335" name=""/>
              <p:cNvSpPr/>
              <p:nvPr/>
            </p:nvSpPr>
            <p:spPr>
              <a:xfrm>
                <a:off x="2228760" y="3375000"/>
                <a:ext cx="567000" cy="5288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243160" y="3387600"/>
                <a:ext cx="536400" cy="117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332080" y="3395520"/>
                <a:ext cx="215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G11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706120" y="3375000"/>
                <a:ext cx="43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43160" y="3517920"/>
                <a:ext cx="53640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273400" y="3524400"/>
                <a:ext cx="210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H736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706120" y="3503520"/>
                <a:ext cx="43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243160" y="3646440"/>
                <a:ext cx="53640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332080" y="3654360"/>
                <a:ext cx="210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H99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706120" y="3633840"/>
                <a:ext cx="43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610000" y="3379680"/>
                <a:ext cx="1440" cy="51588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3313080" y="3257640"/>
              <a:ext cx="1995480" cy="403200"/>
              <a:chOff x="3313080" y="3257640"/>
              <a:chExt cx="1995480" cy="403200"/>
            </a:xfrm>
          </p:grpSpPr>
          <p:sp>
            <p:nvSpPr>
              <p:cNvPr id="347" name=""/>
              <p:cNvSpPr/>
              <p:nvPr/>
            </p:nvSpPr>
            <p:spPr>
              <a:xfrm>
                <a:off x="3313080" y="3257640"/>
                <a:ext cx="1995480" cy="4032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327480" y="3270240"/>
                <a:ext cx="196668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415320" y="3279600"/>
                <a:ext cx="20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37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839400" y="3279600"/>
                <a:ext cx="395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ERNI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519440" y="3279600"/>
                <a:ext cx="201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ari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137560" y="3279600"/>
                <a:ext cx="1134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327480" y="3400560"/>
                <a:ext cx="196668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416400" y="3411360"/>
                <a:ext cx="215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G11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833640" y="3411360"/>
                <a:ext cx="3556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TEVE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534920" y="3411360"/>
                <a:ext cx="2934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ondo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136480" y="3411360"/>
                <a:ext cx="1090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670200" y="3262320"/>
                <a:ext cx="1800" cy="39060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390920" y="3262320"/>
                <a:ext cx="1800" cy="39060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022720" y="3262320"/>
                <a:ext cx="1800" cy="39060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3311640" y="4986360"/>
              <a:ext cx="1995480" cy="403200"/>
              <a:chOff x="3311640" y="4986360"/>
              <a:chExt cx="1995480" cy="403200"/>
            </a:xfrm>
          </p:grpSpPr>
          <p:sp>
            <p:nvSpPr>
              <p:cNvPr id="362" name=""/>
              <p:cNvSpPr/>
              <p:nvPr/>
            </p:nvSpPr>
            <p:spPr>
              <a:xfrm>
                <a:off x="3311640" y="4986360"/>
                <a:ext cx="1995480" cy="4032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325680" y="4998960"/>
                <a:ext cx="1968480" cy="117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412800" y="5010120"/>
                <a:ext cx="19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42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823560" y="5010120"/>
                <a:ext cx="300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RANK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461840" y="5010120"/>
                <a:ext cx="2642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amu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135760" y="5010120"/>
                <a:ext cx="1134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325680" y="5130720"/>
                <a:ext cx="1968480" cy="117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416400" y="5140440"/>
                <a:ext cx="220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56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839400" y="5140440"/>
                <a:ext cx="40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ERCI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544280" y="5140440"/>
                <a:ext cx="361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oulous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135760" y="5140440"/>
                <a:ext cx="1134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325680" y="5261040"/>
                <a:ext cx="196848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416400" y="5272200"/>
                <a:ext cx="220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34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813840" y="5272200"/>
                <a:ext cx="2415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OE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460760" y="5272200"/>
                <a:ext cx="215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ièg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134680" y="5272200"/>
                <a:ext cx="1090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670200" y="4991040"/>
                <a:ext cx="1800" cy="39204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390920" y="4991040"/>
                <a:ext cx="1800" cy="39204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021280" y="4991040"/>
                <a:ext cx="1440" cy="39204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3311640" y="5894280"/>
              <a:ext cx="1995480" cy="403200"/>
              <a:chOff x="3311640" y="5894280"/>
              <a:chExt cx="1995480" cy="403200"/>
            </a:xfrm>
          </p:grpSpPr>
          <p:sp>
            <p:nvSpPr>
              <p:cNvPr id="382" name=""/>
              <p:cNvSpPr/>
              <p:nvPr/>
            </p:nvSpPr>
            <p:spPr>
              <a:xfrm>
                <a:off x="3311640" y="5894280"/>
                <a:ext cx="1995480" cy="4032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325680" y="5907240"/>
                <a:ext cx="196848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413520" y="5918040"/>
                <a:ext cx="206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127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852360" y="5918040"/>
                <a:ext cx="489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VANDERK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461840" y="5918040"/>
                <a:ext cx="2642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amu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135760" y="5918040"/>
                <a:ext cx="1134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325680" y="6039000"/>
                <a:ext cx="196848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413520" y="6048360"/>
                <a:ext cx="206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71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855960" y="6048360"/>
                <a:ext cx="511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GUILLAUM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517640" y="6048360"/>
                <a:ext cx="201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ari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134680" y="6048360"/>
                <a:ext cx="1090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670200" y="5899320"/>
                <a:ext cx="1800" cy="39024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390920" y="5899320"/>
                <a:ext cx="1800" cy="39024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021280" y="5899320"/>
                <a:ext cx="1440" cy="39024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6" name=""/>
            <p:cNvSpPr/>
            <p:nvPr/>
          </p:nvSpPr>
          <p:spPr>
            <a:xfrm>
              <a:off x="4091040" y="4227480"/>
              <a:ext cx="4698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250880" y="4141800"/>
              <a:ext cx="275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. . 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2228760" y="3933720"/>
              <a:ext cx="567000" cy="528840"/>
              <a:chOff x="2228760" y="3933720"/>
              <a:chExt cx="567000" cy="528840"/>
            </a:xfrm>
          </p:grpSpPr>
          <p:sp>
            <p:nvSpPr>
              <p:cNvPr id="399" name=""/>
              <p:cNvSpPr/>
              <p:nvPr/>
            </p:nvSpPr>
            <p:spPr>
              <a:xfrm>
                <a:off x="2228760" y="3933720"/>
                <a:ext cx="567000" cy="5288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243160" y="3946680"/>
                <a:ext cx="53640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325600" y="3954600"/>
                <a:ext cx="1713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45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706120" y="3933720"/>
                <a:ext cx="43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243160" y="4076640"/>
                <a:ext cx="53640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329200" y="4083120"/>
                <a:ext cx="1911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J079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706120" y="4062240"/>
                <a:ext cx="43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610000" y="3938760"/>
                <a:ext cx="1440" cy="51588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2228760" y="4491000"/>
              <a:ext cx="567000" cy="528840"/>
              <a:chOff x="2228760" y="4491000"/>
              <a:chExt cx="567000" cy="528840"/>
            </a:xfrm>
          </p:grpSpPr>
          <p:sp>
            <p:nvSpPr>
              <p:cNvPr id="408" name=""/>
              <p:cNvSpPr/>
              <p:nvPr/>
            </p:nvSpPr>
            <p:spPr>
              <a:xfrm>
                <a:off x="2228760" y="4492800"/>
                <a:ext cx="567000" cy="5270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243160" y="4505400"/>
                <a:ext cx="53640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329200" y="4511520"/>
                <a:ext cx="1911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J82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706120" y="4491000"/>
                <a:ext cx="43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243160" y="4633920"/>
                <a:ext cx="53640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331000" y="4641840"/>
                <a:ext cx="206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K729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706120" y="4621320"/>
                <a:ext cx="43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243160" y="4762440"/>
                <a:ext cx="53640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333880" y="4770360"/>
                <a:ext cx="220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34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706120" y="4749840"/>
                <a:ext cx="43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243160" y="4890960"/>
                <a:ext cx="536400" cy="117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331000" y="4898880"/>
                <a:ext cx="206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65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706120" y="4878360"/>
                <a:ext cx="43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610000" y="4495680"/>
                <a:ext cx="1440" cy="51768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2228760" y="5049720"/>
              <a:ext cx="567000" cy="528840"/>
              <a:chOff x="2228760" y="5049720"/>
              <a:chExt cx="567000" cy="528840"/>
            </a:xfrm>
          </p:grpSpPr>
          <p:sp>
            <p:nvSpPr>
              <p:cNvPr id="423" name=""/>
              <p:cNvSpPr/>
              <p:nvPr/>
            </p:nvSpPr>
            <p:spPr>
              <a:xfrm>
                <a:off x="2228760" y="5051520"/>
                <a:ext cx="567000" cy="5270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243160" y="5064120"/>
                <a:ext cx="53640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273400" y="5070600"/>
                <a:ext cx="206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71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706120" y="5049720"/>
                <a:ext cx="43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610000" y="5054760"/>
                <a:ext cx="1440" cy="51732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2700360" y="1492200"/>
              <a:ext cx="628560" cy="4510080"/>
              <a:chOff x="2700360" y="1492200"/>
              <a:chExt cx="628560" cy="4510080"/>
            </a:xfrm>
          </p:grpSpPr>
          <p:grpSp>
            <p:nvGrpSpPr>
              <p:cNvPr id="429" name=""/>
              <p:cNvGrpSpPr/>
              <p:nvPr/>
            </p:nvGrpSpPr>
            <p:grpSpPr>
              <a:xfrm>
                <a:off x="2700360" y="1492200"/>
                <a:ext cx="627120" cy="1397160"/>
                <a:chOff x="2700360" y="1492200"/>
                <a:chExt cx="627120" cy="139716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2700360" y="1527120"/>
                  <a:ext cx="547560" cy="1362240"/>
                </a:xfrm>
                <a:custGeom>
                  <a:avLst/>
                  <a:gdLst/>
                  <a:ahLst/>
                  <a:rect l="l" t="t" r="r" b="b"/>
                  <a:pathLst>
                    <a:path w="691" h="1715">
                      <a:moveTo>
                        <a:pt x="0" y="1715"/>
                      </a:moveTo>
                      <a:lnTo>
                        <a:pt x="154" y="1715"/>
                      </a:lnTo>
                      <a:lnTo>
                        <a:pt x="154" y="0"/>
                      </a:lnTo>
                      <a:lnTo>
                        <a:pt x="691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246480" y="1492200"/>
                  <a:ext cx="81000" cy="73080"/>
                </a:xfrm>
                <a:custGeom>
                  <a:avLst/>
                  <a:gdLst/>
                  <a:ahLst/>
                  <a:rect l="l" t="t" r="r" b="b"/>
                  <a:pathLst>
                    <a:path w="102" h="91">
                      <a:moveTo>
                        <a:pt x="0" y="91"/>
                      </a:moveTo>
                      <a:lnTo>
                        <a:pt x="102" y="45"/>
                      </a:lnTo>
                      <a:lnTo>
                        <a:pt x="0" y="0"/>
                      </a:lnTo>
                      <a:lnTo>
                        <a:pt x="0" y="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2700360" y="1941480"/>
                <a:ext cx="627120" cy="1076400"/>
                <a:chOff x="2700360" y="1941480"/>
                <a:chExt cx="627120" cy="107640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2700360" y="1976400"/>
                  <a:ext cx="547560" cy="1041480"/>
                </a:xfrm>
                <a:custGeom>
                  <a:avLst/>
                  <a:gdLst/>
                  <a:ahLst/>
                  <a:rect l="l" t="t" r="r" b="b"/>
                  <a:pathLst>
                    <a:path w="691" h="1312">
                      <a:moveTo>
                        <a:pt x="0" y="1312"/>
                      </a:moveTo>
                      <a:lnTo>
                        <a:pt x="313" y="1312"/>
                      </a:lnTo>
                      <a:lnTo>
                        <a:pt x="313" y="0"/>
                      </a:lnTo>
                      <a:lnTo>
                        <a:pt x="691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246480" y="1941480"/>
                  <a:ext cx="81000" cy="73080"/>
                </a:xfrm>
                <a:custGeom>
                  <a:avLst/>
                  <a:gdLst/>
                  <a:ahLst/>
                  <a:rect l="l" t="t" r="r" b="b"/>
                  <a:pathLst>
                    <a:path w="102" h="91">
                      <a:moveTo>
                        <a:pt x="0" y="91"/>
                      </a:moveTo>
                      <a:lnTo>
                        <a:pt x="102" y="45"/>
                      </a:lnTo>
                      <a:lnTo>
                        <a:pt x="0" y="0"/>
                      </a:lnTo>
                      <a:lnTo>
                        <a:pt x="0" y="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2700360" y="2390760"/>
                <a:ext cx="627120" cy="757080"/>
                <a:chOff x="2700360" y="2390760"/>
                <a:chExt cx="627120" cy="75708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2700360" y="2425680"/>
                  <a:ext cx="547560" cy="722160"/>
                </a:xfrm>
                <a:custGeom>
                  <a:avLst/>
                  <a:gdLst/>
                  <a:ahLst/>
                  <a:rect l="l" t="t" r="r" b="b"/>
                  <a:pathLst>
                    <a:path w="691" h="909">
                      <a:moveTo>
                        <a:pt x="0" y="909"/>
                      </a:moveTo>
                      <a:lnTo>
                        <a:pt x="474" y="909"/>
                      </a:lnTo>
                      <a:lnTo>
                        <a:pt x="474" y="0"/>
                      </a:lnTo>
                      <a:lnTo>
                        <a:pt x="691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3246480" y="2390760"/>
                  <a:ext cx="81000" cy="73080"/>
                </a:xfrm>
                <a:custGeom>
                  <a:avLst/>
                  <a:gdLst/>
                  <a:ahLst/>
                  <a:rect l="l" t="t" r="r" b="b"/>
                  <a:pathLst>
                    <a:path w="102" h="91">
                      <a:moveTo>
                        <a:pt x="0" y="91"/>
                      </a:moveTo>
                      <a:lnTo>
                        <a:pt x="102" y="45"/>
                      </a:lnTo>
                      <a:lnTo>
                        <a:pt x="0" y="0"/>
                      </a:lnTo>
                      <a:lnTo>
                        <a:pt x="0" y="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2700360" y="2843280"/>
                <a:ext cx="627120" cy="433440"/>
                <a:chOff x="2700360" y="2843280"/>
                <a:chExt cx="627120" cy="43344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2700360" y="2879640"/>
                  <a:ext cx="547560" cy="397080"/>
                </a:xfrm>
                <a:custGeom>
                  <a:avLst/>
                  <a:gdLst/>
                  <a:ahLst/>
                  <a:rect l="l" t="t" r="r" b="b"/>
                  <a:pathLst>
                    <a:path w="691" h="501">
                      <a:moveTo>
                        <a:pt x="0" y="501"/>
                      </a:moveTo>
                      <a:lnTo>
                        <a:pt x="600" y="501"/>
                      </a:lnTo>
                      <a:lnTo>
                        <a:pt x="600" y="0"/>
                      </a:lnTo>
                      <a:lnTo>
                        <a:pt x="691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246480" y="2843280"/>
                  <a:ext cx="81000" cy="73080"/>
                </a:xfrm>
                <a:custGeom>
                  <a:avLst/>
                  <a:gdLst/>
                  <a:ahLst/>
                  <a:rect l="l" t="t" r="r" b="b"/>
                  <a:pathLst>
                    <a:path w="102" h="92">
                      <a:moveTo>
                        <a:pt x="0" y="92"/>
                      </a:moveTo>
                      <a:lnTo>
                        <a:pt x="102" y="45"/>
                      </a:lnTo>
                      <a:lnTo>
                        <a:pt x="0" y="0"/>
                      </a:lnTo>
                      <a:lnTo>
                        <a:pt x="0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2700360" y="3292560"/>
                <a:ext cx="627120" cy="154080"/>
                <a:chOff x="2700360" y="3292560"/>
                <a:chExt cx="627120" cy="15408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2700360" y="3328920"/>
                  <a:ext cx="547560" cy="117720"/>
                </a:xfrm>
                <a:custGeom>
                  <a:avLst/>
                  <a:gdLst/>
                  <a:ahLst/>
                  <a:rect l="l" t="t" r="r" b="b"/>
                  <a:pathLst>
                    <a:path w="691" h="150">
                      <a:moveTo>
                        <a:pt x="0" y="150"/>
                      </a:moveTo>
                      <a:lnTo>
                        <a:pt x="611" y="150"/>
                      </a:lnTo>
                      <a:lnTo>
                        <a:pt x="611" y="0"/>
                      </a:lnTo>
                      <a:lnTo>
                        <a:pt x="691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3246480" y="3292560"/>
                  <a:ext cx="81000" cy="73080"/>
                </a:xfrm>
                <a:custGeom>
                  <a:avLst/>
                  <a:gdLst/>
                  <a:ahLst/>
                  <a:rect l="l" t="t" r="r" b="b"/>
                  <a:pathLst>
                    <a:path w="102" h="92">
                      <a:moveTo>
                        <a:pt x="0" y="92"/>
                      </a:moveTo>
                      <a:lnTo>
                        <a:pt x="102" y="45"/>
                      </a:lnTo>
                      <a:lnTo>
                        <a:pt x="0" y="0"/>
                      </a:lnTo>
                      <a:lnTo>
                        <a:pt x="0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2700360" y="3576600"/>
                <a:ext cx="627120" cy="239760"/>
                <a:chOff x="2700360" y="3576600"/>
                <a:chExt cx="627120" cy="23976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2700360" y="3576600"/>
                  <a:ext cx="547560" cy="201600"/>
                </a:xfrm>
                <a:custGeom>
                  <a:avLst/>
                  <a:gdLst/>
                  <a:ahLst/>
                  <a:rect l="l" t="t" r="r" b="b"/>
                  <a:pathLst>
                    <a:path w="691" h="256">
                      <a:moveTo>
                        <a:pt x="0" y="0"/>
                      </a:moveTo>
                      <a:lnTo>
                        <a:pt x="613" y="0"/>
                      </a:lnTo>
                      <a:lnTo>
                        <a:pt x="613" y="256"/>
                      </a:lnTo>
                      <a:lnTo>
                        <a:pt x="691" y="256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246480" y="3743280"/>
                  <a:ext cx="81000" cy="73080"/>
                </a:xfrm>
                <a:custGeom>
                  <a:avLst/>
                  <a:gdLst/>
                  <a:ahLst/>
                  <a:rect l="l" t="t" r="r" b="b"/>
                  <a:pathLst>
                    <a:path w="102" h="91">
                      <a:moveTo>
                        <a:pt x="0" y="91"/>
                      </a:moveTo>
                      <a:lnTo>
                        <a:pt x="102" y="45"/>
                      </a:lnTo>
                      <a:lnTo>
                        <a:pt x="0" y="0"/>
                      </a:lnTo>
                      <a:lnTo>
                        <a:pt x="0" y="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2700360" y="4568760"/>
                <a:ext cx="625320" cy="123840"/>
                <a:chOff x="2700360" y="4568760"/>
                <a:chExt cx="625320" cy="12384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2700360" y="4603680"/>
                  <a:ext cx="547560" cy="88920"/>
                </a:xfrm>
                <a:custGeom>
                  <a:avLst/>
                  <a:gdLst/>
                  <a:ahLst/>
                  <a:rect l="l" t="t" r="r" b="b"/>
                  <a:pathLst>
                    <a:path w="689" h="112">
                      <a:moveTo>
                        <a:pt x="0" y="112"/>
                      </a:moveTo>
                      <a:lnTo>
                        <a:pt x="476" y="112"/>
                      </a:lnTo>
                      <a:lnTo>
                        <a:pt x="476" y="0"/>
                      </a:lnTo>
                      <a:lnTo>
                        <a:pt x="689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3244680" y="4568760"/>
                  <a:ext cx="81000" cy="71640"/>
                </a:xfrm>
                <a:custGeom>
                  <a:avLst/>
                  <a:gdLst/>
                  <a:ahLst/>
                  <a:rect l="l" t="t" r="r" b="b"/>
                  <a:pathLst>
                    <a:path w="103" h="92">
                      <a:moveTo>
                        <a:pt x="0" y="92"/>
                      </a:moveTo>
                      <a:lnTo>
                        <a:pt x="103" y="45"/>
                      </a:lnTo>
                      <a:lnTo>
                        <a:pt x="0" y="0"/>
                      </a:lnTo>
                      <a:lnTo>
                        <a:pt x="0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2700360" y="4821120"/>
                <a:ext cx="625320" cy="273240"/>
                <a:chOff x="2700360" y="4821120"/>
                <a:chExt cx="625320" cy="27324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2700360" y="4821120"/>
                  <a:ext cx="547560" cy="236520"/>
                </a:xfrm>
                <a:custGeom>
                  <a:avLst/>
                  <a:gdLst/>
                  <a:ahLst/>
                  <a:rect l="l" t="t" r="r" b="b"/>
                  <a:pathLst>
                    <a:path w="689" h="298">
                      <a:moveTo>
                        <a:pt x="0" y="0"/>
                      </a:moveTo>
                      <a:lnTo>
                        <a:pt x="474" y="0"/>
                      </a:lnTo>
                      <a:lnTo>
                        <a:pt x="474" y="298"/>
                      </a:lnTo>
                      <a:lnTo>
                        <a:pt x="689" y="298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244680" y="5021280"/>
                  <a:ext cx="81000" cy="73080"/>
                </a:xfrm>
                <a:custGeom>
                  <a:avLst/>
                  <a:gdLst/>
                  <a:ahLst/>
                  <a:rect l="l" t="t" r="r" b="b"/>
                  <a:pathLst>
                    <a:path w="103" h="91">
                      <a:moveTo>
                        <a:pt x="0" y="91"/>
                      </a:moveTo>
                      <a:lnTo>
                        <a:pt x="103" y="45"/>
                      </a:lnTo>
                      <a:lnTo>
                        <a:pt x="0" y="0"/>
                      </a:lnTo>
                      <a:lnTo>
                        <a:pt x="0" y="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2700360" y="4950000"/>
                <a:ext cx="625320" cy="598320"/>
                <a:chOff x="2700360" y="4950000"/>
                <a:chExt cx="625320" cy="59832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2700360" y="4950000"/>
                  <a:ext cx="547560" cy="561960"/>
                </a:xfrm>
                <a:custGeom>
                  <a:avLst/>
                  <a:gdLst/>
                  <a:ahLst/>
                  <a:rect l="l" t="t" r="r" b="b"/>
                  <a:pathLst>
                    <a:path w="689" h="707">
                      <a:moveTo>
                        <a:pt x="0" y="0"/>
                      </a:moveTo>
                      <a:lnTo>
                        <a:pt x="315" y="0"/>
                      </a:lnTo>
                      <a:lnTo>
                        <a:pt x="315" y="707"/>
                      </a:lnTo>
                      <a:lnTo>
                        <a:pt x="689" y="707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244680" y="5475240"/>
                  <a:ext cx="81000" cy="73080"/>
                </a:xfrm>
                <a:custGeom>
                  <a:avLst/>
                  <a:gdLst/>
                  <a:ahLst/>
                  <a:rect l="l" t="t" r="r" b="b"/>
                  <a:pathLst>
                    <a:path w="103" h="91">
                      <a:moveTo>
                        <a:pt x="0" y="91"/>
                      </a:moveTo>
                      <a:lnTo>
                        <a:pt x="103" y="45"/>
                      </a:lnTo>
                      <a:lnTo>
                        <a:pt x="0" y="0"/>
                      </a:lnTo>
                      <a:lnTo>
                        <a:pt x="0" y="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2700360" y="5122800"/>
                <a:ext cx="625320" cy="879480"/>
                <a:chOff x="2700360" y="5122800"/>
                <a:chExt cx="625320" cy="87948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2700360" y="5122800"/>
                  <a:ext cx="547560" cy="843120"/>
                </a:xfrm>
                <a:custGeom>
                  <a:avLst/>
                  <a:gdLst/>
                  <a:ahLst/>
                  <a:rect l="l" t="t" r="r" b="b"/>
                  <a:pathLst>
                    <a:path w="689" h="1063">
                      <a:moveTo>
                        <a:pt x="0" y="0"/>
                      </a:moveTo>
                      <a:lnTo>
                        <a:pt x="156" y="0"/>
                      </a:lnTo>
                      <a:lnTo>
                        <a:pt x="156" y="1063"/>
                      </a:lnTo>
                      <a:lnTo>
                        <a:pt x="689" y="1063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3244680" y="5929200"/>
                  <a:ext cx="81000" cy="73080"/>
                </a:xfrm>
                <a:custGeom>
                  <a:avLst/>
                  <a:gdLst/>
                  <a:ahLst/>
                  <a:rect l="l" t="t" r="r" b="b"/>
                  <a:pathLst>
                    <a:path w="103" h="91">
                      <a:moveTo>
                        <a:pt x="0" y="91"/>
                      </a:moveTo>
                      <a:lnTo>
                        <a:pt x="103" y="45"/>
                      </a:lnTo>
                      <a:lnTo>
                        <a:pt x="0" y="0"/>
                      </a:lnTo>
                      <a:lnTo>
                        <a:pt x="0" y="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2700360" y="3705120"/>
                <a:ext cx="628560" cy="534960"/>
                <a:chOff x="2700360" y="3705120"/>
                <a:chExt cx="628560" cy="53496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2700360" y="3705120"/>
                  <a:ext cx="549360" cy="498600"/>
                </a:xfrm>
                <a:custGeom>
                  <a:avLst/>
                  <a:gdLst/>
                  <a:ahLst/>
                  <a:rect l="l" t="t" r="r" b="b"/>
                  <a:pathLst>
                    <a:path w="693" h="628">
                      <a:moveTo>
                        <a:pt x="0" y="0"/>
                      </a:moveTo>
                      <a:lnTo>
                        <a:pt x="476" y="0"/>
                      </a:lnTo>
                      <a:lnTo>
                        <a:pt x="476" y="628"/>
                      </a:lnTo>
                      <a:lnTo>
                        <a:pt x="693" y="628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3247920" y="4168800"/>
                  <a:ext cx="81000" cy="71280"/>
                </a:xfrm>
                <a:custGeom>
                  <a:avLst/>
                  <a:gdLst/>
                  <a:ahLst/>
                  <a:rect l="l" t="t" r="r" b="b"/>
                  <a:pathLst>
                    <a:path w="103" h="92">
                      <a:moveTo>
                        <a:pt x="0" y="92"/>
                      </a:moveTo>
                      <a:lnTo>
                        <a:pt x="103" y="45"/>
                      </a:lnTo>
                      <a:lnTo>
                        <a:pt x="0" y="0"/>
                      </a:lnTo>
                      <a:lnTo>
                        <a:pt x="0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2700360" y="4389480"/>
                <a:ext cx="628560" cy="174600"/>
                <a:chOff x="2700360" y="4389480"/>
                <a:chExt cx="628560" cy="17460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2700360" y="4425840"/>
                  <a:ext cx="549360" cy="138240"/>
                </a:xfrm>
                <a:custGeom>
                  <a:avLst/>
                  <a:gdLst/>
                  <a:ahLst/>
                  <a:rect l="l" t="t" r="r" b="b"/>
                  <a:pathLst>
                    <a:path w="693" h="174">
                      <a:moveTo>
                        <a:pt x="0" y="174"/>
                      </a:moveTo>
                      <a:lnTo>
                        <a:pt x="315" y="174"/>
                      </a:lnTo>
                      <a:lnTo>
                        <a:pt x="315" y="0"/>
                      </a:lnTo>
                      <a:lnTo>
                        <a:pt x="693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3247920" y="4389480"/>
                  <a:ext cx="81000" cy="73080"/>
                </a:xfrm>
                <a:custGeom>
                  <a:avLst/>
                  <a:gdLst/>
                  <a:ahLst/>
                  <a:rect l="l" t="t" r="r" b="b"/>
                  <a:pathLst>
                    <a:path w="103" h="92">
                      <a:moveTo>
                        <a:pt x="0" y="92"/>
                      </a:moveTo>
                      <a:lnTo>
                        <a:pt x="103" y="45"/>
                      </a:lnTo>
                      <a:lnTo>
                        <a:pt x="0" y="0"/>
                      </a:lnTo>
                      <a:lnTo>
                        <a:pt x="0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5" name=""/>
            <p:cNvGrpSpPr/>
            <p:nvPr/>
          </p:nvGrpSpPr>
          <p:grpSpPr>
            <a:xfrm>
              <a:off x="1289160" y="3646440"/>
              <a:ext cx="566640" cy="528840"/>
              <a:chOff x="1289160" y="3646440"/>
              <a:chExt cx="566640" cy="528840"/>
            </a:xfrm>
          </p:grpSpPr>
          <p:sp>
            <p:nvSpPr>
              <p:cNvPr id="466" name=""/>
              <p:cNvSpPr/>
              <p:nvPr/>
            </p:nvSpPr>
            <p:spPr>
              <a:xfrm>
                <a:off x="1289160" y="3648240"/>
                <a:ext cx="566640" cy="5270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303200" y="3660840"/>
                <a:ext cx="53676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391040" y="3666960"/>
                <a:ext cx="20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40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767960" y="3646440"/>
                <a:ext cx="43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303200" y="3789360"/>
                <a:ext cx="53676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392120" y="3797280"/>
                <a:ext cx="210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H99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767960" y="3776760"/>
                <a:ext cx="43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303200" y="3917880"/>
                <a:ext cx="536760" cy="117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389240" y="3925800"/>
                <a:ext cx="1911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J079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767960" y="3905280"/>
                <a:ext cx="43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303200" y="4048200"/>
                <a:ext cx="53676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391040" y="4054320"/>
                <a:ext cx="206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65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767960" y="4033800"/>
                <a:ext cx="43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670040" y="3651120"/>
                <a:ext cx="1440" cy="51768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1289160" y="4205160"/>
              <a:ext cx="566640" cy="527040"/>
              <a:chOff x="1289160" y="4205160"/>
              <a:chExt cx="566640" cy="527040"/>
            </a:xfrm>
          </p:grpSpPr>
          <p:sp>
            <p:nvSpPr>
              <p:cNvPr id="481" name=""/>
              <p:cNvSpPr/>
              <p:nvPr/>
            </p:nvSpPr>
            <p:spPr>
              <a:xfrm>
                <a:off x="1289160" y="4205160"/>
                <a:ext cx="566640" cy="5270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303200" y="4218120"/>
                <a:ext cx="53676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391040" y="4226040"/>
                <a:ext cx="206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71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767960" y="4205160"/>
                <a:ext cx="43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670040" y="4208400"/>
                <a:ext cx="1440" cy="51768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390600" y="3902040"/>
              <a:ext cx="566640" cy="528840"/>
              <a:chOff x="390600" y="3902040"/>
              <a:chExt cx="566640" cy="528840"/>
            </a:xfrm>
          </p:grpSpPr>
          <p:sp>
            <p:nvSpPr>
              <p:cNvPr id="487" name=""/>
              <p:cNvSpPr/>
              <p:nvPr/>
            </p:nvSpPr>
            <p:spPr>
              <a:xfrm>
                <a:off x="390600" y="3903840"/>
                <a:ext cx="566640" cy="5270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04640" y="3916440"/>
                <a:ext cx="53676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34880" y="3922560"/>
                <a:ext cx="206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65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867960" y="3902040"/>
                <a:ext cx="43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04640" y="4044960"/>
                <a:ext cx="53676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92480" y="4052880"/>
                <a:ext cx="206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71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867960" y="4032360"/>
                <a:ext cx="43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71480" y="3906720"/>
                <a:ext cx="1800" cy="51768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1762200" y="2854440"/>
              <a:ext cx="480960" cy="2305080"/>
              <a:chOff x="1762200" y="2854440"/>
              <a:chExt cx="480960" cy="2305080"/>
            </a:xfrm>
          </p:grpSpPr>
          <p:grpSp>
            <p:nvGrpSpPr>
              <p:cNvPr id="496" name=""/>
              <p:cNvGrpSpPr/>
              <p:nvPr/>
            </p:nvGrpSpPr>
            <p:grpSpPr>
              <a:xfrm>
                <a:off x="1762200" y="2854440"/>
                <a:ext cx="480960" cy="865080"/>
                <a:chOff x="1762200" y="2854440"/>
                <a:chExt cx="480960" cy="86508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1762200" y="2889360"/>
                  <a:ext cx="401400" cy="830160"/>
                </a:xfrm>
                <a:custGeom>
                  <a:avLst/>
                  <a:gdLst/>
                  <a:ahLst/>
                  <a:rect l="l" t="t" r="r" b="b"/>
                  <a:pathLst>
                    <a:path w="507" h="1045">
                      <a:moveTo>
                        <a:pt x="0" y="1045"/>
                      </a:moveTo>
                      <a:lnTo>
                        <a:pt x="166" y="1045"/>
                      </a:lnTo>
                      <a:lnTo>
                        <a:pt x="166" y="0"/>
                      </a:lnTo>
                      <a:lnTo>
                        <a:pt x="507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2160720" y="2854440"/>
                  <a:ext cx="82440" cy="71280"/>
                </a:xfrm>
                <a:custGeom>
                  <a:avLst/>
                  <a:gdLst/>
                  <a:ahLst/>
                  <a:rect l="l" t="t" r="r" b="b"/>
                  <a:pathLst>
                    <a:path w="102" h="92">
                      <a:moveTo>
                        <a:pt x="0" y="92"/>
                      </a:moveTo>
                      <a:lnTo>
                        <a:pt x="102" y="45"/>
                      </a:lnTo>
                      <a:lnTo>
                        <a:pt x="0" y="0"/>
                      </a:lnTo>
                      <a:lnTo>
                        <a:pt x="0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1762200" y="3411360"/>
                <a:ext cx="480960" cy="436680"/>
                <a:chOff x="1762200" y="3411360"/>
                <a:chExt cx="480960" cy="43668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1762200" y="3446640"/>
                  <a:ext cx="401400" cy="401400"/>
                </a:xfrm>
                <a:custGeom>
                  <a:avLst/>
                  <a:gdLst/>
                  <a:ahLst/>
                  <a:rect l="l" t="t" r="r" b="b"/>
                  <a:pathLst>
                    <a:path w="507" h="505">
                      <a:moveTo>
                        <a:pt x="0" y="505"/>
                      </a:moveTo>
                      <a:lnTo>
                        <a:pt x="303" y="505"/>
                      </a:lnTo>
                      <a:lnTo>
                        <a:pt x="303" y="0"/>
                      </a:lnTo>
                      <a:lnTo>
                        <a:pt x="507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2160720" y="3411360"/>
                  <a:ext cx="82440" cy="73080"/>
                </a:xfrm>
                <a:custGeom>
                  <a:avLst/>
                  <a:gdLst/>
                  <a:ahLst/>
                  <a:rect l="l" t="t" r="r" b="b"/>
                  <a:pathLst>
                    <a:path w="102" h="91">
                      <a:moveTo>
                        <a:pt x="0" y="91"/>
                      </a:moveTo>
                      <a:lnTo>
                        <a:pt x="102" y="45"/>
                      </a:lnTo>
                      <a:lnTo>
                        <a:pt x="0" y="0"/>
                      </a:lnTo>
                      <a:lnTo>
                        <a:pt x="0" y="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2" name=""/>
              <p:cNvGrpSpPr/>
              <p:nvPr/>
            </p:nvGrpSpPr>
            <p:grpSpPr>
              <a:xfrm>
                <a:off x="1762200" y="3970440"/>
                <a:ext cx="480960" cy="73080"/>
                <a:chOff x="1762200" y="3970440"/>
                <a:chExt cx="480960" cy="7308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1762200" y="3976560"/>
                  <a:ext cx="401400" cy="28800"/>
                </a:xfrm>
                <a:custGeom>
                  <a:avLst/>
                  <a:gdLst/>
                  <a:ahLst/>
                  <a:rect l="l" t="t" r="r" b="b"/>
                  <a:pathLst>
                    <a:path w="507" h="36">
                      <a:moveTo>
                        <a:pt x="0" y="0"/>
                      </a:moveTo>
                      <a:lnTo>
                        <a:pt x="303" y="0"/>
                      </a:lnTo>
                      <a:lnTo>
                        <a:pt x="303" y="36"/>
                      </a:lnTo>
                      <a:lnTo>
                        <a:pt x="507" y="36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160720" y="3970440"/>
                  <a:ext cx="82440" cy="73080"/>
                </a:xfrm>
                <a:custGeom>
                  <a:avLst/>
                  <a:gdLst/>
                  <a:ahLst/>
                  <a:rect l="l" t="t" r="r" b="b"/>
                  <a:pathLst>
                    <a:path w="102" h="91">
                      <a:moveTo>
                        <a:pt x="0" y="91"/>
                      </a:moveTo>
                      <a:lnTo>
                        <a:pt x="102" y="45"/>
                      </a:lnTo>
                      <a:lnTo>
                        <a:pt x="0" y="0"/>
                      </a:lnTo>
                      <a:lnTo>
                        <a:pt x="0" y="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" name=""/>
              <p:cNvGrpSpPr/>
              <p:nvPr/>
            </p:nvGrpSpPr>
            <p:grpSpPr>
              <a:xfrm>
                <a:off x="1762200" y="4106880"/>
                <a:ext cx="480960" cy="493560"/>
                <a:chOff x="1762200" y="4106880"/>
                <a:chExt cx="480960" cy="49356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1762200" y="4106880"/>
                  <a:ext cx="401400" cy="457200"/>
                </a:xfrm>
                <a:custGeom>
                  <a:avLst/>
                  <a:gdLst/>
                  <a:ahLst/>
                  <a:rect l="l" t="t" r="r" b="b"/>
                  <a:pathLst>
                    <a:path w="507" h="576">
                      <a:moveTo>
                        <a:pt x="0" y="0"/>
                      </a:moveTo>
                      <a:lnTo>
                        <a:pt x="303" y="0"/>
                      </a:lnTo>
                      <a:lnTo>
                        <a:pt x="303" y="576"/>
                      </a:lnTo>
                      <a:lnTo>
                        <a:pt x="507" y="576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160720" y="4527720"/>
                  <a:ext cx="82440" cy="72720"/>
                </a:xfrm>
                <a:custGeom>
                  <a:avLst/>
                  <a:gdLst/>
                  <a:ahLst/>
                  <a:rect l="l" t="t" r="r" b="b"/>
                  <a:pathLst>
                    <a:path w="102" h="92">
                      <a:moveTo>
                        <a:pt x="0" y="92"/>
                      </a:moveTo>
                      <a:lnTo>
                        <a:pt x="102" y="45"/>
                      </a:lnTo>
                      <a:lnTo>
                        <a:pt x="0" y="0"/>
                      </a:lnTo>
                      <a:lnTo>
                        <a:pt x="0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" name=""/>
              <p:cNvGrpSpPr/>
              <p:nvPr/>
            </p:nvGrpSpPr>
            <p:grpSpPr>
              <a:xfrm>
                <a:off x="1762200" y="4276800"/>
                <a:ext cx="480960" cy="882720"/>
                <a:chOff x="1762200" y="4276800"/>
                <a:chExt cx="480960" cy="88272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1762200" y="4276800"/>
                  <a:ext cx="401400" cy="846000"/>
                </a:xfrm>
                <a:custGeom>
                  <a:avLst/>
                  <a:gdLst/>
                  <a:ahLst/>
                  <a:rect l="l" t="t" r="r" b="b"/>
                  <a:pathLst>
                    <a:path w="507" h="1065">
                      <a:moveTo>
                        <a:pt x="0" y="0"/>
                      </a:moveTo>
                      <a:lnTo>
                        <a:pt x="164" y="0"/>
                      </a:lnTo>
                      <a:lnTo>
                        <a:pt x="164" y="1065"/>
                      </a:lnTo>
                      <a:lnTo>
                        <a:pt x="507" y="1065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2160720" y="5086440"/>
                  <a:ext cx="82440" cy="73080"/>
                </a:xfrm>
                <a:custGeom>
                  <a:avLst/>
                  <a:gdLst/>
                  <a:ahLst/>
                  <a:rect l="l" t="t" r="r" b="b"/>
                  <a:pathLst>
                    <a:path w="102" h="92">
                      <a:moveTo>
                        <a:pt x="0" y="92"/>
                      </a:moveTo>
                      <a:lnTo>
                        <a:pt x="102" y="45"/>
                      </a:lnTo>
                      <a:lnTo>
                        <a:pt x="0" y="0"/>
                      </a:lnTo>
                      <a:lnTo>
                        <a:pt x="0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11" name=""/>
            <p:cNvGrpSpPr/>
            <p:nvPr/>
          </p:nvGrpSpPr>
          <p:grpSpPr>
            <a:xfrm>
              <a:off x="861840" y="3683160"/>
              <a:ext cx="441360" cy="630000"/>
              <a:chOff x="861840" y="3683160"/>
              <a:chExt cx="441360" cy="630000"/>
            </a:xfrm>
          </p:grpSpPr>
          <p:grpSp>
            <p:nvGrpSpPr>
              <p:cNvPr id="512" name=""/>
              <p:cNvGrpSpPr/>
              <p:nvPr/>
            </p:nvGrpSpPr>
            <p:grpSpPr>
              <a:xfrm>
                <a:off x="861840" y="3683160"/>
                <a:ext cx="441360" cy="291960"/>
                <a:chOff x="861840" y="3683160"/>
                <a:chExt cx="441360" cy="2919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861840" y="3719520"/>
                  <a:ext cx="363600" cy="255600"/>
                </a:xfrm>
                <a:custGeom>
                  <a:avLst/>
                  <a:gdLst/>
                  <a:ahLst/>
                  <a:rect l="l" t="t" r="r" b="b"/>
                  <a:pathLst>
                    <a:path w="457" h="323">
                      <a:moveTo>
                        <a:pt x="0" y="323"/>
                      </a:moveTo>
                      <a:lnTo>
                        <a:pt x="278" y="323"/>
                      </a:lnTo>
                      <a:lnTo>
                        <a:pt x="278" y="0"/>
                      </a:lnTo>
                      <a:lnTo>
                        <a:pt x="457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222200" y="3683160"/>
                  <a:ext cx="81000" cy="72720"/>
                </a:xfrm>
                <a:custGeom>
                  <a:avLst/>
                  <a:gdLst/>
                  <a:ahLst/>
                  <a:rect l="l" t="t" r="r" b="b"/>
                  <a:pathLst>
                    <a:path w="103" h="92">
                      <a:moveTo>
                        <a:pt x="0" y="92"/>
                      </a:moveTo>
                      <a:lnTo>
                        <a:pt x="103" y="45"/>
                      </a:lnTo>
                      <a:lnTo>
                        <a:pt x="0" y="0"/>
                      </a:lnTo>
                      <a:lnTo>
                        <a:pt x="0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861840" y="4103640"/>
                <a:ext cx="441360" cy="209520"/>
                <a:chOff x="861840" y="4103640"/>
                <a:chExt cx="441360" cy="20952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861840" y="4103640"/>
                  <a:ext cx="363600" cy="173160"/>
                </a:xfrm>
                <a:custGeom>
                  <a:avLst/>
                  <a:gdLst/>
                  <a:ahLst/>
                  <a:rect l="l" t="t" r="r" b="b"/>
                  <a:pathLst>
                    <a:path w="457" h="218">
                      <a:moveTo>
                        <a:pt x="0" y="0"/>
                      </a:moveTo>
                      <a:lnTo>
                        <a:pt x="278" y="0"/>
                      </a:lnTo>
                      <a:lnTo>
                        <a:pt x="278" y="218"/>
                      </a:lnTo>
                      <a:lnTo>
                        <a:pt x="457" y="218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1222200" y="4240080"/>
                  <a:ext cx="81000" cy="73080"/>
                </a:xfrm>
                <a:custGeom>
                  <a:avLst/>
                  <a:gdLst/>
                  <a:ahLst/>
                  <a:rect l="l" t="t" r="r" b="b"/>
                  <a:pathLst>
                    <a:path w="103" h="91">
                      <a:moveTo>
                        <a:pt x="0" y="91"/>
                      </a:moveTo>
                      <a:lnTo>
                        <a:pt x="103" y="45"/>
                      </a:lnTo>
                      <a:lnTo>
                        <a:pt x="0" y="0"/>
                      </a:lnTo>
                      <a:lnTo>
                        <a:pt x="0" y="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18" name=""/>
            <p:cNvSpPr/>
            <p:nvPr/>
          </p:nvSpPr>
          <p:spPr>
            <a:xfrm>
              <a:off x="3821040" y="1182600"/>
              <a:ext cx="10368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94840" y="1222200"/>
              <a:ext cx="805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fichier de bas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173240" y="2759040"/>
              <a:ext cx="48420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299600" y="2797200"/>
              <a:ext cx="30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2" name=""/>
            <p:cNvGrpSpPr/>
            <p:nvPr/>
          </p:nvGrpSpPr>
          <p:grpSpPr>
            <a:xfrm>
              <a:off x="3313080" y="3706920"/>
              <a:ext cx="1995480" cy="403200"/>
              <a:chOff x="3313080" y="3706920"/>
              <a:chExt cx="1995480" cy="403200"/>
            </a:xfrm>
          </p:grpSpPr>
          <p:sp>
            <p:nvSpPr>
              <p:cNvPr id="523" name=""/>
              <p:cNvSpPr/>
              <p:nvPr/>
            </p:nvSpPr>
            <p:spPr>
              <a:xfrm>
                <a:off x="3313080" y="3706920"/>
                <a:ext cx="1995480" cy="4032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327480" y="3719520"/>
                <a:ext cx="196668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416400" y="3730680"/>
                <a:ext cx="210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H109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830040" y="3730680"/>
                <a:ext cx="3358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UPUI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463640" y="3730680"/>
                <a:ext cx="386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ausann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137560" y="3730680"/>
                <a:ext cx="1134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327480" y="3851280"/>
                <a:ext cx="1966680" cy="117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416400" y="3862440"/>
                <a:ext cx="210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H736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845520" y="3862440"/>
                <a:ext cx="4334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RNOUL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519440" y="3862440"/>
                <a:ext cx="201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ari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136480" y="3862440"/>
                <a:ext cx="1090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670200" y="3711600"/>
                <a:ext cx="1800" cy="39204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390920" y="3711600"/>
                <a:ext cx="1800" cy="39204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022720" y="3711600"/>
                <a:ext cx="1800" cy="392040"/>
              </a:xfrm>
              <a:prstGeom prst="line">
                <a:avLst/>
              </a:prstGeom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7" name=""/>
          <p:cNvSpPr/>
          <p:nvPr/>
        </p:nvSpPr>
        <p:spPr>
          <a:xfrm>
            <a:off x="5486400" y="1314360"/>
            <a:ext cx="337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Observation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562720" y="1657440"/>
            <a:ext cx="338292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000" tIns="10800" bIns="10800" anchor="t">
            <a:spAutoFit/>
          </a:bodyPr>
          <a:p>
            <a:pPr marL="190440" indent="-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les enregistrements de chaque page de base sont ordonnés selon K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562720" y="2097000"/>
            <a:ext cx="338292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000" tIns="10800" bIns="10800" anchor="t">
            <a:spAutoFit/>
          </a:bodyPr>
          <a:p>
            <a:pPr marL="190440" indent="-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une page de base est caractérisée par sa plus grande valeur de K.</a:t>
            </a: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562720" y="2538360"/>
            <a:ext cx="33829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000" tIns="10800" bIns="10800" anchor="t">
            <a:spAutoFit/>
          </a:bodyPr>
          <a:p>
            <a:pPr marL="190440" indent="-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les pages de base sont ordonnées selon K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562720" y="2820960"/>
            <a:ext cx="33829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000" tIns="10800" bIns="10800" anchor="t">
            <a:spAutoFit/>
          </a:bodyPr>
          <a:p>
            <a:pPr marL="190440" indent="-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l'index comprend </a:t>
            </a: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 niveaux (n </a:t>
            </a:r>
            <a:r>
              <a:rPr b="0" lang="fr-FR" sz="13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 1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562720" y="5784840"/>
            <a:ext cx="33829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000" tIns="10800" bIns="10800" anchor="t">
            <a:spAutoFit/>
          </a:bodyPr>
          <a:p>
            <a:pPr marL="190440" indent="-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10. certaines pages ne sont pas pleine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562720" y="3984480"/>
            <a:ext cx="33829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000" tIns="10800" bIns="10800" anchor="t">
            <a:spAutoFit/>
          </a:bodyPr>
          <a:p>
            <a:pPr marL="190440" indent="-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chaque entrée du niveau n de l'index comprend 1 valeur ki de K et 1 pointeur vers la page de base dont la plus grande valeur de K = k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562720" y="4743360"/>
            <a:ext cx="33829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000" tIns="10800" bIns="10800" anchor="t">
            <a:spAutoFit/>
          </a:bodyPr>
          <a:p>
            <a:pPr marL="190440" indent="-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chaque entrée du niveau m (m &lt; n) de l'index comprend 1 valeur ki de K et 1 pointeur vers la page d'index de niveau m+1 dont la plus grande valeur de K = k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562720" y="5502240"/>
            <a:ext cx="33829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000" tIns="10800" bIns="10800" anchor="t">
            <a:spAutoFit/>
          </a:bodyPr>
          <a:p>
            <a:pPr marL="190440" indent="-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le 1er niveau de l'index comprend 1 pag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562720" y="3103560"/>
            <a:ext cx="338292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000" tIns="10800" bIns="10800" anchor="t">
            <a:spAutoFit/>
          </a:bodyPr>
          <a:p>
            <a:pPr marL="190440" indent="-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chaque page d'index comprend des entrées d'index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562720" y="3543480"/>
            <a:ext cx="338292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000" tIns="10800" bIns="10800" anchor="t">
            <a:spAutoFit/>
          </a:bodyPr>
          <a:p>
            <a:pPr marL="190440" indent="-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chaque niveau d'index jouit des propriétés 1 à 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562720" y="6070680"/>
            <a:ext cx="358128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000" tIns="10800" bIns="10800" anchor="t">
            <a:spAutoFit/>
          </a:bodyPr>
          <a:p>
            <a:pPr marL="190440" indent="-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11. la position d'un enregistrement est fonction de sa valeur de K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1714680" y="4572000"/>
            <a:ext cx="6153120" cy="380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714680" y="2762280"/>
            <a:ext cx="6153120" cy="1647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Accès par cl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1881360" y="2859120"/>
            <a:ext cx="5937120" cy="1453680"/>
            <a:chOff x="1881360" y="2859120"/>
            <a:chExt cx="5937120" cy="1453680"/>
          </a:xfrm>
        </p:grpSpPr>
        <p:grpSp>
          <p:nvGrpSpPr>
            <p:cNvPr id="558" name=""/>
            <p:cNvGrpSpPr/>
            <p:nvPr/>
          </p:nvGrpSpPr>
          <p:grpSpPr>
            <a:xfrm>
              <a:off x="4100760" y="2859120"/>
              <a:ext cx="684000" cy="726840"/>
              <a:chOff x="4100760" y="2859120"/>
              <a:chExt cx="684000" cy="726840"/>
            </a:xfrm>
          </p:grpSpPr>
          <p:sp>
            <p:nvSpPr>
              <p:cNvPr id="559" name=""/>
              <p:cNvSpPr/>
              <p:nvPr/>
            </p:nvSpPr>
            <p:spPr>
              <a:xfrm>
                <a:off x="4100760" y="2859120"/>
                <a:ext cx="684000" cy="7268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118040" y="2876400"/>
                <a:ext cx="647280" cy="1616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76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G110</a:t>
                </a: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AU" sz="1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118040" y="3054240"/>
                <a:ext cx="647280" cy="1616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76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ff"/>
                    </a:solidFill>
                    <a:latin typeface="Arial"/>
                  </a:rPr>
                  <a:t>H736</a:t>
                </a: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AU" sz="1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118040" y="3232080"/>
                <a:ext cx="647280" cy="1612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76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H991</a:t>
                </a: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AU" sz="1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560840" y="2863800"/>
                <a:ext cx="0" cy="712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64" name=""/>
            <p:cNvCxnSpPr/>
            <p:nvPr/>
          </p:nvCxnSpPr>
          <p:spPr>
            <a:xfrm>
              <a:off x="4670280" y="3134880"/>
              <a:ext cx="757800" cy="279720"/>
            </a:xfrm>
            <a:prstGeom prst="bentConnector3">
              <a:avLst>
                <a:gd name="adj1" fmla="val 775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65" name=""/>
            <p:cNvGrpSpPr/>
            <p:nvPr/>
          </p:nvGrpSpPr>
          <p:grpSpPr>
            <a:xfrm>
              <a:off x="2967120" y="3233520"/>
              <a:ext cx="684360" cy="726840"/>
              <a:chOff x="2967120" y="3233520"/>
              <a:chExt cx="684360" cy="726840"/>
            </a:xfrm>
          </p:grpSpPr>
          <p:sp>
            <p:nvSpPr>
              <p:cNvPr id="566" name=""/>
              <p:cNvSpPr/>
              <p:nvPr/>
            </p:nvSpPr>
            <p:spPr>
              <a:xfrm>
                <a:off x="2967120" y="3233520"/>
                <a:ext cx="684360" cy="7268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984760" y="3250440"/>
                <a:ext cx="647640" cy="1616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76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F400</a:t>
                </a: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AU" sz="1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984760" y="3428280"/>
                <a:ext cx="647640" cy="1616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76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ff"/>
                    </a:solidFill>
                    <a:latin typeface="Arial"/>
                  </a:rPr>
                  <a:t>H991</a:t>
                </a: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AU" sz="1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984760" y="3606120"/>
                <a:ext cx="647640" cy="1616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76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J079</a:t>
                </a: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AU" sz="1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984760" y="3783960"/>
                <a:ext cx="647640" cy="1616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76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P650</a:t>
                </a: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AU" sz="1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427560" y="3237840"/>
                <a:ext cx="0" cy="712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1881360" y="3585960"/>
              <a:ext cx="684000" cy="726840"/>
              <a:chOff x="1881360" y="3585960"/>
              <a:chExt cx="684000" cy="726840"/>
            </a:xfrm>
          </p:grpSpPr>
          <p:sp>
            <p:nvSpPr>
              <p:cNvPr id="573" name=""/>
              <p:cNvSpPr/>
              <p:nvPr/>
            </p:nvSpPr>
            <p:spPr>
              <a:xfrm>
                <a:off x="1881360" y="3585960"/>
                <a:ext cx="684000" cy="7268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898640" y="3603240"/>
                <a:ext cx="647280" cy="1616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76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ff"/>
                    </a:solidFill>
                    <a:latin typeface="Arial"/>
                  </a:rPr>
                  <a:t>P650</a:t>
                </a: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AU" sz="1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898640" y="3781080"/>
                <a:ext cx="647280" cy="1616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76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S712</a:t>
                </a: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AU" sz="1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341440" y="3590640"/>
                <a:ext cx="0" cy="712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77" name=""/>
            <p:cNvCxnSpPr/>
            <p:nvPr/>
          </p:nvCxnSpPr>
          <p:spPr>
            <a:xfrm flipV="1">
              <a:off x="3537000" y="2956680"/>
              <a:ext cx="581400" cy="5526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8" name=""/>
            <p:cNvCxnSpPr/>
            <p:nvPr/>
          </p:nvCxnSpPr>
          <p:spPr>
            <a:xfrm flipV="1">
              <a:off x="2451240" y="3331800"/>
              <a:ext cx="534240" cy="352800"/>
            </a:xfrm>
            <a:prstGeom prst="bentConnector3">
              <a:avLst>
                <a:gd name="adj1" fmla="val 499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79" name=""/>
            <p:cNvGrpSpPr/>
            <p:nvPr/>
          </p:nvGrpSpPr>
          <p:grpSpPr>
            <a:xfrm>
              <a:off x="5410440" y="3315960"/>
              <a:ext cx="2408040" cy="555480"/>
              <a:chOff x="5410440" y="3315960"/>
              <a:chExt cx="2408040" cy="555480"/>
            </a:xfrm>
          </p:grpSpPr>
          <p:sp>
            <p:nvSpPr>
              <p:cNvPr id="580" name=""/>
              <p:cNvSpPr/>
              <p:nvPr/>
            </p:nvSpPr>
            <p:spPr>
              <a:xfrm>
                <a:off x="5410440" y="3315960"/>
                <a:ext cx="2408040" cy="555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427720" y="3333240"/>
                <a:ext cx="2374920" cy="1616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0" tIns="18000" bIns="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76280"/>
                    <a:tab algn="l" pos="1333440"/>
                    <a:tab algn="l" pos="20955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ff"/>
                    </a:solidFill>
                    <a:latin typeface="Arial"/>
                  </a:rPr>
                  <a:t>H109</a:t>
                </a: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DUPUIS</a:t>
                </a: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Lausanne</a:t>
                </a: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C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427720" y="3514320"/>
                <a:ext cx="2374920" cy="1612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0" tIns="18000" bIns="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76280"/>
                    <a:tab algn="l" pos="1333440"/>
                    <a:tab algn="l" pos="20955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H736</a:t>
                </a: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ARNOULD</a:t>
                </a: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Paris</a:t>
                </a: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B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842080" y="3322080"/>
                <a:ext cx="0" cy="5392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712200" y="3322080"/>
                <a:ext cx="0" cy="5392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473960" y="3322080"/>
                <a:ext cx="0" cy="5392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6" name=""/>
          <p:cNvSpPr/>
          <p:nvPr/>
        </p:nvSpPr>
        <p:spPr>
          <a:xfrm>
            <a:off x="1818720" y="4595760"/>
            <a:ext cx="8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iveau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894760" y="4595760"/>
            <a:ext cx="8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iveau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028400" y="4595760"/>
            <a:ext cx="8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iveau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988600" y="4595760"/>
            <a:ext cx="126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age de 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306960" y="1616040"/>
            <a:ext cx="301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ccès par clé (K = 'H109'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71680" y="355608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K = 'H109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523880" y="3619440"/>
            <a:ext cx="314280" cy="152640"/>
          </a:xfrm>
          <a:prstGeom prst="rightArrow">
            <a:avLst>
              <a:gd name="adj1" fmla="val 31250"/>
              <a:gd name="adj2" fmla="val 5095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748160" y="236700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H109 </a:t>
            </a:r>
            <a:r>
              <a:rPr b="1" lang="fr-FR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P6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831040" y="2367000"/>
            <a:ext cx="95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H109 </a:t>
            </a:r>
            <a:r>
              <a:rPr b="1" lang="fr-FR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H9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964320" y="2367000"/>
            <a:ext cx="95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H109 </a:t>
            </a:r>
            <a:r>
              <a:rPr b="1" lang="fr-FR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H73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575680" y="2367000"/>
            <a:ext cx="2072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H109 se trouve dans cette p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ou nulle part ailleu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7" name=""/>
          <p:cNvCxnSpPr>
            <a:stCxn id="593" idx="2"/>
            <a:endCxn id="573" idx="0"/>
          </p:cNvCxnSpPr>
          <p:nvPr/>
        </p:nvCxnSpPr>
        <p:spPr>
          <a:xfrm>
            <a:off x="2222640" y="2611440"/>
            <a:ext cx="216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"/>
          <p:cNvCxnSpPr>
            <a:stCxn id="594" idx="2"/>
            <a:endCxn id="567" idx="0"/>
          </p:cNvCxnSpPr>
          <p:nvPr/>
        </p:nvCxnSpPr>
        <p:spPr>
          <a:xfrm>
            <a:off x="3308040" y="2611080"/>
            <a:ext cx="1080" cy="64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"/>
          <p:cNvCxnSpPr>
            <a:stCxn id="595" idx="2"/>
            <a:endCxn id="560" idx="0"/>
          </p:cNvCxnSpPr>
          <p:nvPr/>
        </p:nvCxnSpPr>
        <p:spPr>
          <a:xfrm>
            <a:off x="4441320" y="2611440"/>
            <a:ext cx="1080" cy="26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0" name=""/>
          <p:cNvCxnSpPr>
            <a:stCxn id="596" idx="2"/>
            <a:endCxn id="581" idx="0"/>
          </p:cNvCxnSpPr>
          <p:nvPr/>
        </p:nvCxnSpPr>
        <p:spPr>
          <a:xfrm>
            <a:off x="6611400" y="2763360"/>
            <a:ext cx="3960" cy="57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1" name=""/>
          <p:cNvSpPr/>
          <p:nvPr/>
        </p:nvSpPr>
        <p:spPr>
          <a:xfrm>
            <a:off x="1733400" y="5291280"/>
            <a:ext cx="6088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33440" indent="-1333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Observation 1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a recherche par clé nécessite la lecture de </a:t>
            </a:r>
            <a:r>
              <a:rPr b="0" lang="fr-FR" sz="1400" spc="-1" strike="noStrike">
                <a:solidFill>
                  <a:srgbClr val="0000ff"/>
                </a:solidFill>
                <a:latin typeface="Arial"/>
              </a:rPr>
              <a:t>n+1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pages, quel que soit l'enregistrem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733400" y="5805360"/>
            <a:ext cx="630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33440" indent="-1333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Observation 2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i la recherche échoue, tout n'est pas perdu : elle indique la page dans laquelle l'enregistrement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aurait dû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se trouver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Accès par cl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306960" y="1616040"/>
            <a:ext cx="24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ccès par clé (K = k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1891080" y="2274840"/>
            <a:ext cx="5501880" cy="3087720"/>
            <a:chOff x="1891080" y="2274840"/>
            <a:chExt cx="5501880" cy="3087720"/>
          </a:xfrm>
        </p:grpSpPr>
        <p:sp>
          <p:nvSpPr>
            <p:cNvPr id="611" name=""/>
            <p:cNvSpPr/>
            <p:nvPr/>
          </p:nvSpPr>
          <p:spPr>
            <a:xfrm rot="5400000">
              <a:off x="2963880" y="2247840"/>
              <a:ext cx="130320" cy="184320"/>
            </a:xfrm>
            <a:prstGeom prst="flowChartDelay">
              <a:avLst/>
            </a:prstGeom>
            <a:solidFill>
              <a:srgbClr val="96969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309760" y="3095640"/>
              <a:ext cx="14400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i := 1;   p := p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3" name=""/>
            <p:cNvCxnSpPr>
              <a:stCxn id="611" idx="3"/>
              <a:endCxn id="614" idx="0"/>
            </p:cNvCxnSpPr>
            <p:nvPr/>
          </p:nvCxnSpPr>
          <p:spPr>
            <a:xfrm>
              <a:off x="3026880" y="2403000"/>
              <a:ext cx="3960" cy="196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5" name=""/>
            <p:cNvSpPr/>
            <p:nvPr/>
          </p:nvSpPr>
          <p:spPr>
            <a:xfrm>
              <a:off x="2309760" y="5048280"/>
              <a:ext cx="144000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i := i + 1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309760" y="3595680"/>
              <a:ext cx="1440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I := 1re entrée de la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page [p] tel que I.K </a:t>
              </a:r>
              <a:r>
                <a:rPr b="1" lang="fr-FR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 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057640" y="3473280"/>
              <a:ext cx="1619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:= 1er enreg. de la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page [p] tel que R.K </a:t>
              </a:r>
              <a:r>
                <a:rPr b="1" lang="fr-FR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 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467080" y="4541760"/>
              <a:ext cx="1125360" cy="252360"/>
            </a:xfrm>
            <a:prstGeom prst="hexagon">
              <a:avLst>
                <a:gd name="adj" fmla="val 51220"/>
                <a:gd name="vf" fmla="val 11547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i = n ?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16200000">
              <a:off x="5806800" y="5205240"/>
              <a:ext cx="130320" cy="183960"/>
            </a:xfrm>
            <a:prstGeom prst="flowChartDelay">
              <a:avLst/>
            </a:prstGeom>
            <a:solidFill>
              <a:srgbClr val="96969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0" name=""/>
            <p:cNvCxnSpPr>
              <a:stCxn id="612" idx="2"/>
              <a:endCxn id="616" idx="0"/>
            </p:cNvCxnSpPr>
            <p:nvPr/>
          </p:nvCxnSpPr>
          <p:spPr>
            <a:xfrm>
              <a:off x="3030120" y="326016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1" name=""/>
            <p:cNvCxnSpPr>
              <a:stCxn id="616" idx="2"/>
              <a:endCxn id="622" idx="0"/>
            </p:cNvCxnSpPr>
            <p:nvPr/>
          </p:nvCxnSpPr>
          <p:spPr>
            <a:xfrm>
              <a:off x="3030120" y="3928680"/>
              <a:ext cx="108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3" name=""/>
            <p:cNvCxnSpPr>
              <a:stCxn id="618" idx="2"/>
              <a:endCxn id="615" idx="0"/>
            </p:cNvCxnSpPr>
            <p:nvPr/>
          </p:nvCxnSpPr>
          <p:spPr>
            <a:xfrm>
              <a:off x="3030120" y="4794120"/>
              <a:ext cx="1080" cy="25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615" idx="2"/>
              <a:endCxn id="616" idx="0"/>
            </p:cNvCxnSpPr>
            <p:nvPr/>
          </p:nvCxnSpPr>
          <p:spPr>
            <a:xfrm flipH="1" flipV="1" rot="5400000">
              <a:off x="2211840" y="4412520"/>
              <a:ext cx="1637280" cy="2520"/>
            </a:xfrm>
            <a:prstGeom prst="bentConnector5">
              <a:avLst>
                <a:gd name="adj1" fmla="val -6883"/>
                <a:gd name="adj2" fmla="val -52700000"/>
                <a:gd name="adj3" fmla="val 11396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617" idx="2"/>
              <a:endCxn id="626" idx="0"/>
            </p:cNvCxnSpPr>
            <p:nvPr/>
          </p:nvCxnSpPr>
          <p:spPr>
            <a:xfrm>
              <a:off x="5866920" y="3801600"/>
              <a:ext cx="2520" cy="235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27" name=""/>
            <p:cNvSpPr/>
            <p:nvPr/>
          </p:nvSpPr>
          <p:spPr>
            <a:xfrm>
              <a:off x="6527880" y="3973320"/>
              <a:ext cx="16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ou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107520" y="47829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n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012640" y="39733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n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618000" y="4516200"/>
              <a:ext cx="16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ou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305320" y="4037040"/>
              <a:ext cx="1125720" cy="252360"/>
            </a:xfrm>
            <a:prstGeom prst="hexagon">
              <a:avLst>
                <a:gd name="adj" fmla="val 51237"/>
                <a:gd name="vf" fmla="val 11547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.K = k ?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152960" y="4454280"/>
              <a:ext cx="1741320" cy="4143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l'enregistrement recherché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est absent du fichi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981760" y="4454280"/>
              <a:ext cx="1411200" cy="4143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R est l'enregistr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recherché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3" name=""/>
            <p:cNvCxnSpPr>
              <a:stCxn id="626" idx="1"/>
              <a:endCxn id="631" idx="0"/>
            </p:cNvCxnSpPr>
            <p:nvPr/>
          </p:nvCxnSpPr>
          <p:spPr>
            <a:xfrm flipV="1" rot="10800000">
              <a:off x="5023800" y="4162680"/>
              <a:ext cx="281520" cy="291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4" name=""/>
            <p:cNvCxnSpPr>
              <a:stCxn id="626" idx="3"/>
              <a:endCxn id="632" idx="0"/>
            </p:cNvCxnSpPr>
            <p:nvPr/>
          </p:nvCxnSpPr>
          <p:spPr>
            <a:xfrm>
              <a:off x="6431040" y="4163400"/>
              <a:ext cx="257760" cy="291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5" name=""/>
            <p:cNvCxnSpPr>
              <a:stCxn id="631" idx="2"/>
              <a:endCxn id="619" idx="3"/>
            </p:cNvCxnSpPr>
            <p:nvPr/>
          </p:nvCxnSpPr>
          <p:spPr>
            <a:xfrm flipH="1" rot="16200000">
              <a:off x="5265720" y="4627080"/>
              <a:ext cx="364320" cy="846720"/>
            </a:xfrm>
            <a:prstGeom prst="bentConnector3">
              <a:avLst>
                <a:gd name="adj1" fmla="val 4975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6" name=""/>
            <p:cNvCxnSpPr>
              <a:stCxn id="632" idx="2"/>
              <a:endCxn id="619" idx="3"/>
            </p:cNvCxnSpPr>
            <p:nvPr/>
          </p:nvCxnSpPr>
          <p:spPr>
            <a:xfrm rot="5400000">
              <a:off x="6096600" y="4641480"/>
              <a:ext cx="364320" cy="818280"/>
            </a:xfrm>
            <a:prstGeom prst="bentConnector3">
              <a:avLst>
                <a:gd name="adj1" fmla="val 4975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22" name=""/>
            <p:cNvSpPr/>
            <p:nvPr/>
          </p:nvSpPr>
          <p:spPr>
            <a:xfrm>
              <a:off x="2309760" y="4143240"/>
              <a:ext cx="14400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p := I.pt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22" idx="2"/>
              <a:endCxn id="618" idx="0"/>
            </p:cNvCxnSpPr>
            <p:nvPr/>
          </p:nvCxnSpPr>
          <p:spPr>
            <a:xfrm>
              <a:off x="3030120" y="4312800"/>
              <a:ext cx="10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2467080" y="2598840"/>
              <a:ext cx="1125360" cy="252360"/>
            </a:xfrm>
            <a:prstGeom prst="hexagon">
              <a:avLst>
                <a:gd name="adj" fmla="val 51220"/>
                <a:gd name="vf" fmla="val 11547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k  </a:t>
              </a:r>
              <a:r>
                <a:rPr b="1" lang="fr-FR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 Kmax ?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8" name=""/>
            <p:cNvCxnSpPr>
              <a:stCxn id="614" idx="2"/>
              <a:endCxn id="612" idx="0"/>
            </p:cNvCxnSpPr>
            <p:nvPr/>
          </p:nvCxnSpPr>
          <p:spPr>
            <a:xfrm>
              <a:off x="3030120" y="2850840"/>
              <a:ext cx="1080" cy="24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39" name=""/>
            <p:cNvSpPr/>
            <p:nvPr/>
          </p:nvSpPr>
          <p:spPr>
            <a:xfrm>
              <a:off x="3603600" y="2573280"/>
              <a:ext cx="16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ou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0" name=""/>
            <p:cNvCxnSpPr>
              <a:stCxn id="614" idx="3"/>
            </p:cNvCxnSpPr>
            <p:nvPr/>
          </p:nvCxnSpPr>
          <p:spPr>
            <a:xfrm>
              <a:off x="3592080" y="2725560"/>
              <a:ext cx="1188360" cy="1728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1" name=""/>
            <p:cNvSpPr/>
            <p:nvPr/>
          </p:nvSpPr>
          <p:spPr>
            <a:xfrm>
              <a:off x="3093480" y="28353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n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643640" y="3200400"/>
              <a:ext cx="26496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3" name=""/>
            <p:cNvCxnSpPr>
              <a:stCxn id="618" idx="3"/>
              <a:endCxn id="617" idx="0"/>
            </p:cNvCxnSpPr>
            <p:nvPr/>
          </p:nvCxnSpPr>
          <p:spPr>
            <a:xfrm flipV="1">
              <a:off x="3592080" y="3472560"/>
              <a:ext cx="2275200" cy="1196280"/>
            </a:xfrm>
            <a:prstGeom prst="bentConnector4">
              <a:avLst>
                <a:gd name="adj1" fmla="val 14780"/>
                <a:gd name="adj2" fmla="val 11911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44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Modes d'accè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1743120" y="2443320"/>
            <a:ext cx="1352160" cy="2062080"/>
            <a:chOff x="1743120" y="2443320"/>
            <a:chExt cx="1352160" cy="2062080"/>
          </a:xfrm>
        </p:grpSpPr>
        <p:sp>
          <p:nvSpPr>
            <p:cNvPr id="651" name=""/>
            <p:cNvSpPr/>
            <p:nvPr/>
          </p:nvSpPr>
          <p:spPr>
            <a:xfrm rot="16200000">
              <a:off x="1696680" y="3232080"/>
              <a:ext cx="685800" cy="495000"/>
            </a:xfrm>
            <a:prstGeom prst="triangle">
              <a:avLst>
                <a:gd name="adj" fmla="val 50227"/>
              </a:avLst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466720" y="2443320"/>
              <a:ext cx="628560" cy="2062080"/>
            </a:xfrm>
            <a:prstGeom prst="rect">
              <a:avLst/>
            </a:prstGeom>
            <a:solidFill>
              <a:srgbClr val="f8f8f8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490480" y="2471760"/>
              <a:ext cx="58068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490480" y="2546280"/>
              <a:ext cx="580680" cy="7488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490480" y="2621160"/>
              <a:ext cx="58068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490480" y="2695680"/>
              <a:ext cx="58068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90480" y="2770200"/>
              <a:ext cx="58068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490480" y="2844720"/>
              <a:ext cx="580680" cy="7488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490480" y="2919600"/>
              <a:ext cx="58068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490480" y="2994120"/>
              <a:ext cx="58068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490480" y="3068640"/>
              <a:ext cx="58068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490480" y="3141720"/>
              <a:ext cx="58068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490480" y="3216240"/>
              <a:ext cx="58068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490480" y="3290760"/>
              <a:ext cx="580680" cy="7488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490480" y="3365640"/>
              <a:ext cx="580680" cy="7452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490480" y="3440160"/>
              <a:ext cx="58068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490480" y="3514680"/>
              <a:ext cx="580680" cy="7488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490480" y="3589560"/>
              <a:ext cx="58068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490480" y="3664080"/>
              <a:ext cx="58068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490480" y="3738600"/>
              <a:ext cx="58068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490480" y="3811680"/>
              <a:ext cx="58068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490480" y="3886200"/>
              <a:ext cx="58068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490480" y="3960720"/>
              <a:ext cx="580680" cy="7488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490480" y="4035600"/>
              <a:ext cx="58068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490480" y="4110120"/>
              <a:ext cx="58068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490480" y="4184640"/>
              <a:ext cx="58068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490480" y="4259160"/>
              <a:ext cx="580680" cy="7488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490480" y="4334040"/>
              <a:ext cx="58068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490480" y="4407120"/>
              <a:ext cx="58068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743120" y="3403800"/>
              <a:ext cx="747360" cy="75960"/>
            </a:xfrm>
            <a:custGeom>
              <a:avLst/>
              <a:gdLst/>
              <a:ahLst/>
              <a:rect l="l" t="t" r="r" b="b"/>
              <a:pathLst>
                <a:path w="471" h="48">
                  <a:moveTo>
                    <a:pt x="0" y="48"/>
                  </a:moveTo>
                  <a:lnTo>
                    <a:pt x="390" y="48"/>
                  </a:lnTo>
                  <a:lnTo>
                    <a:pt x="390" y="0"/>
                  </a:lnTo>
                  <a:lnTo>
                    <a:pt x="47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3919680" y="2443320"/>
            <a:ext cx="1357200" cy="2062080"/>
            <a:chOff x="3919680" y="2443320"/>
            <a:chExt cx="1357200" cy="2062080"/>
          </a:xfrm>
        </p:grpSpPr>
        <p:sp>
          <p:nvSpPr>
            <p:cNvPr id="682" name=""/>
            <p:cNvSpPr/>
            <p:nvPr/>
          </p:nvSpPr>
          <p:spPr>
            <a:xfrm rot="16200000">
              <a:off x="3878280" y="3231720"/>
              <a:ext cx="685800" cy="495360"/>
            </a:xfrm>
            <a:prstGeom prst="triangle">
              <a:avLst>
                <a:gd name="adj" fmla="val 50227"/>
              </a:avLst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648320" y="2443320"/>
              <a:ext cx="628560" cy="2062080"/>
            </a:xfrm>
            <a:prstGeom prst="rect">
              <a:avLst/>
            </a:prstGeom>
            <a:solidFill>
              <a:srgbClr val="f8f8f8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672080" y="2471760"/>
              <a:ext cx="58104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672080" y="2546280"/>
              <a:ext cx="581040" cy="7488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672080" y="2621160"/>
              <a:ext cx="58104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672080" y="2695680"/>
              <a:ext cx="58104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672080" y="2770200"/>
              <a:ext cx="58104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672080" y="2844720"/>
              <a:ext cx="581040" cy="7488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672080" y="2919600"/>
              <a:ext cx="58104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672080" y="2994120"/>
              <a:ext cx="58104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672080" y="3068640"/>
              <a:ext cx="58104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672080" y="3141720"/>
              <a:ext cx="581040" cy="7452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672080" y="3216240"/>
              <a:ext cx="581040" cy="7452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672080" y="3290760"/>
              <a:ext cx="581040" cy="7488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672080" y="3365640"/>
              <a:ext cx="581040" cy="7452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672080" y="3440160"/>
              <a:ext cx="58104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672080" y="3514680"/>
              <a:ext cx="581040" cy="7488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672080" y="3589560"/>
              <a:ext cx="58104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672080" y="3664080"/>
              <a:ext cx="58104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672080" y="3738600"/>
              <a:ext cx="58104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672080" y="3811680"/>
              <a:ext cx="58104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672080" y="3886200"/>
              <a:ext cx="58104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672080" y="3960720"/>
              <a:ext cx="581040" cy="7488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672080" y="4035600"/>
              <a:ext cx="58104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672080" y="4110120"/>
              <a:ext cx="58104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672080" y="4184640"/>
              <a:ext cx="58104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672080" y="4259160"/>
              <a:ext cx="581040" cy="7488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672080" y="4334040"/>
              <a:ext cx="58104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672080" y="4407120"/>
              <a:ext cx="581040" cy="7452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919680" y="3170160"/>
              <a:ext cx="1038240" cy="309600"/>
            </a:xfrm>
            <a:custGeom>
              <a:avLst/>
              <a:gdLst/>
              <a:ahLst/>
              <a:rect l="l" t="t" r="r" b="b"/>
              <a:pathLst>
                <a:path w="654" h="234">
                  <a:moveTo>
                    <a:pt x="0" y="234"/>
                  </a:moveTo>
                  <a:lnTo>
                    <a:pt x="408" y="234"/>
                  </a:lnTo>
                  <a:lnTo>
                    <a:pt x="408" y="0"/>
                  </a:lnTo>
                  <a:lnTo>
                    <a:pt x="654" y="0"/>
                  </a:lnTo>
                  <a:lnTo>
                    <a:pt x="654" y="2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6167520" y="2443320"/>
            <a:ext cx="1303200" cy="2062080"/>
            <a:chOff x="6167520" y="2443320"/>
            <a:chExt cx="1303200" cy="2062080"/>
          </a:xfrm>
        </p:grpSpPr>
        <p:sp>
          <p:nvSpPr>
            <p:cNvPr id="713" name=""/>
            <p:cNvSpPr/>
            <p:nvPr/>
          </p:nvSpPr>
          <p:spPr>
            <a:xfrm rot="16200000">
              <a:off x="6072120" y="3231720"/>
              <a:ext cx="685800" cy="495360"/>
            </a:xfrm>
            <a:prstGeom prst="triangle">
              <a:avLst>
                <a:gd name="adj" fmla="val 50227"/>
              </a:avLst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842160" y="2443320"/>
              <a:ext cx="628560" cy="2062080"/>
            </a:xfrm>
            <a:prstGeom prst="rect">
              <a:avLst/>
            </a:prstGeom>
            <a:solidFill>
              <a:srgbClr val="f8f8f8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865920" y="2471760"/>
              <a:ext cx="581040" cy="7452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865920" y="2546280"/>
              <a:ext cx="581040" cy="7488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865920" y="2621160"/>
              <a:ext cx="581040" cy="7452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865920" y="2695680"/>
              <a:ext cx="581040" cy="7452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865920" y="2770200"/>
              <a:ext cx="581040" cy="7452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865920" y="2844720"/>
              <a:ext cx="581040" cy="7488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865920" y="2919600"/>
              <a:ext cx="581040" cy="7452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865920" y="2994120"/>
              <a:ext cx="581040" cy="7452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865920" y="3068640"/>
              <a:ext cx="581040" cy="7452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865920" y="3141720"/>
              <a:ext cx="581040" cy="7452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865920" y="3216240"/>
              <a:ext cx="581040" cy="7452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865920" y="3290760"/>
              <a:ext cx="581040" cy="7488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865920" y="3365640"/>
              <a:ext cx="581040" cy="7452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865920" y="3440160"/>
              <a:ext cx="581040" cy="7452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865920" y="3514680"/>
              <a:ext cx="581040" cy="7488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865920" y="3589560"/>
              <a:ext cx="581040" cy="7452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865920" y="3664080"/>
              <a:ext cx="581040" cy="7452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865920" y="3738600"/>
              <a:ext cx="581040" cy="7452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865920" y="3811680"/>
              <a:ext cx="581040" cy="7452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865920" y="3886200"/>
              <a:ext cx="581040" cy="7452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865920" y="3960720"/>
              <a:ext cx="581040" cy="7488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865920" y="4035600"/>
              <a:ext cx="581040" cy="7452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865920" y="4110120"/>
              <a:ext cx="581040" cy="7452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865920" y="4184640"/>
              <a:ext cx="581040" cy="7452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865920" y="4259160"/>
              <a:ext cx="581040" cy="7488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865920" y="4334040"/>
              <a:ext cx="581040" cy="7452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865920" y="4407120"/>
              <a:ext cx="581040" cy="7452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676920" y="2498760"/>
              <a:ext cx="495360" cy="1981080"/>
            </a:xfrm>
            <a:custGeom>
              <a:avLst/>
              <a:gdLst/>
              <a:ahLst/>
              <a:rect l="l" t="t" r="r" b="b"/>
              <a:pathLst>
                <a:path w="144" h="1332">
                  <a:moveTo>
                    <a:pt x="0" y="0"/>
                  </a:moveTo>
                  <a:lnTo>
                    <a:pt x="144" y="0"/>
                  </a:lnTo>
                  <a:lnTo>
                    <a:pt x="144" y="133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2184120" y="1606680"/>
            <a:ext cx="51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s trois modes d'accès aux enregistrem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638360" y="5154480"/>
            <a:ext cx="1727280" cy="719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</a:rPr>
              <a:t>select *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</a:rPr>
              <a:t>from 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</a:rPr>
              <a:t>where NCLI = 'C400'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800520" y="5154480"/>
            <a:ext cx="1727280" cy="719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</a:rPr>
              <a:t>select *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</a:rPr>
              <a:t>from 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</a:rPr>
              <a:t>where NCLI like 'C%'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010200" y="5154480"/>
            <a:ext cx="1727280" cy="719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</a:rPr>
              <a:t>select *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</a:rPr>
              <a:t>from 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</a:rPr>
              <a:t>order by NCL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638360" y="4734000"/>
            <a:ext cx="1727280" cy="304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onctuel selon 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800520" y="4734000"/>
            <a:ext cx="1727280" cy="304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tervalle selon 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010200" y="4734000"/>
            <a:ext cx="1727280" cy="304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équentiel selon 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Modif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685960" y="1606680"/>
            <a:ext cx="423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sertion d'un enregistrement (K = k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095480" y="2168640"/>
            <a:ext cx="7692840" cy="2484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océdu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recherche la page [p] dans laquelle l'enregistrement devrait être stocké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i la page [p] n'est pas pleine, on y insère l'enregistre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i la page [p] est pleine, on procède à son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éclatement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: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insère devant [p] une page vide [p'] (logiquement, pas physiqueme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répartit la charge de [p] entre les pages [p'] et [p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insère l'enregistrement dans l'une de ces deux pag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insère une entrée relative à la page [p'] dans le niveau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de l'ind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000080" y="5033880"/>
            <a:ext cx="7631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taux d'occupation de chaque page reste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0,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s pages logiquement consécutives ne le sont plus nécessairement physiqu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'insertion d'une entrée d'index obéit à la même procéd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0720" y="1544760"/>
            <a:ext cx="82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4. IMPLEMENTATION DES STRUCTURES DE DONN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60320" y="2338560"/>
            <a:ext cx="7917120" cy="3792240"/>
            <a:chOff x="760320" y="2338560"/>
            <a:chExt cx="7917120" cy="3792240"/>
          </a:xfrm>
        </p:grpSpPr>
        <p:sp>
          <p:nvSpPr>
            <p:cNvPr id="53" name=""/>
            <p:cNvSpPr/>
            <p:nvPr/>
          </p:nvSpPr>
          <p:spPr>
            <a:xfrm>
              <a:off x="760320" y="2338560"/>
              <a:ext cx="7917120" cy="3792240"/>
            </a:xfrm>
            <a:prstGeom prst="roundRect">
              <a:avLst>
                <a:gd name="adj" fmla="val 1296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d9d9f4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60320" y="2567160"/>
              <a:ext cx="7917120" cy="3504960"/>
            </a:xfrm>
            <a:prstGeom prst="rect">
              <a:avLst/>
            </a:prstGeom>
            <a:solidFill>
              <a:srgbClr val="d7d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190440" indent="-190440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808080"/>
                  </a:solidFill>
                  <a:latin typeface="Arial"/>
                </a:rPr>
                <a:t>4.1  Introdu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808080"/>
                  </a:solidFill>
                  <a:latin typeface="Arial"/>
                </a:rPr>
                <a:t>4.2  Les mémoires exter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808080"/>
                  </a:solidFill>
                  <a:latin typeface="Arial"/>
                </a:rPr>
                <a:t>4.3  Organisation d'un espace de stock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808080"/>
                  </a:solidFill>
                  <a:latin typeface="Arial"/>
                </a:rPr>
                <a:t>4.4  Traitement séquentiel d'un fichi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4.5  Les inde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4.6  Organisation séquentielle indexé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4.7  Organisation calculé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4.8  Les index secondai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4.9  Les techniques d'agrégation (</a:t>
              </a:r>
              <a:r>
                <a:rPr b="1" i="1" lang="fr-FR" sz="1600" spc="-1" strike="noStrike">
                  <a:solidFill>
                    <a:srgbClr val="000000"/>
                  </a:solidFill>
                  <a:latin typeface="Arial"/>
                </a:rPr>
                <a:t>clustering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4.10 Un exemple : SQL Server de Microsof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65160" y="2370240"/>
              <a:ext cx="621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ffffff"/>
                  </a:solidFill>
                  <a:latin typeface="Arial"/>
                </a:rPr>
                <a:t>Conten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Modif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685960" y="1606680"/>
            <a:ext cx="38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uppression d'un enregistre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095480" y="2168640"/>
            <a:ext cx="7731000" cy="3114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océdu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recherche la page [p] de l'enregistremen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efface l'enregistrement de la page [p]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i le taux d'occupation de la page [p] est &lt; 0,5 :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80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ééquilibr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le contenu de [p] avec celui de la page précédente [p'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80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i le taux d'occupation des 2 pages est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0,5, on corrige l'entrée de niveau n relative à la 1re 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80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i le taux d'occupation d'une des deux pages est &lt; 0,5, on les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usion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619280" indent="-5716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3.1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transfère le contenu de la page [p'] vers [p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619280" indent="-5716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3.2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abandonne la page [p'], qui devient li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619280" indent="-5716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3.3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supprime l'entrée de [p'] dans le niveau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de l'ind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000080" y="5291280"/>
            <a:ext cx="7631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taux d'occupation de chaque page reste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0,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produit des pages vides réutilisables lors de l'insertion d'enregist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suppression d'une entrée d'index obéit à la même procéd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Modif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609920" y="1603440"/>
            <a:ext cx="67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odification de la valeur de K (k1 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k2) d'un enregistre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095480" y="2168640"/>
            <a:ext cx="7378560" cy="900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océdu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supprime l'enregistrement K = k1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crée un enregistrement K = k2 de même conten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095480" y="3330720"/>
            <a:ext cx="7378560" cy="337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odification d'un champ extérieur à K : simple remplacement dans la page.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019240" y="2473200"/>
            <a:ext cx="4133880" cy="16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.  Calcul des volu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.  Calcul des temps de l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  Calcul des temps de mod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4.  Estimation des ta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347560" y="1628640"/>
            <a:ext cx="42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ractéristiques et perform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volum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684880" y="1606680"/>
            <a:ext cx="434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Volume d'un fichier séquentiel index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71440" y="2187720"/>
            <a:ext cx="7093080" cy="1915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Les donné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1. Nombre d'enregistrements : 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2. Taille des enregistrements : 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3. Taille de la clé K : 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4. Taille d'une entrée d'index (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+ taille pointeur de page) : 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5. Taux moyen d'occupation des pages de base :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6. Taux moyen d'occupation des pages d'index :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171440" y="4349880"/>
            <a:ext cx="7093080" cy="1894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Les grandeurs calculé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1. Taille du fichier (en pages) : 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2. Taille du fichier de base : 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3. Taille de l'index : 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4. Nombre de niveaux d'index :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5. Nombre d'entrée d'index au niveau m : 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6. Nombre de pages d'index au niveau m : 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volum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684880" y="1606680"/>
            <a:ext cx="434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Volume d'un fichier séquentiel index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171440" y="2187720"/>
            <a:ext cx="70930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a bien sûr :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= 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b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171440" y="3044880"/>
            <a:ext cx="709308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ichier de bas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: calcul d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apacité d'une page de bas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pp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/ 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tenu moyen d'une page de bas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pp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x M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ombre de pages de base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b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/ 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pp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496200" y="4305240"/>
            <a:ext cx="1724040" cy="4190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00"/>
                </a:solidFill>
                <a:latin typeface="Arial"/>
              </a:rPr>
              <a:t>pages vides ignoré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volum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684880" y="1606680"/>
            <a:ext cx="434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Volume d'un fichier séquentiel index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171440" y="2244600"/>
            <a:ext cx="7093080" cy="35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calcul détaillé d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n a :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 = 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Arial"/>
              </a:rPr>
              <a:t> n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apacité d'une page d'index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pp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/ 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tenu moyen d'une page de bas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pp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 x M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aille du niveau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ombre d'entrée de l'index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 = 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ombre de pages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 / 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pp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aille d'un niveau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&lt;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ombre d'entrée de l'index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 = 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+1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ombre de pages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 / 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pp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atteint le niveau m = 1 lorsqu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en déduit le nombre de niveaux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volum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684880" y="1606680"/>
            <a:ext cx="434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Volume d'un fichier séquentiel index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171440" y="2244600"/>
            <a:ext cx="7093080" cy="21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calculs simplifi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valuation d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(base quelconque)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 = 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og(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b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 / log(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pp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valuation d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n général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 &gt;&gt;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Arial"/>
              </a:rPr>
              <a:t>m &lt; n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onc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 = 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b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/ 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pp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volum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684880" y="1606680"/>
            <a:ext cx="434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Volume d'un fichier séquentiel index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181160" y="2492280"/>
            <a:ext cx="7074000" cy="1665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500" spc="-1" strike="noStrike">
                <a:solidFill>
                  <a:srgbClr val="000000"/>
                </a:solidFill>
                <a:latin typeface="Arial"/>
              </a:rPr>
              <a:t>Pour les concepteurs pressés et pas trop regardants 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n connait  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, 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, 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, 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, 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aille du fichier de base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b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 x 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/ 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aille de l'index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 = 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b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/ (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 x 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/ 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bre de niveaux d'index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 = 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og(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b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 / log(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 x 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/ 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010280" y="3753000"/>
            <a:ext cx="1876680" cy="4190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00"/>
                </a:solidFill>
                <a:latin typeface="Arial"/>
              </a:rPr>
              <a:t>Eviter de mémori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00"/>
                </a:solidFill>
                <a:latin typeface="Arial"/>
              </a:rPr>
              <a:t>ces formules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temps de lect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894680" y="1606680"/>
            <a:ext cx="53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mps de lecture d'un fichier séquentiel index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095480" y="2168640"/>
            <a:ext cx="7378560" cy="1181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rois opéra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cture séquentiel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cture par index d'un enregistr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cture par index des enregistrements d'un intervalle de 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095480" y="3606840"/>
            <a:ext cx="7378560" cy="900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Hypothèses réalis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isque partag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cture anticipée d'une p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temps de lect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894680" y="1606680"/>
            <a:ext cx="53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mps de lecture d'un fichier séquentiel index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095480" y="2168640"/>
            <a:ext cx="7378560" cy="337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. Lecture séquentielle selon 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095480" y="2682720"/>
            <a:ext cx="760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éliminaire : le phénomène des rup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2066760" y="3160800"/>
            <a:ext cx="5446440" cy="1112760"/>
            <a:chOff x="2066760" y="3160800"/>
            <a:chExt cx="5446440" cy="1112760"/>
          </a:xfrm>
        </p:grpSpPr>
        <p:sp>
          <p:nvSpPr>
            <p:cNvPr id="849" name=""/>
            <p:cNvSpPr/>
            <p:nvPr/>
          </p:nvSpPr>
          <p:spPr>
            <a:xfrm>
              <a:off x="2066760" y="3348000"/>
              <a:ext cx="5429160" cy="5810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930400" y="3557520"/>
              <a:ext cx="4982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5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. . 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552760" y="316080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176560" y="316080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453480" y="3160800"/>
              <a:ext cx="293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791880" y="3160800"/>
              <a:ext cx="34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163400" y="3160800"/>
              <a:ext cx="34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021440" y="3160800"/>
              <a:ext cx="49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9.99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675120" y="3160800"/>
              <a:ext cx="406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9.99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706800" y="3395520"/>
              <a:ext cx="351000" cy="503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091280" y="3395520"/>
              <a:ext cx="350640" cy="503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582880" y="3557520"/>
              <a:ext cx="4986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5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. . 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294240" y="3160800"/>
              <a:ext cx="406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9.99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2" name=""/>
            <p:cNvGrpSpPr/>
            <p:nvPr/>
          </p:nvGrpSpPr>
          <p:grpSpPr>
            <a:xfrm>
              <a:off x="2126880" y="3390840"/>
              <a:ext cx="350640" cy="503280"/>
              <a:chOff x="2126880" y="3390840"/>
              <a:chExt cx="350640" cy="503280"/>
            </a:xfrm>
          </p:grpSpPr>
          <p:sp>
            <p:nvSpPr>
              <p:cNvPr id="863" name=""/>
              <p:cNvSpPr/>
              <p:nvPr/>
            </p:nvSpPr>
            <p:spPr>
              <a:xfrm>
                <a:off x="2126880" y="3390840"/>
                <a:ext cx="350640" cy="50328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2136240" y="3538440"/>
                <a:ext cx="335160" cy="3463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5" name=""/>
            <p:cNvSpPr/>
            <p:nvPr/>
          </p:nvSpPr>
          <p:spPr>
            <a:xfrm>
              <a:off x="2503080" y="3390840"/>
              <a:ext cx="351000" cy="503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512800" y="3614760"/>
              <a:ext cx="334800" cy="270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422520" y="3390840"/>
              <a:ext cx="350640" cy="503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431880" y="3490920"/>
              <a:ext cx="335160" cy="393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ffffff"/>
                  </a:solidFill>
                  <a:latin typeface="Arial"/>
                </a:rPr>
                <a:t>9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800160" y="3390840"/>
              <a:ext cx="351000" cy="503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809880" y="3605040"/>
              <a:ext cx="334800" cy="279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179600" y="3390840"/>
              <a:ext cx="351000" cy="503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189320" y="3405240"/>
              <a:ext cx="334800" cy="479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ffffff"/>
                  </a:solidFill>
                  <a:latin typeface="Arial"/>
                </a:rPr>
                <a:t>1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60480" y="3390840"/>
              <a:ext cx="351000" cy="503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570200" y="3481560"/>
              <a:ext cx="334800" cy="4032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ffffff"/>
                  </a:solidFill>
                  <a:latin typeface="Arial"/>
                </a:rPr>
                <a:t>1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544280" y="3160800"/>
              <a:ext cx="34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937040" y="3390840"/>
              <a:ext cx="350640" cy="503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946400" y="3557520"/>
              <a:ext cx="334800" cy="327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ffffff"/>
                  </a:solidFill>
                  <a:latin typeface="Arial"/>
                </a:rPr>
                <a:t>10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934880" y="3160800"/>
              <a:ext cx="34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324480" y="3395520"/>
              <a:ext cx="350640" cy="503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0" name=""/>
            <p:cNvCxnSpPr/>
            <p:nvPr/>
          </p:nvCxnSpPr>
          <p:spPr>
            <a:xfrm flipH="1" rot="16200000">
              <a:off x="2486520" y="3701880"/>
              <a:ext cx="10080" cy="375480"/>
            </a:xfrm>
            <a:prstGeom prst="curvedConnector5">
              <a:avLst>
                <a:gd name="adj1" fmla="val 2500000"/>
                <a:gd name="adj2" fmla="val 50000"/>
                <a:gd name="adj3" fmla="val 2500000"/>
              </a:avLst>
            </a:prstGeom>
            <a:ln w="6480">
              <a:solidFill>
                <a:srgbClr val="000000"/>
              </a:solidFill>
              <a:miter/>
            </a:ln>
          </p:spPr>
        </p:cxnSp>
        <p:cxnSp>
          <p:nvCxnSpPr>
            <p:cNvPr id="881" name=""/>
            <p:cNvCxnSpPr>
              <a:stCxn id="868" idx="2"/>
              <a:endCxn id="870" idx="2"/>
            </p:cNvCxnSpPr>
            <p:nvPr/>
          </p:nvCxnSpPr>
          <p:spPr>
            <a:xfrm flipH="1" rot="16200000">
              <a:off x="3787560" y="3696480"/>
              <a:ext cx="2160" cy="3783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6480">
              <a:solidFill>
                <a:srgbClr val="000000"/>
              </a:solidFill>
              <a:miter/>
            </a:ln>
          </p:spPr>
        </p:cxnSp>
        <p:cxnSp>
          <p:nvCxnSpPr>
            <p:cNvPr id="882" name=""/>
            <p:cNvCxnSpPr/>
            <p:nvPr/>
          </p:nvCxnSpPr>
          <p:spPr>
            <a:xfrm flipH="1" rot="16200000">
              <a:off x="2868480" y="3701880"/>
              <a:ext cx="10080" cy="375120"/>
            </a:xfrm>
            <a:prstGeom prst="curvedConnector5">
              <a:avLst>
                <a:gd name="adj1" fmla="val 2500000"/>
                <a:gd name="adj2" fmla="val 49951"/>
                <a:gd name="adj3" fmla="val 2500000"/>
              </a:avLst>
            </a:prstGeom>
            <a:ln w="6480">
              <a:solidFill>
                <a:srgbClr val="000000"/>
              </a:solidFill>
              <a:miter/>
            </a:ln>
          </p:spPr>
        </p:cxnSp>
        <p:cxnSp>
          <p:nvCxnSpPr>
            <p:cNvPr id="883" name=""/>
            <p:cNvCxnSpPr/>
            <p:nvPr/>
          </p:nvCxnSpPr>
          <p:spPr>
            <a:xfrm flipH="1" rot="16200000">
              <a:off x="3405600" y="3701880"/>
              <a:ext cx="10080" cy="375480"/>
            </a:xfrm>
            <a:prstGeom prst="curvedConnector5">
              <a:avLst>
                <a:gd name="adj1" fmla="val 2500000"/>
                <a:gd name="adj2" fmla="val 50000"/>
                <a:gd name="adj3" fmla="val 2500000"/>
              </a:avLst>
            </a:prstGeom>
            <a:ln w="6480">
              <a:solidFill>
                <a:srgbClr val="000000"/>
              </a:solidFill>
              <a:miter/>
            </a:ln>
          </p:spPr>
        </p:cxnSp>
        <p:cxnSp>
          <p:nvCxnSpPr>
            <p:cNvPr id="884" name=""/>
            <p:cNvCxnSpPr/>
            <p:nvPr/>
          </p:nvCxnSpPr>
          <p:spPr>
            <a:xfrm flipH="1" rot="16200000">
              <a:off x="4174200" y="3696120"/>
              <a:ext cx="2160" cy="378720"/>
            </a:xfrm>
            <a:prstGeom prst="curvedConnector5">
              <a:avLst>
                <a:gd name="adj1" fmla="val 14400000"/>
                <a:gd name="adj2" fmla="val 49952"/>
                <a:gd name="adj3" fmla="val 14400000"/>
              </a:avLst>
            </a:prstGeom>
            <a:ln w="6480">
              <a:solidFill>
                <a:srgbClr val="000000"/>
              </a:solidFill>
              <a:miter/>
            </a:ln>
          </p:spPr>
        </p:cxnSp>
        <p:cxnSp>
          <p:nvCxnSpPr>
            <p:cNvPr id="885" name=""/>
            <p:cNvCxnSpPr/>
            <p:nvPr/>
          </p:nvCxnSpPr>
          <p:spPr>
            <a:xfrm flipH="1" rot="16200000">
              <a:off x="4559040" y="3696480"/>
              <a:ext cx="2160" cy="3783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6480">
              <a:solidFill>
                <a:srgbClr val="000000"/>
              </a:solidFill>
              <a:miter/>
            </a:ln>
          </p:spPr>
        </p:cxnSp>
        <p:cxnSp>
          <p:nvCxnSpPr>
            <p:cNvPr id="886" name=""/>
            <p:cNvCxnSpPr/>
            <p:nvPr/>
          </p:nvCxnSpPr>
          <p:spPr>
            <a:xfrm flipH="1" rot="16200000">
              <a:off x="4945680" y="3696120"/>
              <a:ext cx="2160" cy="378720"/>
            </a:xfrm>
            <a:prstGeom prst="curvedConnector5">
              <a:avLst>
                <a:gd name="adj1" fmla="val 14400000"/>
                <a:gd name="adj2" fmla="val 49952"/>
                <a:gd name="adj3" fmla="val 14400000"/>
              </a:avLst>
            </a:prstGeom>
            <a:ln w="6480">
              <a:solidFill>
                <a:srgbClr val="000000"/>
              </a:solidFill>
              <a:miter/>
            </a:ln>
          </p:spPr>
        </p:cxnSp>
        <p:cxnSp>
          <p:nvCxnSpPr>
            <p:cNvPr id="887" name=""/>
            <p:cNvCxnSpPr/>
            <p:nvPr/>
          </p:nvCxnSpPr>
          <p:spPr>
            <a:xfrm flipH="1" rot="16200000">
              <a:off x="5325840" y="3696480"/>
              <a:ext cx="2160" cy="3783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6480">
              <a:solidFill>
                <a:srgbClr val="000000"/>
              </a:solidFill>
              <a:miter/>
            </a:ln>
          </p:spPr>
        </p:cxnSp>
        <p:sp>
          <p:nvSpPr>
            <p:cNvPr id="888" name=""/>
            <p:cNvSpPr/>
            <p:nvPr/>
          </p:nvSpPr>
          <p:spPr>
            <a:xfrm>
              <a:off x="3628800" y="4102200"/>
              <a:ext cx="29988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0,18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028760" y="4102200"/>
              <a:ext cx="30024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0,18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410000" y="4102200"/>
              <a:ext cx="29988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0,18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795560" y="4102200"/>
              <a:ext cx="30024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0,18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452320" y="4118040"/>
              <a:ext cx="76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36800" y="411480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376440" y="411480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757320" y="4108320"/>
              <a:ext cx="76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147920" y="4105440"/>
              <a:ext cx="76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528800" y="4108320"/>
              <a:ext cx="76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912920" y="4108320"/>
              <a:ext cx="76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176440" y="4102200"/>
              <a:ext cx="30024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0,18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294160" y="410832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614520" y="3105000"/>
            <a:ext cx="13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n° physique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47640" y="3648240"/>
            <a:ext cx="13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n° séq. logique </a:t>
            </a:r>
            <a:r>
              <a:rPr b="0" i="1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1988640" y="4457880"/>
            <a:ext cx="5553000" cy="2034720"/>
            <a:chOff x="1988640" y="4457880"/>
            <a:chExt cx="5553000" cy="2034720"/>
          </a:xfrm>
        </p:grpSpPr>
        <p:sp>
          <p:nvSpPr>
            <p:cNvPr id="904" name=""/>
            <p:cNvSpPr/>
            <p:nvPr/>
          </p:nvSpPr>
          <p:spPr>
            <a:xfrm>
              <a:off x="1988640" y="4457880"/>
              <a:ext cx="555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000000"/>
                  </a:solidFill>
                  <a:latin typeface="Arial"/>
                </a:rPr>
                <a:t>éclatement de la page 101 en 101 (nouvelle) et 102 (ancienne 101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5" name=""/>
            <p:cNvGrpSpPr/>
            <p:nvPr/>
          </p:nvGrpSpPr>
          <p:grpSpPr>
            <a:xfrm>
              <a:off x="2066760" y="4870440"/>
              <a:ext cx="5446440" cy="1622160"/>
              <a:chOff x="2066760" y="4870440"/>
              <a:chExt cx="5446440" cy="1622160"/>
            </a:xfrm>
          </p:grpSpPr>
          <p:grpSp>
            <p:nvGrpSpPr>
              <p:cNvPr id="906" name=""/>
              <p:cNvGrpSpPr/>
              <p:nvPr/>
            </p:nvGrpSpPr>
            <p:grpSpPr>
              <a:xfrm>
                <a:off x="2066760" y="4870440"/>
                <a:ext cx="5446440" cy="768240"/>
                <a:chOff x="2066760" y="4870440"/>
                <a:chExt cx="5446440" cy="768240"/>
              </a:xfrm>
            </p:grpSpPr>
            <p:sp>
              <p:nvSpPr>
                <p:cNvPr id="907" name=""/>
                <p:cNvSpPr/>
                <p:nvPr/>
              </p:nvSpPr>
              <p:spPr>
                <a:xfrm>
                  <a:off x="2066760" y="5057640"/>
                  <a:ext cx="5429160" cy="581040"/>
                </a:xfrm>
                <a:prstGeom prst="rect">
                  <a:avLst/>
                </a:prstGeom>
                <a:solidFill>
                  <a:srgbClr val="f8f8f8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2930400" y="5267160"/>
                  <a:ext cx="498240" cy="21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pPr>
                    <a:lnSpc>
                      <a:spcPct val="5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Times New Roman"/>
                    </a:rPr>
                    <a:t>. . 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2552760" y="4870440"/>
                  <a:ext cx="237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2176560" y="4870440"/>
                  <a:ext cx="237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3453480" y="4870440"/>
                  <a:ext cx="2934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Arial"/>
                    </a:rPr>
                    <a:t>99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3791880" y="4870440"/>
                  <a:ext cx="349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Arial"/>
                    </a:rPr>
                    <a:t>10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4163400" y="4870440"/>
                  <a:ext cx="349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Arial"/>
                    </a:rPr>
                    <a:t>101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7021440" y="4870440"/>
                  <a:ext cx="4917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Arial"/>
                    </a:rPr>
                    <a:t>99.999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6675120" y="4870440"/>
                  <a:ext cx="4064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Arial"/>
                    </a:rPr>
                    <a:t>99.998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6706800" y="5105160"/>
                  <a:ext cx="351000" cy="5032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7091280" y="5105160"/>
                  <a:ext cx="350640" cy="5032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5582880" y="5267160"/>
                  <a:ext cx="498600" cy="21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pPr>
                    <a:lnSpc>
                      <a:spcPct val="5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Times New Roman"/>
                    </a:rPr>
                    <a:t>. . 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6294240" y="4870440"/>
                  <a:ext cx="4064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Arial"/>
                    </a:rPr>
                    <a:t>99.997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20" name=""/>
                <p:cNvGrpSpPr/>
                <p:nvPr/>
              </p:nvGrpSpPr>
              <p:grpSpPr>
                <a:xfrm>
                  <a:off x="2126880" y="5100480"/>
                  <a:ext cx="350640" cy="503280"/>
                  <a:chOff x="2126880" y="5100480"/>
                  <a:chExt cx="350640" cy="503280"/>
                </a:xfrm>
              </p:grpSpPr>
              <p:sp>
                <p:nvSpPr>
                  <p:cNvPr id="921" name=""/>
                  <p:cNvSpPr/>
                  <p:nvPr/>
                </p:nvSpPr>
                <p:spPr>
                  <a:xfrm>
                    <a:off x="2126880" y="5100480"/>
                    <a:ext cx="350640" cy="503280"/>
                  </a:xfrm>
                  <a:prstGeom prst="rect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>
                    <a:off x="2136240" y="5248080"/>
                    <a:ext cx="335160" cy="34632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800" spc="-1" strike="noStrike">
                        <a:solidFill>
                          <a:srgbClr val="ffffff"/>
                        </a:solidFill>
                        <a:latin typeface="Arial"/>
                      </a:rPr>
                      <a:t>0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23" name=""/>
                <p:cNvSpPr/>
                <p:nvPr/>
              </p:nvSpPr>
              <p:spPr>
                <a:xfrm>
                  <a:off x="2503080" y="5100480"/>
                  <a:ext cx="351000" cy="5032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2512800" y="5324400"/>
                  <a:ext cx="334800" cy="27000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3422520" y="5100480"/>
                  <a:ext cx="350640" cy="5032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3431880" y="5200560"/>
                  <a:ext cx="335160" cy="3938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ffffff"/>
                      </a:solidFill>
                      <a:latin typeface="Arial"/>
                    </a:rPr>
                    <a:t>99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3800160" y="5100480"/>
                  <a:ext cx="351000" cy="5032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3809880" y="5315040"/>
                  <a:ext cx="334800" cy="27936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ffffff"/>
                      </a:solidFill>
                      <a:latin typeface="Arial"/>
                    </a:rPr>
                    <a:t>10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4560480" y="5100480"/>
                  <a:ext cx="351000" cy="5032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4570200" y="5191200"/>
                  <a:ext cx="334800" cy="40320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ffffff"/>
                      </a:solidFill>
                      <a:latin typeface="Arial"/>
                    </a:rPr>
                    <a:t>10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4544280" y="4870440"/>
                  <a:ext cx="349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Arial"/>
                    </a:rPr>
                    <a:t>10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4937040" y="5100480"/>
                  <a:ext cx="350640" cy="5032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4946400" y="5267160"/>
                  <a:ext cx="334800" cy="3272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ffffff"/>
                      </a:solidFill>
                      <a:latin typeface="Arial"/>
                    </a:rPr>
                    <a:t>104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4934880" y="4870440"/>
                  <a:ext cx="349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Arial"/>
                    </a:rPr>
                    <a:t>10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35" name=""/>
                <p:cNvGrpSpPr/>
                <p:nvPr/>
              </p:nvGrpSpPr>
              <p:grpSpPr>
                <a:xfrm>
                  <a:off x="4181400" y="5100480"/>
                  <a:ext cx="350640" cy="503280"/>
                  <a:chOff x="4181400" y="5100480"/>
                  <a:chExt cx="350640" cy="503280"/>
                </a:xfrm>
              </p:grpSpPr>
              <p:sp>
                <p:nvSpPr>
                  <p:cNvPr id="936" name=""/>
                  <p:cNvSpPr/>
                  <p:nvPr/>
                </p:nvSpPr>
                <p:spPr>
                  <a:xfrm>
                    <a:off x="4181400" y="5100480"/>
                    <a:ext cx="350640" cy="503280"/>
                  </a:xfrm>
                  <a:prstGeom prst="rect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4190760" y="5348160"/>
                    <a:ext cx="334440" cy="24624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800" spc="-1" strike="noStrike">
                        <a:solidFill>
                          <a:srgbClr val="ffffff"/>
                        </a:solidFill>
                        <a:latin typeface="Arial"/>
                      </a:rPr>
                      <a:t>102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38" name=""/>
                <p:cNvGrpSpPr/>
                <p:nvPr/>
              </p:nvGrpSpPr>
              <p:grpSpPr>
                <a:xfrm>
                  <a:off x="6324480" y="5110200"/>
                  <a:ext cx="350640" cy="503280"/>
                  <a:chOff x="6324480" y="5110200"/>
                  <a:chExt cx="350640" cy="503280"/>
                </a:xfrm>
              </p:grpSpPr>
              <p:sp>
                <p:nvSpPr>
                  <p:cNvPr id="939" name=""/>
                  <p:cNvSpPr/>
                  <p:nvPr/>
                </p:nvSpPr>
                <p:spPr>
                  <a:xfrm>
                    <a:off x="6324480" y="5110200"/>
                    <a:ext cx="350640" cy="503280"/>
                  </a:xfrm>
                  <a:prstGeom prst="rect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6333840" y="5357880"/>
                    <a:ext cx="334440" cy="24624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800" spc="-1" strike="noStrike">
                        <a:solidFill>
                          <a:srgbClr val="ffffff"/>
                        </a:solidFill>
                        <a:latin typeface="Arial"/>
                      </a:rPr>
                      <a:t>101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cxnSp>
            <p:nvCxnSpPr>
              <p:cNvPr id="941" name=""/>
              <p:cNvCxnSpPr/>
              <p:nvPr/>
            </p:nvCxnSpPr>
            <p:spPr>
              <a:xfrm flipH="1" rot="16200000">
                <a:off x="2486520" y="5420880"/>
                <a:ext cx="10080" cy="375480"/>
              </a:xfrm>
              <a:prstGeom prst="curvedConnector5">
                <a:avLst>
                  <a:gd name="adj1" fmla="val 2500000"/>
                  <a:gd name="adj2" fmla="val 50000"/>
                  <a:gd name="adj3" fmla="val 2500000"/>
                </a:avLst>
              </a:prstGeom>
              <a:ln w="6480">
                <a:solidFill>
                  <a:srgbClr val="000000"/>
                </a:solidFill>
                <a:miter/>
              </a:ln>
            </p:spPr>
          </p:cxnSp>
          <p:cxnSp>
            <p:nvCxnSpPr>
              <p:cNvPr id="942" name=""/>
              <p:cNvCxnSpPr/>
              <p:nvPr/>
            </p:nvCxnSpPr>
            <p:spPr>
              <a:xfrm flipH="1" rot="16200000">
                <a:off x="3787560" y="5415480"/>
                <a:ext cx="2160" cy="378360"/>
              </a:xfrm>
              <a:prstGeom prst="curvedConnector5">
                <a:avLst>
                  <a:gd name="adj1" fmla="val 14400000"/>
                  <a:gd name="adj2" fmla="val 50000"/>
                  <a:gd name="adj3" fmla="val 14400000"/>
                </a:avLst>
              </a:prstGeom>
              <a:ln w="6480">
                <a:solidFill>
                  <a:srgbClr val="000000"/>
                </a:solidFill>
                <a:miter/>
              </a:ln>
            </p:spPr>
          </p:cxnSp>
          <p:cxnSp>
            <p:nvCxnSpPr>
              <p:cNvPr id="943" name=""/>
              <p:cNvCxnSpPr/>
              <p:nvPr/>
            </p:nvCxnSpPr>
            <p:spPr>
              <a:xfrm flipH="1" rot="16200000">
                <a:off x="2868480" y="5420880"/>
                <a:ext cx="10080" cy="375120"/>
              </a:xfrm>
              <a:prstGeom prst="curvedConnector5">
                <a:avLst>
                  <a:gd name="adj1" fmla="val 2500000"/>
                  <a:gd name="adj2" fmla="val 49951"/>
                  <a:gd name="adj3" fmla="val 2500000"/>
                </a:avLst>
              </a:prstGeom>
              <a:ln w="6480">
                <a:solidFill>
                  <a:srgbClr val="000000"/>
                </a:solidFill>
                <a:miter/>
              </a:ln>
            </p:spPr>
          </p:cxnSp>
          <p:cxnSp>
            <p:nvCxnSpPr>
              <p:cNvPr id="944" name=""/>
              <p:cNvCxnSpPr/>
              <p:nvPr/>
            </p:nvCxnSpPr>
            <p:spPr>
              <a:xfrm flipH="1" rot="16200000">
                <a:off x="3405600" y="5420880"/>
                <a:ext cx="10080" cy="375480"/>
              </a:xfrm>
              <a:prstGeom prst="curvedConnector5">
                <a:avLst>
                  <a:gd name="adj1" fmla="val 2500000"/>
                  <a:gd name="adj2" fmla="val 50000"/>
                  <a:gd name="adj3" fmla="val 2500000"/>
                </a:avLst>
              </a:prstGeom>
              <a:ln w="6480">
                <a:solidFill>
                  <a:srgbClr val="000000"/>
                </a:solidFill>
                <a:miter/>
              </a:ln>
            </p:spPr>
          </p:cxnSp>
          <p:cxnSp>
            <p:nvCxnSpPr>
              <p:cNvPr id="945" name=""/>
              <p:cNvCxnSpPr>
                <a:stCxn id="927" idx="2"/>
                <a:endCxn id="940" idx="2"/>
              </p:cNvCxnSpPr>
              <p:nvPr/>
            </p:nvCxnSpPr>
            <p:spPr>
              <a:xfrm flipH="1" rot="16200000">
                <a:off x="5238720" y="4341240"/>
                <a:ext cx="2160" cy="2526480"/>
              </a:xfrm>
              <a:prstGeom prst="curvedConnector5">
                <a:avLst>
                  <a:gd name="adj1" fmla="val 45580000"/>
                  <a:gd name="adj2" fmla="val 49992"/>
                  <a:gd name="adj3" fmla="val 45580000"/>
                </a:avLst>
              </a:prstGeom>
              <a:ln w="6480">
                <a:solidFill>
                  <a:srgbClr val="000000"/>
                </a:solidFill>
                <a:miter/>
              </a:ln>
            </p:spPr>
          </p:cxnSp>
          <p:cxnSp>
            <p:nvCxnSpPr>
              <p:cNvPr id="946" name=""/>
              <p:cNvCxnSpPr/>
              <p:nvPr/>
            </p:nvCxnSpPr>
            <p:spPr>
              <a:xfrm flipH="1" rot="16200000">
                <a:off x="4950360" y="5415120"/>
                <a:ext cx="2160" cy="378720"/>
              </a:xfrm>
              <a:prstGeom prst="curvedConnector5">
                <a:avLst>
                  <a:gd name="adj1" fmla="val 9780000"/>
                  <a:gd name="adj2" fmla="val 49952"/>
                  <a:gd name="adj3" fmla="val 9780000"/>
                </a:avLst>
              </a:prstGeom>
              <a:ln w="6480">
                <a:solidFill>
                  <a:srgbClr val="000000"/>
                </a:solidFill>
                <a:miter/>
              </a:ln>
            </p:spPr>
          </p:cxnSp>
          <p:cxnSp>
            <p:nvCxnSpPr>
              <p:cNvPr id="947" name=""/>
              <p:cNvCxnSpPr/>
              <p:nvPr/>
            </p:nvCxnSpPr>
            <p:spPr>
              <a:xfrm flipH="1" rot="16200000">
                <a:off x="5325840" y="5415480"/>
                <a:ext cx="2160" cy="378360"/>
              </a:xfrm>
              <a:prstGeom prst="curvedConnector5">
                <a:avLst>
                  <a:gd name="adj1" fmla="val 9480000"/>
                  <a:gd name="adj2" fmla="val 50000"/>
                  <a:gd name="adj3" fmla="val 9480000"/>
                </a:avLst>
              </a:prstGeom>
              <a:ln w="6480">
                <a:solidFill>
                  <a:srgbClr val="000000"/>
                </a:solidFill>
                <a:miter/>
              </a:ln>
            </p:spPr>
          </p:cxnSp>
          <p:cxnSp>
            <p:nvCxnSpPr>
              <p:cNvPr id="948" name=""/>
              <p:cNvCxnSpPr>
                <a:stCxn id="940" idx="2"/>
                <a:endCxn id="936" idx="2"/>
              </p:cNvCxnSpPr>
              <p:nvPr/>
            </p:nvCxnSpPr>
            <p:spPr>
              <a:xfrm rot="5400000">
                <a:off x="5428440" y="4532040"/>
                <a:ext cx="2160" cy="2145600"/>
              </a:xfrm>
              <a:prstGeom prst="curvedConnector5">
                <a:avLst>
                  <a:gd name="adj1" fmla="val 34780000"/>
                  <a:gd name="adj2" fmla="val 49991"/>
                  <a:gd name="adj3" fmla="val 34780000"/>
                </a:avLst>
              </a:prstGeom>
              <a:ln w="6480">
                <a:solidFill>
                  <a:srgbClr val="000000"/>
                </a:solidFill>
                <a:miter/>
              </a:ln>
            </p:spPr>
          </p:cxnSp>
          <p:sp>
            <p:nvSpPr>
              <p:cNvPr id="949" name=""/>
              <p:cNvSpPr/>
              <p:nvPr/>
            </p:nvSpPr>
            <p:spPr>
              <a:xfrm>
                <a:off x="3647880" y="5811840"/>
                <a:ext cx="299880" cy="17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0,18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176440" y="5738760"/>
                <a:ext cx="300240" cy="17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0,18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4838400" y="5738760"/>
                <a:ext cx="300240" cy="17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0,18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302080" y="6321240"/>
                <a:ext cx="299880" cy="17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12,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509800" y="5959440"/>
                <a:ext cx="300240" cy="17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</a:t>
                </a: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5447880" y="630072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flipH="1">
                <a:off x="5557320" y="6148080"/>
                <a:ext cx="7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2452320" y="5837040"/>
                <a:ext cx="763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2836440" y="5837040"/>
                <a:ext cx="763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3376440" y="5837040"/>
                <a:ext cx="75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757320" y="5824440"/>
                <a:ext cx="763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919400" y="5756040"/>
                <a:ext cx="763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295600" y="5749920"/>
                <a:ext cx="763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62" name=""/>
              <p:cNvCxnSpPr/>
              <p:nvPr/>
            </p:nvCxnSpPr>
            <p:spPr>
              <a:xfrm flipH="1" rot="16200000">
                <a:off x="4574160" y="5415120"/>
                <a:ext cx="2160" cy="378720"/>
              </a:xfrm>
              <a:prstGeom prst="curvedConnector5">
                <a:avLst>
                  <a:gd name="adj1" fmla="val 9780000"/>
                  <a:gd name="adj2" fmla="val 49952"/>
                  <a:gd name="adj3" fmla="val 9780000"/>
                </a:avLst>
              </a:prstGeom>
              <a:ln w="6480">
                <a:solidFill>
                  <a:srgbClr val="000000"/>
                </a:solidFill>
                <a:miter/>
              </a:ln>
            </p:spPr>
          </p:cxnSp>
          <p:sp>
            <p:nvSpPr>
              <p:cNvPr id="963" name=""/>
              <p:cNvSpPr/>
              <p:nvPr/>
            </p:nvSpPr>
            <p:spPr>
              <a:xfrm>
                <a:off x="4462200" y="5738760"/>
                <a:ext cx="299880" cy="17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0,18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543200" y="5756040"/>
                <a:ext cx="763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02360" y="1392120"/>
            <a:ext cx="21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4.5  Les 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temps de lect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095480" y="2168640"/>
            <a:ext cx="7378560" cy="337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. Lecture séquentielle selon 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095480" y="2682720"/>
            <a:ext cx="760716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naly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cture des pages du fichier de base selon leur séquence physique ne marche pas, car ruptures de séquence (séquence physique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séquence logiqu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accède aux pages de base à partir de l'index (tout ou dernier niveau avec chaînage), qui est ordonné selon 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mps de lecture = temps de parcours de l'index (ou dernier niveau) + temps d'accès aux pages de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ais, temps de parcours de l'index en général néglige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894680" y="1606680"/>
            <a:ext cx="53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mps de lecture d'un fichier séquentiel index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temps de lect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095480" y="2168640"/>
            <a:ext cx="7378560" cy="337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. Lecture séquentielle selon 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095480" y="2730600"/>
            <a:ext cx="760716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alcul sans rupture de séqu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a déterminé :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l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f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l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f2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b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 x 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095480" y="3559320"/>
            <a:ext cx="7607160" cy="10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alcul avec ruptures de séqu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oit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 la proportion de pages en rupture de séqu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a  :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l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f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= (1 -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) x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b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 x 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s1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 x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b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 x 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095480" y="4873680"/>
            <a:ext cx="7607160" cy="12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xe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b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 = 250.000;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 = 0,2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ans rupture  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l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f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= 46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vec ruptures  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l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f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= 652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894680" y="1606680"/>
            <a:ext cx="53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mps de lecture d'un fichier séquentiel index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temps de lect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095480" y="2168640"/>
            <a:ext cx="7378560" cy="337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2. Lecture ponctuelle selon 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095480" y="2682720"/>
            <a:ext cx="760716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naly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amen naïf : on accède à 1 page pour chaque niveau d'index + 1 page de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n pratique, on charge les premiers niveaux d'index dans le tampon pour éviter les accès au disq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894680" y="1606680"/>
            <a:ext cx="53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mps de lecture d'un fichier séquentiel index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/>
          <p:nvPr/>
        </p:nvSpPr>
        <p:spPr>
          <a:xfrm>
            <a:off x="4581360" y="5610240"/>
            <a:ext cx="29556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7543800" y="5610240"/>
            <a:ext cx="29520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temps de lect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095480" y="2168640"/>
            <a:ext cx="7378560" cy="337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2. Lecture ponctuelle selon 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095480" y="2692440"/>
            <a:ext cx="760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alcul naïf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l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k1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1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 + 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095480" y="3206880"/>
            <a:ext cx="783576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alcul prat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i on maintient les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premiers niveaux d'index dans le tampon :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l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k1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1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+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nombre de pages du tampon dédiées au processus est de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Arial"/>
              </a:rPr>
              <a:t> m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 +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095480" y="4216320"/>
            <a:ext cx="760716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xe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b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 = 250.000; n = 3;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i(1)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= 1;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i(2)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= 46;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i(3)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= 3.36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ampon de </a:t>
            </a:r>
            <a:r>
              <a:rPr b="1" lang="fr-FR" sz="1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page: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l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k1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= 12,3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, soit </a:t>
            </a:r>
            <a:r>
              <a:rPr b="1" lang="fr-FR" sz="1600" spc="-1" strike="noStrike">
                <a:solidFill>
                  <a:srgbClr val="0000ff"/>
                </a:solidFill>
                <a:latin typeface="Arial"/>
              </a:rPr>
              <a:t>49,2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ampon de 1 + 1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fr-FR" sz="1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pages 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l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k1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= 12,3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, soit </a:t>
            </a:r>
            <a:r>
              <a:rPr b="1" lang="fr-FR" sz="1600" spc="-1" strike="noStrike">
                <a:solidFill>
                  <a:srgbClr val="0000ff"/>
                </a:solidFill>
                <a:latin typeface="Arial"/>
              </a:rPr>
              <a:t>36,9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ampon de 1 + 46 + 1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fr-FR" sz="1600" spc="-1" strike="noStrike">
                <a:solidFill>
                  <a:srgbClr val="0000ff"/>
                </a:solidFill>
                <a:latin typeface="Arial"/>
              </a:rPr>
              <a:t>48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pages 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l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k1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= 12,3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, soit </a:t>
            </a:r>
            <a:r>
              <a:rPr b="1" lang="fr-FR" sz="1600" spc="-1" strike="noStrike">
                <a:solidFill>
                  <a:srgbClr val="0000ff"/>
                </a:solidFill>
                <a:latin typeface="Arial"/>
              </a:rPr>
              <a:t>24,6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ampon de 1 + 46 + 3.361 + 1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fr-FR" sz="1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ff"/>
                </a:solidFill>
                <a:latin typeface="Arial"/>
              </a:rPr>
              <a:t>409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pages 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l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k1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= 12,3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, soit </a:t>
            </a:r>
            <a:r>
              <a:rPr b="1" lang="fr-FR" sz="1600" spc="-1" strike="noStrike">
                <a:solidFill>
                  <a:srgbClr val="0000ff"/>
                </a:solidFill>
                <a:latin typeface="Arial"/>
              </a:rPr>
              <a:t>12,3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629480" y="3790800"/>
            <a:ext cx="352440" cy="3812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524720" y="2962440"/>
            <a:ext cx="1133640" cy="4190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00"/>
                </a:solidFill>
                <a:latin typeface="Arial"/>
              </a:rPr>
              <a:t>+ 1 page p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ffff00"/>
                </a:solidFill>
                <a:latin typeface="Arial"/>
              </a:rPr>
              <a:t>tout le r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7" name=""/>
          <p:cNvCxnSpPr>
            <a:stCxn id="1006" idx="3"/>
            <a:endCxn id="1005" idx="6"/>
          </p:cNvCxnSpPr>
          <p:nvPr/>
        </p:nvCxnSpPr>
        <p:spPr>
          <a:xfrm flipH="1">
            <a:off x="7991280" y="3171600"/>
            <a:ext cx="667440" cy="810360"/>
          </a:xfrm>
          <a:prstGeom prst="bentConnector3">
            <a:avLst>
              <a:gd name="adj1" fmla="val -3426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8" name=""/>
          <p:cNvSpPr/>
          <p:nvPr/>
        </p:nvSpPr>
        <p:spPr>
          <a:xfrm>
            <a:off x="5533920" y="6067440"/>
            <a:ext cx="1514520" cy="4190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00"/>
                </a:solidFill>
                <a:latin typeface="Arial"/>
              </a:rPr>
              <a:t>les perform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00"/>
                </a:solidFill>
                <a:latin typeface="Arial"/>
              </a:rPr>
              <a:t>ont un coû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9" name=""/>
          <p:cNvCxnSpPr>
            <a:stCxn id="1008" idx="1"/>
            <a:endCxn id="994" idx="2"/>
          </p:cNvCxnSpPr>
          <p:nvPr/>
        </p:nvCxnSpPr>
        <p:spPr>
          <a:xfrm rot="10800000">
            <a:off x="4728600" y="5895360"/>
            <a:ext cx="80532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0" name=""/>
          <p:cNvCxnSpPr>
            <a:stCxn id="1008" idx="3"/>
            <a:endCxn id="995" idx="2"/>
          </p:cNvCxnSpPr>
          <p:nvPr/>
        </p:nvCxnSpPr>
        <p:spPr>
          <a:xfrm flipV="1">
            <a:off x="7048440" y="5895720"/>
            <a:ext cx="64332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1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894680" y="1606680"/>
            <a:ext cx="53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mps de lecture d'un fichier séquentiel index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temps de lect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1095480" y="2168640"/>
            <a:ext cx="7378560" cy="337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3. Lecture par intervalle [k1, k2] selon 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095480" y="2682720"/>
            <a:ext cx="7607160" cy="25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naly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ntervalle :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CLI &gt;= 'K111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CLI &gt;= 'K000' and NCLI &lt;= 'K999'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CLI between 'K000' and 'K999'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CLI like 'K%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'index est utilisé en deux temps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80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ccès par l'index NCLI = k1 (ou, plus généralement 1er enregistrement qui satisfait la condition NCLI &gt;= k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80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cture séquentielle selon l'index tant que K &lt;= k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894680" y="1606680"/>
            <a:ext cx="53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mps de lecture d'un fichier séquentiel index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temps de lect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095480" y="2730600"/>
            <a:ext cx="7607160" cy="14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ombre d'enregistrements et de pages dans l'interva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obabilité qu'un enregistrement tombe dans l'intervalle :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mbre d'enregistrements dans l'intervalle :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ik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k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es enregistrements occupent :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ik</a:t>
            </a: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=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ik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pp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+ 0,5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 + 1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pages consécu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085760" y="4216320"/>
            <a:ext cx="76075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alcul du temps de l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équence courte :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l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k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l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1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+ (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ik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 1) x 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équence plus longue (lecture anticipée) :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l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k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ik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 x 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l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équence plus longue avec ruptures :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voir text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095480" y="2168640"/>
            <a:ext cx="7378560" cy="337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3. Lecture par intervalle [k1, k2] selon 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894680" y="1606680"/>
            <a:ext cx="53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mps de lecture d'un fichier séquentiel index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14480" y="752400"/>
            <a:ext cx="90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temps de modific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857240" y="1606680"/>
            <a:ext cx="419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mps de modification des donné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095480" y="2168640"/>
            <a:ext cx="7378560" cy="337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. Insertion d'un enregistr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678760" y="3417840"/>
            <a:ext cx="293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ns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1k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+ (1 + 3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plit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299600" y="2741760"/>
            <a:ext cx="644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oit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plit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la proportion des insertions qui ont provoqué un éclat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181400" y="3429000"/>
            <a:ext cx="28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337800" y="3832200"/>
            <a:ext cx="18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ire page v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ecopier nouvelle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j de l'index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4" name=""/>
          <p:cNvCxnSpPr>
            <a:stCxn id="1042" idx="2"/>
            <a:endCxn id="1043" idx="1"/>
          </p:cNvCxnSpPr>
          <p:nvPr/>
        </p:nvCxnSpPr>
        <p:spPr>
          <a:xfrm flipH="1" rot="16200000">
            <a:off x="5113800" y="2923920"/>
            <a:ext cx="43884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5" name=""/>
          <p:cNvSpPr/>
          <p:nvPr/>
        </p:nvSpPr>
        <p:spPr>
          <a:xfrm>
            <a:off x="3848040" y="3429000"/>
            <a:ext cx="28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338520" y="4537080"/>
            <a:ext cx="185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ecopier page cour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7" name=""/>
          <p:cNvCxnSpPr>
            <a:stCxn id="1045" idx="2"/>
            <a:endCxn id="1046" idx="1"/>
          </p:cNvCxnSpPr>
          <p:nvPr/>
        </p:nvCxnSpPr>
        <p:spPr>
          <a:xfrm flipH="1" rot="16200000">
            <a:off x="4686120" y="3018600"/>
            <a:ext cx="961200" cy="2353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8" name=""/>
          <p:cNvSpPr/>
          <p:nvPr/>
        </p:nvSpPr>
        <p:spPr>
          <a:xfrm>
            <a:off x="3333600" y="3438360"/>
            <a:ext cx="28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372360" y="5261040"/>
            <a:ext cx="213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ccès à la page de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0" name=""/>
          <p:cNvCxnSpPr>
            <a:stCxn id="1048" idx="2"/>
            <a:endCxn id="1049" idx="1"/>
          </p:cNvCxnSpPr>
          <p:nvPr/>
        </p:nvCxnSpPr>
        <p:spPr>
          <a:xfrm flipH="1" rot="16200000">
            <a:off x="4087080" y="3113280"/>
            <a:ext cx="1675440" cy="2896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14480" y="752400"/>
            <a:ext cx="90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temps de modific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857240" y="1606680"/>
            <a:ext cx="419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mps de modification des donné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095480" y="2168640"/>
            <a:ext cx="7378560" cy="337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2. Suppression d'un enregistr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2561760" y="3503520"/>
            <a:ext cx="34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del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(1 + 3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bal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 + 3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erg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1297440" y="2741760"/>
            <a:ext cx="679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oit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bal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la proportion des suppressions qui ont provoqué un rééquilib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oit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erg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la proportion des suppressions qui ont provoqué une fus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410000" y="3514680"/>
            <a:ext cx="28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340320" y="3917880"/>
            <a:ext cx="1406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ire page vois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ibérer page v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j de l'index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3" name=""/>
          <p:cNvCxnSpPr>
            <a:stCxn id="1061" idx="2"/>
            <a:endCxn id="1062" idx="1"/>
          </p:cNvCxnSpPr>
          <p:nvPr/>
        </p:nvCxnSpPr>
        <p:spPr>
          <a:xfrm flipH="1" rot="16200000">
            <a:off x="5229000" y="3123720"/>
            <a:ext cx="4388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4" name=""/>
          <p:cNvSpPr/>
          <p:nvPr/>
        </p:nvSpPr>
        <p:spPr>
          <a:xfrm>
            <a:off x="3543480" y="3514680"/>
            <a:ext cx="285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338880" y="4622760"/>
            <a:ext cx="1730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ire page vois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ecopier page vois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j de l'ind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6" name=""/>
          <p:cNvCxnSpPr>
            <a:stCxn id="1064" idx="2"/>
            <a:endCxn id="1065" idx="1"/>
          </p:cNvCxnSpPr>
          <p:nvPr/>
        </p:nvCxnSpPr>
        <p:spPr>
          <a:xfrm flipH="1" rot="16200000">
            <a:off x="4443120" y="3043080"/>
            <a:ext cx="1143720" cy="2657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7" name=""/>
          <p:cNvSpPr/>
          <p:nvPr/>
        </p:nvSpPr>
        <p:spPr>
          <a:xfrm>
            <a:off x="3219480" y="3571920"/>
            <a:ext cx="28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343560" y="5394240"/>
            <a:ext cx="183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ecopier page cour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9" name=""/>
          <p:cNvCxnSpPr>
            <a:stCxn id="1067" idx="2"/>
            <a:endCxn id="1068" idx="1"/>
          </p:cNvCxnSpPr>
          <p:nvPr/>
        </p:nvCxnSpPr>
        <p:spPr>
          <a:xfrm flipH="1" rot="16200000">
            <a:off x="4014720" y="3204360"/>
            <a:ext cx="1675440" cy="298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14480" y="752400"/>
            <a:ext cx="90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temps de modific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857240" y="1606680"/>
            <a:ext cx="419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mps de modification des donné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095480" y="2168640"/>
            <a:ext cx="7378560" cy="337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3. Modifier un enregistr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1297800" y="2744640"/>
            <a:ext cx="329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= une suppression + une inser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tau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2466720" y="1549440"/>
            <a:ext cx="380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valuation des taux d'occup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847800" y="2216160"/>
            <a:ext cx="7835760" cy="1861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s calculs dépendent de 6 taux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mais phénomène identique =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plit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bal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erge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847800" y="4406760"/>
            <a:ext cx="7816680" cy="900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mment les évaluer 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nalytiquement (processus stochastiques) : complex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ar simulation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: plus simple, intuitif mais réclame un peu de program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23920" y="1720800"/>
            <a:ext cx="7083360" cy="1067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6720" indent="-666720" algn="just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ucture technique associée à un fichier (une table par exemple) qui permet un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ccès sélectif et rapid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ux enregistrements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ou lignes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ce fichier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qui possèdent des valeurs déterminées de certains champs. Ces champs constituent la </a:t>
            </a:r>
            <a:r>
              <a:rPr b="1" lang="fr-FR" sz="1600" spc="-1" strike="noStrike">
                <a:solidFill>
                  <a:srgbClr val="0000ff"/>
                </a:solidFill>
                <a:latin typeface="Arial"/>
              </a:rPr>
              <a:t>clé</a:t>
            </a: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 de l'index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23920" y="2984400"/>
            <a:ext cx="7083360" cy="580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 SQL, l'extraction et la modification de données ne nécessitent pas la connaissance des inde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23920" y="3746520"/>
            <a:ext cx="7083360" cy="337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peut associer un nombre quelconque d'index à un fichier (tab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23920" y="4264200"/>
            <a:ext cx="7083360" cy="580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 index est dit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dentifia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i un identifiant a été déclaré sur la clé de cet inde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5 Les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tau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466720" y="1549440"/>
            <a:ext cx="380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valuation des taux d'occup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847800" y="2216160"/>
            <a:ext cx="7816680" cy="3059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aramètres d'une simul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mbre initial de pages :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aille des pages :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p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[en nombre d'enregistrements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  Taux d'occupation initial 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(ou nombre initial d'enregistrements par pag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pp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p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. Proportion d'insertions 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n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parmi des opérations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insert-delet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(ou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%in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de 0 à 100); 100% = insertions seulement; 0% = suppressions seu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5.  Nombre d'opérations de la simulation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o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6.  Nombre d'exécutions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im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(sous la forme de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nombre de pa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a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nombre d'opérations par pa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op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tau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466720" y="1549440"/>
            <a:ext cx="380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valuation des taux d'occup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847800" y="2216160"/>
            <a:ext cx="7835760" cy="3052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imula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ableau d'entiers PAGE(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max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); PAGE(I) = nbre d'enregistrements de la page 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initialise les 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premières pages selon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pp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choisit une opération au hasard selon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%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choisit un enregistrement R au hasard (il se trouve dans la page 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simule l'opération sur R en modifiant PAGE(P) et ses voisines selon l'opération chois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à la fin de chaque pas, on mémorise les statist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à la fin des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im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exécutions, on calcule les moyennes des statistiques et on les sort dans un fichier de résulta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318480" y="5506920"/>
            <a:ext cx="27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Simulateur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: ISAM-auto.db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tau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466720" y="1549440"/>
            <a:ext cx="380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valuation des taux d'occup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847800" y="2216160"/>
            <a:ext cx="7816680" cy="3434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ésultats d'une simulation (moyenne des 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im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exécut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tep : numéro du pas courant (de 0 à Np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  Nop : nombre d'opérations exécuté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  Nins : nombre d'insertions exécuté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.  Ndel : nombre de suppressions exécuté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5.  Np : nombre actuel de p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6.  Nr : nombre actuel d'enregist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7.  tocc : taux d'occupation actu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8.  Nsplit : nombre d'insertions avec éclat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9.  Nbal : nombre de suppressions avec rééquilib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0. Nmerge : nombre de suppressions avec fu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1. Nerror : nombre d'erreurs (doit être 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tau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466720" y="1549440"/>
            <a:ext cx="380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valuation des taux d'occup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990720" y="2154240"/>
            <a:ext cx="41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ichier de paramètres pour 3 simu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1" name=""/>
          <p:cNvGrpSpPr/>
          <p:nvPr/>
        </p:nvGrpSpPr>
        <p:grpSpPr>
          <a:xfrm>
            <a:off x="1128240" y="2668680"/>
            <a:ext cx="6354720" cy="3099600"/>
            <a:chOff x="1128240" y="2668680"/>
            <a:chExt cx="6354720" cy="3099600"/>
          </a:xfrm>
        </p:grpSpPr>
        <p:sp>
          <p:nvSpPr>
            <p:cNvPr id="1122" name=""/>
            <p:cNvSpPr/>
            <p:nvPr/>
          </p:nvSpPr>
          <p:spPr>
            <a:xfrm>
              <a:off x="1685880" y="2686320"/>
              <a:ext cx="314280" cy="2952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685880" y="3191040"/>
              <a:ext cx="314280" cy="2952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685880" y="3438720"/>
              <a:ext cx="314280" cy="2952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685880" y="2943360"/>
              <a:ext cx="314280" cy="2952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683360" y="2668680"/>
              <a:ext cx="5799600" cy="15541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'Simulations pour %ins = 70, 80, 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'Np0, Mrpp, Nrpp0, TauxIns, NbrePas, NbreOpPas, NbreSimu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ep Np Nr tocc Nsplit Nbal Nmer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000, 40, 28, 70, 200, 2000,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000, 40, 28, 80, 200, 2000,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000, 40, 28, 90, 200, 2000,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755000" y="5430960"/>
              <a:ext cx="155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' commentai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755000" y="5011920"/>
              <a:ext cx="195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ésultats demandé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753200" y="45928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imulation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30" name=""/>
            <p:cNvCxnSpPr>
              <a:stCxn id="1122" idx="1"/>
              <a:endCxn id="1127" idx="1"/>
            </p:cNvCxnSpPr>
            <p:nvPr/>
          </p:nvCxnSpPr>
          <p:spPr>
            <a:xfrm flipH="1" flipV="1" rot="10800000">
              <a:off x="1685520" y="2833560"/>
              <a:ext cx="67680" cy="2766240"/>
            </a:xfrm>
            <a:prstGeom prst="bentConnector3">
              <a:avLst>
                <a:gd name="adj1" fmla="val -82834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31" name=""/>
            <p:cNvCxnSpPr>
              <a:stCxn id="1123" idx="1"/>
              <a:endCxn id="1128" idx="1"/>
            </p:cNvCxnSpPr>
            <p:nvPr/>
          </p:nvCxnSpPr>
          <p:spPr>
            <a:xfrm flipH="1" flipV="1" rot="10800000">
              <a:off x="1685520" y="3337560"/>
              <a:ext cx="67680" cy="1842120"/>
            </a:xfrm>
            <a:prstGeom prst="bentConnector3">
              <a:avLst>
                <a:gd name="adj1" fmla="val -54973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32" name=""/>
            <p:cNvCxnSpPr>
              <a:stCxn id="1124" idx="1"/>
              <a:endCxn id="1129" idx="1"/>
            </p:cNvCxnSpPr>
            <p:nvPr/>
          </p:nvCxnSpPr>
          <p:spPr>
            <a:xfrm flipH="1" flipV="1" rot="10800000">
              <a:off x="1685520" y="3585240"/>
              <a:ext cx="67680" cy="1175400"/>
            </a:xfrm>
            <a:prstGeom prst="bentConnector3">
              <a:avLst>
                <a:gd name="adj1" fmla="val -34278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33" name=""/>
            <p:cNvCxnSpPr>
              <a:stCxn id="1125" idx="1"/>
              <a:endCxn id="1127" idx="1"/>
            </p:cNvCxnSpPr>
            <p:nvPr/>
          </p:nvCxnSpPr>
          <p:spPr>
            <a:xfrm flipH="1" flipV="1" rot="10800000">
              <a:off x="1685520" y="3090960"/>
              <a:ext cx="67680" cy="2508840"/>
            </a:xfrm>
            <a:prstGeom prst="bentConnector3">
              <a:avLst>
                <a:gd name="adj1" fmla="val -82834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tau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466720" y="1549440"/>
            <a:ext cx="380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valuation des taux d'occup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988920" y="2154240"/>
            <a:ext cx="284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ésultats de la simulation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124280" y="2590920"/>
            <a:ext cx="6299640" cy="3823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 time = 01/12/2011 09:38:4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time =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1/12/2011 09:44:5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c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pl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ba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mer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0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079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7039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160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708013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243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712123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323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716167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401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720055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483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72411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0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567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728278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57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737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703309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929,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40,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59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819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703481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957,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56,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0,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62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898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703204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990,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73,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1,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65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979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703353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19,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88,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3,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tau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3600720" y="1521000"/>
            <a:ext cx="184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valuation de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847800" y="2349360"/>
            <a:ext cx="7835760" cy="2354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mment évolue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n fonction du nombre d'opérations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depuis la création du fichier. Durée de la simulation :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n fonction de la taille des pages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p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[en nombre d'enregistrements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  En fonction du taux d'occupation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à la création du fichier (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 x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n fonction du % d'insertions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%in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[0-100] dans les opérations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insert-delet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(100 = insertions seulement; 0 = suppressions seulement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e dépend pas de la taille du fichier (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) mais d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tau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3638880" y="1521000"/>
            <a:ext cx="184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valuation de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8" name="" descr=""/>
          <p:cNvPicPr/>
          <p:nvPr/>
        </p:nvPicPr>
        <p:blipFill>
          <a:blip r:embed="rId1"/>
          <a:stretch/>
        </p:blipFill>
        <p:spPr>
          <a:xfrm>
            <a:off x="1695600" y="1943280"/>
            <a:ext cx="5859360" cy="3903480"/>
          </a:xfrm>
          <a:prstGeom prst="rect">
            <a:avLst/>
          </a:prstGeom>
          <a:ln w="0">
            <a:noFill/>
          </a:ln>
        </p:spPr>
      </p:pic>
      <p:sp>
        <p:nvSpPr>
          <p:cNvPr id="1159" name=""/>
          <p:cNvSpPr/>
          <p:nvPr/>
        </p:nvSpPr>
        <p:spPr>
          <a:xfrm>
            <a:off x="1908360" y="6026040"/>
            <a:ext cx="528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p0 = 5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000; Mrpp = 40; </a:t>
            </a:r>
            <a:r>
              <a:rPr b="1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0 = 0,8; %ins = 50-100; Nop = 400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7285320" y="4003560"/>
            <a:ext cx="182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 pas = 1,25 x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tau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386360" y="1521000"/>
            <a:ext cx="61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valuation de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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- les résultats sont-ils extrapolables 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090440" y="3454560"/>
            <a:ext cx="6737400" cy="939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[ Np0 = 1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000; Mrpp = 40; </a:t>
            </a:r>
            <a:r>
              <a:rPr b="1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0 = 0,8; %ins = 90; Nop = 100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00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[Np0 = 5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000; Mrpp = 40; </a:t>
            </a:r>
            <a:r>
              <a:rPr b="1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0 = 0,8; %ins = 90; Nop = 500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00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098720" y="2670120"/>
            <a:ext cx="6710040" cy="337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0" lang="fr-FR" sz="1000" spc="-1" strike="noStrike">
                <a:solidFill>
                  <a:srgbClr val="0000ff"/>
                </a:solidFill>
                <a:latin typeface="Arial"/>
              </a:rPr>
              <a:t> </a:t>
            </a: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 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p0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rpp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rpp0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%ins,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 </a:t>
            </a: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 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op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] = [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p0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rpp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rpp0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%ins,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op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27240" y="2678040"/>
            <a:ext cx="607320" cy="337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00"/>
                </a:solidFill>
                <a:latin typeface="Arial"/>
              </a:rPr>
              <a:t>oui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tau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1929960" y="1521000"/>
            <a:ext cx="54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valuation de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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- Comportement asymptoti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139400" y="2098800"/>
            <a:ext cx="727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Que devient 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lorsqu'on laisse fonctionner le fichier pendant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rès longtemp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148040" y="2435400"/>
            <a:ext cx="30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l tend vers une constante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0" name="" descr=""/>
          <p:cNvPicPr/>
          <p:nvPr/>
        </p:nvPicPr>
        <p:blipFill>
          <a:blip r:embed="rId1"/>
          <a:stretch/>
        </p:blipFill>
        <p:spPr>
          <a:xfrm>
            <a:off x="2066760" y="2724120"/>
            <a:ext cx="4880160" cy="3251160"/>
          </a:xfrm>
          <a:prstGeom prst="rect">
            <a:avLst/>
          </a:prstGeom>
          <a:ln w="0">
            <a:noFill/>
          </a:ln>
        </p:spPr>
      </p:pic>
      <p:sp>
        <p:nvSpPr>
          <p:cNvPr id="1181" name=""/>
          <p:cNvSpPr/>
          <p:nvPr/>
        </p:nvSpPr>
        <p:spPr>
          <a:xfrm>
            <a:off x="1764720" y="6102360"/>
            <a:ext cx="54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p0 = 5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000; Mrpp = 40; </a:t>
            </a:r>
            <a:r>
              <a:rPr b="1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0 = 0,8; %ins = 50-100; Nop = 1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857640" y="4327560"/>
            <a:ext cx="160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 pas = 5 x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tau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1929960" y="1521000"/>
            <a:ext cx="54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valuation de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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- Comportement asymptoti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422440" y="1892160"/>
            <a:ext cx="5115240" cy="7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valeur asymptotique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dépend de %ins et Mr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q = f(%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ns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, M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pp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2847960" y="2610000"/>
            <a:ext cx="4149720" cy="3043080"/>
          </a:xfrm>
          <a:prstGeom prst="rect">
            <a:avLst/>
          </a:prstGeom>
          <a:ln w="0">
            <a:noFill/>
          </a:ln>
        </p:spPr>
      </p:pic>
      <p:sp>
        <p:nvSpPr>
          <p:cNvPr id="1192" name=""/>
          <p:cNvSpPr/>
          <p:nvPr/>
        </p:nvSpPr>
        <p:spPr>
          <a:xfrm>
            <a:off x="7162920" y="5857920"/>
            <a:ext cx="1780920" cy="4190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00"/>
                </a:solidFill>
                <a:latin typeface="Arial"/>
              </a:rPr>
              <a:t>coût : 700h de calc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5 Les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42840" y="1806480"/>
            <a:ext cx="7388280" cy="580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s index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méliorent les performance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de certaines opérations sur les données mais induisent des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ût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de stockage et de ges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42840" y="2664000"/>
            <a:ext cx="7388280" cy="1073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requête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select NOM, LOCALITE from CLIENT where NCLI = ’C400’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'exécutera en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5 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sans index sur NC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t en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0.025 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avec un index sur NCLI (600 fois plus rapidement !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42840" y="3882960"/>
            <a:ext cx="7388280" cy="1130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ais, pas de miracle :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tout avantage a un coût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! Ici, le volume et le coût de gestion de l'inde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modification de lignes de la table CLIENT implique des opérations de modification de l'index sur NCL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tau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929240" y="1521000"/>
            <a:ext cx="518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valuation de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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- Les abaques opérationne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922320" y="2058840"/>
            <a:ext cx="764532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valeur asymptotique est un concept théorique : on ne laiss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jamai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un fichier fonctionner aussi longtemps sans réorganisation (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 &gt; 0,5 !!!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ule la période de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prime jeuness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(A, B, C) est utile. Simulations cour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211640" y="29638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2" name="" descr=""/>
          <p:cNvPicPr/>
          <p:nvPr/>
        </p:nvPicPr>
        <p:blipFill>
          <a:blip r:embed="rId1"/>
          <a:stretch/>
        </p:blipFill>
        <p:spPr>
          <a:xfrm>
            <a:off x="2457360" y="2852640"/>
            <a:ext cx="4422960" cy="3257640"/>
          </a:xfrm>
          <a:prstGeom prst="rect">
            <a:avLst/>
          </a:prstGeom>
          <a:ln w="0">
            <a:noFill/>
          </a:ln>
        </p:spPr>
      </p:pic>
      <p:sp>
        <p:nvSpPr>
          <p:cNvPr id="1203" name=""/>
          <p:cNvSpPr/>
          <p:nvPr/>
        </p:nvSpPr>
        <p:spPr>
          <a:xfrm>
            <a:off x="2862360" y="6278400"/>
            <a:ext cx="340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[Mrpp=40; 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0 = 0,8; %ins = 90%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tau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929240" y="1521000"/>
            <a:ext cx="518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valuation de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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- Les abaques opérationne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885960" y="2268360"/>
            <a:ext cx="7223040" cy="12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baques opérationnels : nous renseignent sur la période utile des fichi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btenus à partir d'une série de simul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lus faciles à utiliser que des tableaux de chiff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ermettent des interpo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182600" y="3916440"/>
            <a:ext cx="214164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rois familles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lon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lon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lon 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tau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929240" y="1521000"/>
            <a:ext cx="518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valuation de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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- Les abaques opérationne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085760" y="1963800"/>
            <a:ext cx="20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baques selon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p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1" name="" descr=""/>
          <p:cNvPicPr/>
          <p:nvPr/>
        </p:nvPicPr>
        <p:blipFill>
          <a:blip r:embed="rId1"/>
          <a:stretch/>
        </p:blipFill>
        <p:spPr>
          <a:xfrm>
            <a:off x="1924200" y="2224080"/>
            <a:ext cx="5135400" cy="3789360"/>
          </a:xfrm>
          <a:prstGeom prst="rect">
            <a:avLst/>
          </a:prstGeom>
          <a:ln w="0">
            <a:noFill/>
          </a:ln>
        </p:spPr>
      </p:pic>
      <p:sp>
        <p:nvSpPr>
          <p:cNvPr id="1222" name=""/>
          <p:cNvSpPr/>
          <p:nvPr/>
        </p:nvSpPr>
        <p:spPr>
          <a:xfrm>
            <a:off x="2381400" y="6107040"/>
            <a:ext cx="456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= f(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%in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=55; </a:t>
            </a:r>
            <a:r>
              <a:rPr b="1" lang="fr-FR" sz="1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=0,7;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rpp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=(10-100);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a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096320" y="3994200"/>
            <a:ext cx="136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 pas =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tau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929240" y="1521000"/>
            <a:ext cx="518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valuation de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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- Les abaques opérationne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094400" y="1982880"/>
            <a:ext cx="20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baques selon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n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2343240" y="5792760"/>
            <a:ext cx="456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= f(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%in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=50-100; </a:t>
            </a:r>
            <a:r>
              <a:rPr b="1" lang="fr-FR" sz="1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=0,7;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rpp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=20;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a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3" name="" descr=""/>
          <p:cNvPicPr/>
          <p:nvPr/>
        </p:nvPicPr>
        <p:blipFill>
          <a:blip r:embed="rId1"/>
          <a:stretch/>
        </p:blipFill>
        <p:spPr>
          <a:xfrm>
            <a:off x="1981080" y="2328840"/>
            <a:ext cx="4854600" cy="3286080"/>
          </a:xfrm>
          <a:prstGeom prst="rect">
            <a:avLst/>
          </a:prstGeom>
          <a:ln w="0">
            <a:noFill/>
          </a:ln>
        </p:spPr>
      </p:pic>
      <p:sp>
        <p:nvSpPr>
          <p:cNvPr id="1234" name=""/>
          <p:cNvSpPr/>
          <p:nvPr/>
        </p:nvSpPr>
        <p:spPr>
          <a:xfrm>
            <a:off x="7096320" y="3994200"/>
            <a:ext cx="136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 pas =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871640" y="3319560"/>
            <a:ext cx="838080" cy="2386080"/>
          </a:xfrm>
          <a:custGeom>
            <a:avLst/>
            <a:gdLst/>
            <a:ahLst/>
            <a:rect l="l" t="t" r="r" b="b"/>
            <a:pathLst>
              <a:path w="144" h="147">
                <a:moveTo>
                  <a:pt x="0" y="0"/>
                </a:moveTo>
                <a:lnTo>
                  <a:pt x="144" y="0"/>
                </a:lnTo>
                <a:lnTo>
                  <a:pt x="144" y="147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headEnd len="med" type="stealth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558520" y="5661000"/>
            <a:ext cx="30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ff"/>
                </a:solidFill>
                <a:latin typeface="Arial"/>
              </a:rPr>
              <a:t>2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462680" y="3203640"/>
            <a:ext cx="46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ff"/>
                </a:solidFill>
                <a:latin typeface="Arial"/>
              </a:rPr>
              <a:t>0,79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tau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929240" y="1521000"/>
            <a:ext cx="518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valuation de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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- Les abaques opérationne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123200" y="1954080"/>
            <a:ext cx="18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baques selon 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381400" y="5935680"/>
            <a:ext cx="456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= f(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%in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=55; </a:t>
            </a:r>
            <a:r>
              <a:rPr b="1" lang="fr-FR" sz="1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=0,6-1;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rpp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=20;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a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7" name="" descr=""/>
          <p:cNvPicPr/>
          <p:nvPr/>
        </p:nvPicPr>
        <p:blipFill>
          <a:blip r:embed="rId1"/>
          <a:stretch/>
        </p:blipFill>
        <p:spPr>
          <a:xfrm>
            <a:off x="2114640" y="2357280"/>
            <a:ext cx="4854600" cy="3392640"/>
          </a:xfrm>
          <a:prstGeom prst="rect">
            <a:avLst/>
          </a:prstGeom>
          <a:ln w="0">
            <a:noFill/>
          </a:ln>
        </p:spPr>
      </p:pic>
      <p:sp>
        <p:nvSpPr>
          <p:cNvPr id="1248" name=""/>
          <p:cNvSpPr/>
          <p:nvPr/>
        </p:nvSpPr>
        <p:spPr>
          <a:xfrm>
            <a:off x="7096320" y="3994200"/>
            <a:ext cx="136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 pas =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tau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463840" y="1521000"/>
            <a:ext cx="39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valuation de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plit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bal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erg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906560" y="5916600"/>
            <a:ext cx="44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Np0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11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50;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rpp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20;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%in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90; </a:t>
            </a:r>
            <a:r>
              <a:rPr b="1" lang="fr-FR" sz="1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0,8; Nop = 360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00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7" name=""/>
          <p:cNvGraphicFramePr/>
          <p:nvPr/>
        </p:nvGraphicFramePr>
        <p:xfrm>
          <a:off x="1317600" y="2085840"/>
          <a:ext cx="5897520" cy="360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7600" y="2085840"/>
                    <a:ext cx="5897520" cy="36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9" name=""/>
          <p:cNvSpPr/>
          <p:nvPr/>
        </p:nvSpPr>
        <p:spPr>
          <a:xfrm>
            <a:off x="7096320" y="3994200"/>
            <a:ext cx="136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 pas =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tau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464560" y="1521000"/>
            <a:ext cx="375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valuation de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plit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bal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erg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906560" y="5916600"/>
            <a:ext cx="44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Np0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11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50;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rpp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20;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%in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90; </a:t>
            </a:r>
            <a:r>
              <a:rPr b="1" lang="fr-FR" sz="1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0,8; Nop = 360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00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8" name=""/>
          <p:cNvGraphicFramePr/>
          <p:nvPr/>
        </p:nvGraphicFramePr>
        <p:xfrm>
          <a:off x="1308240" y="2095560"/>
          <a:ext cx="5897520" cy="360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8240" y="2095560"/>
                    <a:ext cx="589752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0" name=""/>
          <p:cNvSpPr/>
          <p:nvPr/>
        </p:nvSpPr>
        <p:spPr>
          <a:xfrm>
            <a:off x="7096320" y="3994200"/>
            <a:ext cx="136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 pas =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applic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289960" y="1521000"/>
            <a:ext cx="44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: évolution d'un fichier de ba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611640" y="2743200"/>
            <a:ext cx="1660680" cy="12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bre initial de pa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aille des pa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aux de chargement ini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% des inser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bre d'opérations par j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bre de p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p = 2 x Nr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384440" y="2743200"/>
            <a:ext cx="220608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ps lecture page suivante (pre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ps lecture aléatoire 1 pag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ps lecture page suivante (ruptur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ps accès page de base av. inse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ps accès page de base av. delet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0" name=""/>
          <p:cNvGraphicFramePr/>
          <p:nvPr/>
        </p:nvGraphicFramePr>
        <p:xfrm>
          <a:off x="2266920" y="2800440"/>
          <a:ext cx="1505160" cy="114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6920" y="2800440"/>
                    <a:ext cx="15051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2" name=""/>
          <p:cNvGraphicFramePr/>
          <p:nvPr/>
        </p:nvGraphicFramePr>
        <p:xfrm>
          <a:off x="4457880" y="4481640"/>
          <a:ext cx="1504800" cy="1304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57880" y="4481640"/>
                    <a:ext cx="1504800" cy="13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4" name=""/>
          <p:cNvGraphicFramePr/>
          <p:nvPr/>
        </p:nvGraphicFramePr>
        <p:xfrm>
          <a:off x="6591240" y="2790720"/>
          <a:ext cx="1600200" cy="8193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91240" y="2790720"/>
                    <a:ext cx="160020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6" name=""/>
          <p:cNvSpPr/>
          <p:nvPr/>
        </p:nvSpPr>
        <p:spPr>
          <a:xfrm>
            <a:off x="2402640" y="4438800"/>
            <a:ext cx="2064240" cy="13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bre initial d'enr. par p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bre initial d'en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bre total d'opér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bre d'opérations par p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bre d'insertions par p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bre de suppressions par p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bre de nouveaux enreg. par p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bre de jours par p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applic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3" name=""/>
          <p:cNvGraphicFramePr/>
          <p:nvPr/>
        </p:nvGraphicFramePr>
        <p:xfrm>
          <a:off x="2193840" y="3990960"/>
          <a:ext cx="5935680" cy="81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3840" y="3990960"/>
                    <a:ext cx="593568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5" name=""/>
          <p:cNvGraphicFramePr/>
          <p:nvPr/>
        </p:nvGraphicFramePr>
        <p:xfrm>
          <a:off x="2193840" y="4896000"/>
          <a:ext cx="5935680" cy="1466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3840" y="4896000"/>
                    <a:ext cx="5935680" cy="14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7" name=""/>
          <p:cNvGraphicFramePr/>
          <p:nvPr/>
        </p:nvGraphicFramePr>
        <p:xfrm>
          <a:off x="2193840" y="2585880"/>
          <a:ext cx="5935680" cy="13050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93840" y="2585880"/>
                    <a:ext cx="5935680" cy="13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9" name=""/>
          <p:cNvSpPr/>
          <p:nvPr/>
        </p:nvSpPr>
        <p:spPr>
          <a:xfrm>
            <a:off x="336960" y="4848120"/>
            <a:ext cx="176256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bre de jou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° du p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bre d'enre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bre d'enr. par p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bre de pa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ps de lecture séquentie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Vitesse de lecture (enreg./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ps d'une inser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ps d'une suppre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289960" y="1521000"/>
            <a:ext cx="44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: évolution d'un fichier de ba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applic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7" name=""/>
          <p:cNvGraphicFramePr/>
          <p:nvPr/>
        </p:nvGraphicFramePr>
        <p:xfrm>
          <a:off x="1336680" y="2695680"/>
          <a:ext cx="5935680" cy="146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2695680"/>
                    <a:ext cx="5935680" cy="14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9" name=""/>
          <p:cNvGraphicFramePr/>
          <p:nvPr/>
        </p:nvGraphicFramePr>
        <p:xfrm>
          <a:off x="1346040" y="4438800"/>
          <a:ext cx="5935680" cy="1466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46040" y="4438800"/>
                    <a:ext cx="5935680" cy="14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1" name=""/>
          <p:cNvSpPr/>
          <p:nvPr/>
        </p:nvSpPr>
        <p:spPr>
          <a:xfrm>
            <a:off x="7455600" y="3457440"/>
            <a:ext cx="120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sr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= 12,3 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7455960" y="5172120"/>
            <a:ext cx="110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sr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= 4,0 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7525440" y="2819520"/>
            <a:ext cx="1172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ps lecture pag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uivante (ruptur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289960" y="1521000"/>
            <a:ext cx="44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: évolution d'un fichier de ba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557880" y="2077920"/>
            <a:ext cx="21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Quand réorganiser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5 Les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42840" y="1806480"/>
            <a:ext cx="7388280" cy="3014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 index convertit une valeur de la clé en l'ensemble des adresses des enregistrements qui possèdent cette valeu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ormellement, un index défini sur une colonne K de la table T matérialise une fonction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qui renvoie pour chaque valeur </a:t>
            </a: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un ensemble </a:t>
            </a: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d'adresses de lignes dans T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 = f(k)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i la colonne K est identifiante, A contient au plus une adress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s différentes technologies d'index se distinguent par la manière dont la fonction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est implémentée :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table de conversion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calcul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applic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566360" y="152100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: calcul volume et tps de lecture fichier S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3" name=""/>
          <p:cNvGraphicFramePr/>
          <p:nvPr/>
        </p:nvGraphicFramePr>
        <p:xfrm>
          <a:off x="6600960" y="5110200"/>
          <a:ext cx="2438280" cy="65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0960" y="5110200"/>
                    <a:ext cx="243828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5" name=""/>
          <p:cNvGraphicFramePr/>
          <p:nvPr/>
        </p:nvGraphicFramePr>
        <p:xfrm>
          <a:off x="2048040" y="2162160"/>
          <a:ext cx="2438280" cy="2438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48040" y="2162160"/>
                    <a:ext cx="243828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7" name=""/>
          <p:cNvSpPr/>
          <p:nvPr/>
        </p:nvSpPr>
        <p:spPr>
          <a:xfrm>
            <a:off x="66600" y="2286000"/>
            <a:ext cx="2046240" cy="23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ps déplacement bras unita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ps déplacement bras moy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Vitesse de ro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aille d'un sec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bre de secteurs/pi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bre de pistes/cylind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bre de cylind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apacité d'une pi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apacité d'un cylind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apacité d'un disque (en MB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ps d'une ro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ps lecture d'un secteur aléato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ps lecture d'une piste aléato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597200" y="2286000"/>
            <a:ext cx="2059920" cy="24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aille d'une p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aille pointeur d'enre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aille pointeur de p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aux d'occupation fichier de 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aux d'occupation ind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verhead page de 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verhead enreg. de 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verhead page d'ind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verhead entrée d'ind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verhead fich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aille d'une exten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aille du tamp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re de pages/pi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ps lecture d'une page aléato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502600" y="5229360"/>
            <a:ext cx="114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bre d'enre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aille d'un enre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aille de la cl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86160" y="5487840"/>
            <a:ext cx="26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Modèle de calcul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: ISAM.x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1" name=""/>
          <p:cNvGraphicFramePr/>
          <p:nvPr/>
        </p:nvGraphicFramePr>
        <p:xfrm>
          <a:off x="6600960" y="2157480"/>
          <a:ext cx="2438280" cy="26002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3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00960" y="2157480"/>
                    <a:ext cx="243828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applic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1566360" y="152100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: calcul volume et tps de lecture fichier S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335640" y="2476440"/>
            <a:ext cx="173664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aille entrée d'ind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bre max d'entrées/p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bre moyen d'entrées/p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bre de pages d'ind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bre de niveaux d'ind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1" name=""/>
          <p:cNvGraphicFramePr/>
          <p:nvPr/>
        </p:nvGraphicFramePr>
        <p:xfrm>
          <a:off x="2109960" y="2362320"/>
          <a:ext cx="1800000" cy="81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960" y="2362320"/>
                    <a:ext cx="180000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3" name=""/>
          <p:cNvGraphicFramePr/>
          <p:nvPr/>
        </p:nvGraphicFramePr>
        <p:xfrm>
          <a:off x="4595760" y="2357280"/>
          <a:ext cx="1800360" cy="981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5760" y="2357280"/>
                    <a:ext cx="180036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5" name=""/>
          <p:cNvGraphicFramePr/>
          <p:nvPr/>
        </p:nvGraphicFramePr>
        <p:xfrm>
          <a:off x="4600440" y="3510000"/>
          <a:ext cx="1333800" cy="9810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3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00440" y="3510000"/>
                    <a:ext cx="133380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7" name=""/>
          <p:cNvSpPr/>
          <p:nvPr/>
        </p:nvSpPr>
        <p:spPr>
          <a:xfrm>
            <a:off x="5964120" y="3476520"/>
            <a:ext cx="1591920" cy="10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iveau 3 : nbre d'entr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iveau 3 : nbre de pa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iveau 2 : nbre d'entr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iveau 2 : nbre de pa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iveau 1 : nbre d'entr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iveau 1 : nbre de pa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03640" y="2476440"/>
            <a:ext cx="1672560" cy="7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aille enre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bre max d'enreg./p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bre moyen d'enreg./p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bre de pages de 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 (applic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566360" y="152100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: calcul volume et tps de lecture fichier S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20640" y="2571840"/>
            <a:ext cx="1651320" cy="15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Volume du fichier de 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Volume de l'ind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Volume 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Volume total ré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... en M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... en dis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bre de niveaux observé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bre de niveaux calculé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aux d'occupation glob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7" name=""/>
          <p:cNvGraphicFramePr/>
          <p:nvPr/>
        </p:nvGraphicFramePr>
        <p:xfrm>
          <a:off x="2295360" y="2471760"/>
          <a:ext cx="2343240" cy="162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5360" y="2471760"/>
                    <a:ext cx="234324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9" name=""/>
          <p:cNvGraphicFramePr/>
          <p:nvPr/>
        </p:nvGraphicFramePr>
        <p:xfrm>
          <a:off x="4762440" y="2467080"/>
          <a:ext cx="2343240" cy="819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62440" y="2467080"/>
                    <a:ext cx="234324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1" name=""/>
          <p:cNvSpPr/>
          <p:nvPr/>
        </p:nvSpPr>
        <p:spPr>
          <a:xfrm>
            <a:off x="7062120" y="3552840"/>
            <a:ext cx="1814400" cy="17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ps min. de lect. séquentie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dem réduit à l'enre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Vitesse de le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ccès par cl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dem en secon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Vitesse de lecture par cl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aille du tamp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aille du tampon utilisé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2" name=""/>
          <p:cNvGraphicFramePr/>
          <p:nvPr/>
        </p:nvGraphicFramePr>
        <p:xfrm>
          <a:off x="4772160" y="3448080"/>
          <a:ext cx="2342880" cy="1790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3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72160" y="3448080"/>
                    <a:ext cx="2342880" cy="17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4" name=""/>
          <p:cNvSpPr/>
          <p:nvPr/>
        </p:nvSpPr>
        <p:spPr>
          <a:xfrm>
            <a:off x="7050240" y="2581200"/>
            <a:ext cx="1815840" cy="7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ps max de lect. séquentie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dem réduit à l'enre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Vitesse de le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ps d'accès par cl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257480" y="1549440"/>
            <a:ext cx="681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égradation des performances d'un fichier séquentiel index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847800" y="2216160"/>
            <a:ext cx="7816680" cy="580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s opérations de modification entraînent principalement 2 phénomènes de dégradation des performances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847800" y="2892600"/>
            <a:ext cx="7816680" cy="1181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hute des taux d'occupation </a:t>
            </a:r>
            <a:r>
              <a:rPr b="1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1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b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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 (</a:t>
            </a:r>
            <a:r>
              <a:rPr b="1" lang="fr-FR" sz="14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rpp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augmen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l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f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ff0000"/>
                </a:solidFill>
                <a:latin typeface="Arial"/>
              </a:rPr>
              <a:t>pb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 x 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s1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augm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 = 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og(</a:t>
            </a: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ff0000"/>
                </a:solidFill>
                <a:latin typeface="Arial"/>
              </a:rPr>
              <a:t>pb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 / log(</a:t>
            </a:r>
            <a:r>
              <a:rPr b="1" lang="fr-FR" sz="14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/ 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fr-FR" sz="1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augm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4" name=""/>
          <p:cNvGrpSpPr/>
          <p:nvPr/>
        </p:nvGrpSpPr>
        <p:grpSpPr>
          <a:xfrm>
            <a:off x="847800" y="4168800"/>
            <a:ext cx="7816680" cy="1430640"/>
            <a:chOff x="847800" y="4168800"/>
            <a:chExt cx="7816680" cy="1430640"/>
          </a:xfrm>
        </p:grpSpPr>
        <p:sp>
          <p:nvSpPr>
            <p:cNvPr id="1375" name=""/>
            <p:cNvSpPr/>
            <p:nvPr/>
          </p:nvSpPr>
          <p:spPr>
            <a:xfrm>
              <a:off x="4657680" y="4614840"/>
              <a:ext cx="238320" cy="2476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130800" y="4614840"/>
              <a:ext cx="238320" cy="2476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847800" y="4168800"/>
              <a:ext cx="7816680" cy="6804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Augmentation des ruptures de séquence :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 augmente </a:t>
              </a:r>
              <a:r>
                <a:rPr b="0" lang="fr-F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tl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sf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= (1 - 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) x</a:t>
              </a:r>
              <a:r>
                <a:rPr b="0" lang="fr-FR" sz="16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pb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 x 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ls1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0" lang="fr-FR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</a:t>
              </a:r>
              <a:r>
                <a:rPr b="0" lang="fr-FR" sz="1200" spc="-1" strike="noStrike">
                  <a:solidFill>
                    <a:srgbClr val="ff0000"/>
                  </a:solidFill>
                  <a:latin typeface="Arial"/>
                </a:rPr>
                <a:t>r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 x </a:t>
              </a: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pb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 x 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la1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371840" y="5322960"/>
              <a:ext cx="81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0,184 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79" name=""/>
            <p:cNvCxnSpPr>
              <a:stCxn id="1375" idx="2"/>
              <a:endCxn id="1378" idx="0"/>
            </p:cNvCxnSpPr>
            <p:nvPr/>
          </p:nvCxnSpPr>
          <p:spPr>
            <a:xfrm>
              <a:off x="4776480" y="4862160"/>
              <a:ext cx="1080" cy="46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0" name=""/>
            <p:cNvCxnSpPr>
              <a:stCxn id="1376" idx="2"/>
              <a:endCxn id="1381" idx="0"/>
            </p:cNvCxnSpPr>
            <p:nvPr/>
          </p:nvCxnSpPr>
          <p:spPr>
            <a:xfrm>
              <a:off x="6249600" y="4862160"/>
              <a:ext cx="1080" cy="46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81" name=""/>
            <p:cNvSpPr/>
            <p:nvPr/>
          </p:nvSpPr>
          <p:spPr>
            <a:xfrm>
              <a:off x="5886720" y="5322960"/>
              <a:ext cx="72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12,3 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2" name=""/>
          <p:cNvSpPr/>
          <p:nvPr/>
        </p:nvSpPr>
        <p:spPr>
          <a:xfrm>
            <a:off x="847800" y="5702400"/>
            <a:ext cx="7816680" cy="337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ependant : dégradation très progressiv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764360" y="1549440"/>
            <a:ext cx="576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aux : observations et recommandations géné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847800" y="2216160"/>
            <a:ext cx="7816680" cy="680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aleur optimale de 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0,7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 admissible si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ucune insertion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(fichier en lecture seule par exemp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847800" y="3683160"/>
            <a:ext cx="7816680" cy="1210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deviennent défavorables à partir du pas 50, voire plus tô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organisation du fichier recommandée dès qu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se rapproche de 30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à 50% du nombre d’enregistrements au dépa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.ex. à partir de 400.000 opérations dans un fichier de 1.000.000 enregistrement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847800" y="2943360"/>
            <a:ext cx="7816680" cy="611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201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erformances favorable pour les grandes valeurs d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p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(fichier de base et index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 - Perform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2008800" y="1549440"/>
            <a:ext cx="511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éorganisation d'un fichier séquentiel index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847800" y="2216160"/>
            <a:ext cx="7816680" cy="961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conditionnement du fichier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 taux d'occupation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favorabl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(70-80)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uniform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(pour toutes les pag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 élimination des ruptures de séquences (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847800" y="3321000"/>
            <a:ext cx="7816680" cy="2087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organisation par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echargement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ocessus très simple et rapide (linéaire en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mais attention à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!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cture séquentielle du fichier cour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angement séquentiel des enregistrements dans le nouveau fichier, avec un taux d'occupation initial favorable (p. ex.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0 = 0,7 à 0,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n parallèle, construction des différents niveaux d'index, avec un taux d'occupation initial favor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6 Organisation séquentielle index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3516480" y="152100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plém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647640" y="1987560"/>
            <a:ext cx="8325000" cy="15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daptation aisée au cas où K n'est pas un identifiant (mais rarement appliqué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fichier de base est instable : l'adresse d'un enregistrement peut évoluer au cours du tem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pplication intéressante aux fichiers comportant des enregistrements de plusieurs typ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486880" y="1392120"/>
            <a:ext cx="39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4.7  Organisation calcul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123920" y="2197080"/>
            <a:ext cx="7083360" cy="642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uxième technique de base d'implémentation d'un index primai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143000" y="3121200"/>
            <a:ext cx="7054920" cy="337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'adresse d'un enregistrement est obtenue par une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fonction de calcul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7 Organisation calculée - Princi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7 Organisation calculée - Princi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1123920" y="1673280"/>
            <a:ext cx="7083360" cy="824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sidérant l'expression A = f(k), la fonction f est implémentée sous la forme d'un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océdure de calcul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fournissant une adresse (celle d'une page) pour chaque valeur de 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0" name=""/>
          <p:cNvGrpSpPr/>
          <p:nvPr/>
        </p:nvGrpSpPr>
        <p:grpSpPr>
          <a:xfrm>
            <a:off x="4373280" y="2755800"/>
            <a:ext cx="1425960" cy="3562560"/>
            <a:chOff x="4373280" y="2755800"/>
            <a:chExt cx="1425960" cy="3562560"/>
          </a:xfrm>
        </p:grpSpPr>
        <p:sp>
          <p:nvSpPr>
            <p:cNvPr id="1431" name=""/>
            <p:cNvSpPr/>
            <p:nvPr/>
          </p:nvSpPr>
          <p:spPr>
            <a:xfrm>
              <a:off x="4419360" y="3228840"/>
              <a:ext cx="1247760" cy="2600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886280" y="4419360"/>
              <a:ext cx="306360" cy="3067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>
              <a:off x="4666320" y="4492440"/>
              <a:ext cx="824040" cy="90720"/>
            </a:xfrm>
            <a:custGeom>
              <a:avLst/>
              <a:gdLst/>
              <a:ahLst/>
              <a:rect l="l" t="t" r="r" b="b"/>
              <a:pathLst>
                <a:path w="471" h="48">
                  <a:moveTo>
                    <a:pt x="0" y="48"/>
                  </a:moveTo>
                  <a:lnTo>
                    <a:pt x="390" y="48"/>
                  </a:lnTo>
                  <a:lnTo>
                    <a:pt x="390" y="0"/>
                  </a:lnTo>
                  <a:lnTo>
                    <a:pt x="47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972320" y="4471920"/>
              <a:ext cx="146880" cy="1983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300" spc="-1" strike="noStrike">
                  <a:solidFill>
                    <a:srgbClr val="000000"/>
                  </a:solidFill>
                  <a:latin typeface="Arial"/>
                </a:rPr>
                <a:t>f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276520" y="4494240"/>
              <a:ext cx="281160" cy="137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900" spc="-1" strike="noStrike">
                  <a:solidFill>
                    <a:srgbClr val="000000"/>
                  </a:solidFill>
                  <a:latin typeface="Arial"/>
                </a:rPr>
                <a:t>k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654440" y="2755800"/>
              <a:ext cx="74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calculé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373280" y="5859360"/>
              <a:ext cx="1425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conversion k </a:t>
              </a:r>
              <a:r>
                <a:rPr b="1" lang="fr-FR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calculé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8" name=""/>
          <p:cNvGrpSpPr/>
          <p:nvPr/>
        </p:nvGrpSpPr>
        <p:grpSpPr>
          <a:xfrm>
            <a:off x="2819160" y="2660760"/>
            <a:ext cx="1438200" cy="3657600"/>
            <a:chOff x="2819160" y="2660760"/>
            <a:chExt cx="1438200" cy="3657600"/>
          </a:xfrm>
        </p:grpSpPr>
        <p:grpSp>
          <p:nvGrpSpPr>
            <p:cNvPr id="1439" name=""/>
            <p:cNvGrpSpPr/>
            <p:nvPr/>
          </p:nvGrpSpPr>
          <p:grpSpPr>
            <a:xfrm>
              <a:off x="2819160" y="2660760"/>
              <a:ext cx="1438200" cy="3657600"/>
              <a:chOff x="2819160" y="2660760"/>
              <a:chExt cx="1438200" cy="3657600"/>
            </a:xfrm>
          </p:grpSpPr>
          <p:sp>
            <p:nvSpPr>
              <p:cNvPr id="1440" name=""/>
              <p:cNvSpPr/>
              <p:nvPr/>
            </p:nvSpPr>
            <p:spPr>
              <a:xfrm>
                <a:off x="2819160" y="3228840"/>
                <a:ext cx="1438200" cy="25999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3210480" y="2660760"/>
                <a:ext cx="9367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séquentie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indexé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2820600" y="5859360"/>
                <a:ext cx="1425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conversion k </a:t>
                </a:r>
                <a:r>
                  <a:rPr b="1" lang="fr-FR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 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mémorisé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3" name=""/>
            <p:cNvGrpSpPr/>
            <p:nvPr/>
          </p:nvGrpSpPr>
          <p:grpSpPr>
            <a:xfrm>
              <a:off x="3066120" y="4177800"/>
              <a:ext cx="938880" cy="821880"/>
              <a:chOff x="3066120" y="4177800"/>
              <a:chExt cx="938880" cy="821880"/>
            </a:xfrm>
          </p:grpSpPr>
          <p:sp>
            <p:nvSpPr>
              <p:cNvPr id="1444" name=""/>
              <p:cNvSpPr/>
              <p:nvPr/>
            </p:nvSpPr>
            <p:spPr>
              <a:xfrm rot="16200000">
                <a:off x="3124080" y="4340880"/>
                <a:ext cx="821880" cy="495360"/>
              </a:xfrm>
              <a:prstGeom prst="triangle">
                <a:avLst>
                  <a:gd name="adj" fmla="val 50227"/>
                </a:avLst>
              </a:prstGeom>
              <a:solidFill>
                <a:srgbClr val="c0c0c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181320" y="4497120"/>
                <a:ext cx="823680" cy="91440"/>
              </a:xfrm>
              <a:custGeom>
                <a:avLst/>
                <a:gdLst/>
                <a:ahLst/>
                <a:rect l="l" t="t" r="r" b="b"/>
                <a:pathLst>
                  <a:path w="471" h="48">
                    <a:moveTo>
                      <a:pt x="0" y="48"/>
                    </a:moveTo>
                    <a:lnTo>
                      <a:pt x="390" y="48"/>
                    </a:lnTo>
                    <a:lnTo>
                      <a:pt x="390" y="0"/>
                    </a:lnTo>
                    <a:lnTo>
                      <a:pt x="47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3066120" y="4493880"/>
                <a:ext cx="96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900" spc="-1" strike="noStrike">
                    <a:solidFill>
                      <a:srgbClr val="000000"/>
                    </a:solidFill>
                    <a:latin typeface="Arial"/>
                  </a:rPr>
                  <a:t>k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47" name=""/>
          <p:cNvGrpSpPr/>
          <p:nvPr/>
        </p:nvGrpSpPr>
        <p:grpSpPr>
          <a:xfrm>
            <a:off x="4017960" y="3454560"/>
            <a:ext cx="628560" cy="2108160"/>
            <a:chOff x="4017960" y="3454560"/>
            <a:chExt cx="628560" cy="2108160"/>
          </a:xfrm>
        </p:grpSpPr>
        <p:sp>
          <p:nvSpPr>
            <p:cNvPr id="1448" name=""/>
            <p:cNvSpPr/>
            <p:nvPr/>
          </p:nvSpPr>
          <p:spPr>
            <a:xfrm>
              <a:off x="4017960" y="3454560"/>
              <a:ext cx="628560" cy="2108160"/>
            </a:xfrm>
            <a:prstGeom prst="rect">
              <a:avLst/>
            </a:prstGeom>
            <a:solidFill>
              <a:srgbClr val="f8f8f8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041720" y="3489480"/>
              <a:ext cx="581040" cy="16668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041720" y="3675240"/>
              <a:ext cx="581040" cy="16848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041720" y="3864240"/>
              <a:ext cx="581040" cy="16668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041720" y="4050000"/>
              <a:ext cx="581040" cy="16812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041720" y="4239000"/>
              <a:ext cx="581040" cy="16812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041720" y="4426200"/>
              <a:ext cx="581040" cy="16668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041720" y="4615200"/>
              <a:ext cx="581040" cy="16668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041720" y="4800960"/>
              <a:ext cx="581040" cy="16812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041720" y="4989960"/>
              <a:ext cx="581040" cy="16668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4041720" y="5175360"/>
              <a:ext cx="581040" cy="16848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041720" y="5364360"/>
              <a:ext cx="581040" cy="16848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182480" y="4437360"/>
              <a:ext cx="340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page</a:t>
              </a: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fr-FR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1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5 Les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42840" y="2044800"/>
            <a:ext cx="7131240" cy="13262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eux classes d'inde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. les index primai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2. les index secondai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7 Organisation calculée - Princi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1171440" y="1720800"/>
            <a:ext cx="7093080" cy="2114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'organisation calculée d'un fichier perm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lecture séquentiell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on ordonné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des enregistrements du fichier de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'accès rapide à l'enregistrement possédant une valeur de clé K = 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'insertion rapide d'un enregistrement de clé 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modification rapide de la valeur de K d'un enregistr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suppression rapide d'un enregistr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439040" y="1523880"/>
            <a:ext cx="1133640" cy="419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00"/>
                </a:solidFill>
                <a:latin typeface="Arial"/>
              </a:rPr>
              <a:t>à démontrer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1171440" y="4530600"/>
            <a:ext cx="7093080" cy="337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ette organisation ne permet pas l'accès séquentiel ordonn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7 Organisation calculée - Princi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171440" y="1720800"/>
            <a:ext cx="7093080" cy="15642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Hypothèses simplificatri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 La clé K est un identifiant du fich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 Le fichier contient des enregistrements d'un seul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 Les enregistrements sont de taille fix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. Un enregistrement est entièrement compris dans une 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171440" y="3692520"/>
            <a:ext cx="7093080" cy="337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es contraintes sont aisées à le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7 Organisation calculée - Princi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1171440" y="1463760"/>
            <a:ext cx="709308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Nature de la fonction f 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1171440" y="2006640"/>
            <a:ext cx="7093080" cy="803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K : identifi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 : adresse de la page de l'enregistr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p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: capacité d'une 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1171440" y="2924280"/>
            <a:ext cx="7093080" cy="777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as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K = {0, 1, 2, 3, ..., 99998, 99999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 = 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K / M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pp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1171440" y="3817800"/>
            <a:ext cx="7093080" cy="777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as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K = {1, 3, 5, 7, ..., 99997, 99999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 = 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(K - 1)/2) / M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pp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1171440" y="4711680"/>
            <a:ext cx="7093080" cy="777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as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K = {1, 3, 4, 87, 162, 163, 164, 290, 1035, ..., 99991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 =  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1171440" y="5607000"/>
            <a:ext cx="7093080" cy="777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as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K = {'Anselme', 'Bernard', 'Catherine', 'Eve', ..., 'Xavier'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 =  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7 Organisation calculée - Princi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171440" y="1463760"/>
            <a:ext cx="709308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Nature de la fonction f 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171440" y="2238480"/>
            <a:ext cx="7093080" cy="752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a fonction f doit convertir un ensemble de valeurs quelconques en une suite d'entiers naturels </a:t>
            </a:r>
            <a:r>
              <a:rPr b="1" i="1" lang="fr-FR" sz="1600" spc="-1" strike="noStrike">
                <a:solidFill>
                  <a:srgbClr val="0000ff"/>
                </a:solidFill>
                <a:latin typeface="Arial"/>
              </a:rPr>
              <a:t>également répartis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dans l'espace des a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8" name=""/>
          <p:cNvGrpSpPr/>
          <p:nvPr/>
        </p:nvGrpSpPr>
        <p:grpSpPr>
          <a:xfrm>
            <a:off x="1171440" y="3456000"/>
            <a:ext cx="7093080" cy="2258640"/>
            <a:chOff x="1171440" y="3456000"/>
            <a:chExt cx="7093080" cy="2258640"/>
          </a:xfrm>
        </p:grpSpPr>
        <p:sp>
          <p:nvSpPr>
            <p:cNvPr id="1499" name=""/>
            <p:cNvSpPr/>
            <p:nvPr/>
          </p:nvSpPr>
          <p:spPr>
            <a:xfrm>
              <a:off x="1171440" y="3456000"/>
              <a:ext cx="7093080" cy="265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n pratique, une telle fonction n'existe pas en toute généralit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171440" y="3963960"/>
              <a:ext cx="7093080" cy="7520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La fonction f doit convertir un ensemble de valeurs quelconques en une suite d'entiers naturels </a:t>
              </a:r>
              <a:r>
                <a:rPr b="1" i="1" lang="fr-FR" sz="1600" spc="-1" strike="noStrike">
                  <a:solidFill>
                    <a:srgbClr val="0000ff"/>
                  </a:solidFill>
                  <a:latin typeface="Arial"/>
                </a:rPr>
                <a:t>raisonnablement bien répartis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 dans l'espace des adres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171440" y="4962600"/>
              <a:ext cx="7093080" cy="7520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Les pages du fichier seront donc inégalement occupées :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indent="-17136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certaines pages resteront peu occupées voire vid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indent="-17136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certaines pages </a:t>
              </a:r>
              <a:r>
                <a:rPr b="1" i="1" lang="fr-FR" sz="1600" spc="-1" strike="noStrike">
                  <a:solidFill>
                    <a:srgbClr val="cc0000"/>
                  </a:solidFill>
                  <a:latin typeface="Arial"/>
                </a:rPr>
                <a:t>déborderont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2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2771640" y="1587600"/>
            <a:ext cx="56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ux problèmes à résoudre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7 Organisation calculée - Princi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1104840" y="2263680"/>
            <a:ext cx="7093080" cy="824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hoix de la fonction f de calcul d'adre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2.  Gestion des débord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2771640" y="1587600"/>
            <a:ext cx="56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 fonction de calcul d'adres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7 Organisation calculée - Princi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3591360" y="271152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(k) = f3(f2(f1k)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1181160" y="5178600"/>
            <a:ext cx="7092720" cy="1159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f1 :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numérisation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- transforme k en nombre n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f2 :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hachage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- transforme n1 en n2 de répartition régu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f3 :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cadrage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- transforme n2 en p, ajusté à N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228680" y="2187720"/>
            <a:ext cx="7093080" cy="337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0" indent="-1047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Objectif :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partir au mieux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les valeurs de K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dans l'espace des adress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1" name="" descr=""/>
          <p:cNvPicPr/>
          <p:nvPr/>
        </p:nvPicPr>
        <p:blipFill>
          <a:blip r:embed="rId1"/>
          <a:stretch/>
        </p:blipFill>
        <p:spPr>
          <a:xfrm>
            <a:off x="2143080" y="3176640"/>
            <a:ext cx="453888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2771640" y="1587600"/>
            <a:ext cx="56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 fonction de calcul d'adres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7 Organisation calculée - Princi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857160" y="2063880"/>
            <a:ext cx="7093080" cy="4145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ù ranger l’enregistrement d’identifiant "Charles" dans un fichier de 5.000 pages ?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numérisation f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spcAft>
                <a:spcPts val="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des ASCII des caractères de "Charles" = chaîne de 56 bits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01000011 01101000 01100001 01110010 01101100 01100101 01110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XOR entre les 32 premiers bits et les 24 suivants étendus à 32 bits par des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n obtient le nombre 0010 1111 0000 1101 0001 0010 0111 0010 = 78938584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n a donc f1("Charles") = 789385842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achage f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spcAft>
                <a:spcPts val="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chnique du pliage : f2(789385842) = 78938 + 02485 = 81423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adrage f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justement à un espace de [0, 4999] pages : f3(81423) = 81423 mod 5000 = 1423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n a donc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("Charles") = 14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’enregistrement sera rangé dans la page d’adresse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= 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423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7 Organisation calculée - Princi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924280" y="1596960"/>
            <a:ext cx="56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estion des débordem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1028880" y="2263680"/>
            <a:ext cx="7445160" cy="337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marL="1047600" indent="-1047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Que faire d'un enregistrement dont l'adresse p désigne une page pleine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1028880" y="2701800"/>
            <a:ext cx="7426080" cy="337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marL="114300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Réponse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on le stocke dans une page dont l'adresse p' est dérivable de 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1028880" y="3179880"/>
            <a:ext cx="7426080" cy="824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marL="114300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on le stocke dans une page qui possède assez d'espace pour accueillir l'enregistrement et dont l'adresse p' est stockée dans la page [p]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1028880" y="4032360"/>
            <a:ext cx="727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marL="1143000" indent="-1143000">
              <a:lnSpc>
                <a:spcPct val="100000"/>
              </a:lnSpc>
              <a:tabLst>
                <a:tab algn="l" pos="0"/>
                <a:tab algn="l" pos="209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On distingue donc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’adresse de base </a:t>
            </a:r>
            <a:r>
              <a:rPr b="1" lang="fr-FR" sz="16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43000" indent="-1143000">
              <a:lnSpc>
                <a:spcPct val="100000"/>
              </a:lnSpc>
              <a:tabLst>
                <a:tab algn="l" pos="0"/>
                <a:tab algn="l" pos="209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’adresse de stockage </a:t>
            </a:r>
            <a:r>
              <a:rPr b="1" lang="fr-FR" sz="1600" spc="-1" strike="noStrike">
                <a:solidFill>
                  <a:srgbClr val="0000ff"/>
                </a:solidFill>
                <a:latin typeface="Arial"/>
              </a:rPr>
              <a:t>p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1" name="" descr=""/>
          <p:cNvPicPr/>
          <p:nvPr/>
        </p:nvPicPr>
        <p:blipFill>
          <a:blip r:embed="rId1"/>
          <a:stretch/>
        </p:blipFill>
        <p:spPr>
          <a:xfrm>
            <a:off x="2066760" y="4862520"/>
            <a:ext cx="474840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7 Organisation calculée - Princi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2924280" y="1596960"/>
            <a:ext cx="56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estion des débordem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9" name="" descr=""/>
          <p:cNvPicPr/>
          <p:nvPr/>
        </p:nvPicPr>
        <p:blipFill>
          <a:blip r:embed="rId1"/>
          <a:stretch/>
        </p:blipFill>
        <p:spPr>
          <a:xfrm>
            <a:off x="2162160" y="2367000"/>
            <a:ext cx="53546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7 Organisation calculée - Perform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2305080" y="159696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erformances d'un fichier calcul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1176120" y="2220840"/>
            <a:ext cx="365328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 fichier calculé est défini p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b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le nombre de pages de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p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la taille des p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1162080" y="3220920"/>
            <a:ext cx="762156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connaît, à un moment déterminé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66760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le nombre d'enregistrements qui ont été stockés (répartis entre espace de base et espace de débordeme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66760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p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le nombre moyen d'enregistrements envoyés dans une page de base; peut être &gt;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p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1344600" y="4702320"/>
            <a:ext cx="7027920" cy="13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définit :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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p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p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, le taux de chargement du fichier (typiquement de 0,5 à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a 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p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2858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p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5 Les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42840" y="1558800"/>
            <a:ext cx="7597800" cy="1870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ndex primai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plus souvent identifia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 seul index primaire par fich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structure du fichier dépend fortement de la présence d'un index prim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ifficile d'ajouter et de supprimer un index primaire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au v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ff"/>
                </a:solidFill>
                <a:latin typeface="Arial"/>
              </a:rPr>
              <a:t>faible volume, très bonnes performance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42840" y="3720960"/>
            <a:ext cx="7588440" cy="2421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ndex secondai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dentifiant ou non identifi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ff"/>
                </a:solidFill>
                <a:latin typeface="Arial"/>
              </a:rPr>
              <a:t>de 0 à N index secondaires par fich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ff"/>
                </a:solidFill>
                <a:latin typeface="Arial"/>
              </a:rPr>
              <a:t>la structure du fichier est indépendante de la présence d'un index second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ff"/>
                </a:solidFill>
                <a:latin typeface="Arial"/>
              </a:rPr>
              <a:t>facile d'ajouter et de supprimer un index secondaire </a:t>
            </a:r>
            <a:r>
              <a:rPr b="1" i="1" lang="fr-FR" sz="1600" spc="-1" strike="noStrike">
                <a:solidFill>
                  <a:srgbClr val="0000ff"/>
                </a:solidFill>
                <a:latin typeface="Arial"/>
              </a:rPr>
              <a:t>au v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olume plus important, moins bonnes perform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ertains SGBD n'offrent que des index secondaires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61800" y="3133800"/>
            <a:ext cx="505080" cy="2352600"/>
            <a:chOff x="361800" y="3133800"/>
            <a:chExt cx="505080" cy="2352600"/>
          </a:xfrm>
        </p:grpSpPr>
        <p:sp>
          <p:nvSpPr>
            <p:cNvPr id="104" name=""/>
            <p:cNvSpPr/>
            <p:nvPr/>
          </p:nvSpPr>
          <p:spPr>
            <a:xfrm>
              <a:off x="361800" y="3133800"/>
              <a:ext cx="505080" cy="257040"/>
            </a:xfrm>
            <a:prstGeom prst="rightArrow">
              <a:avLst>
                <a:gd name="adj1" fmla="val 50000"/>
                <a:gd name="adj2" fmla="val 49125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1800" y="5229360"/>
              <a:ext cx="505080" cy="257040"/>
            </a:xfrm>
            <a:prstGeom prst="rightArrow">
              <a:avLst>
                <a:gd name="adj1" fmla="val 50000"/>
                <a:gd name="adj2" fmla="val 49125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1800" y="4381560"/>
              <a:ext cx="505080" cy="257040"/>
            </a:xfrm>
            <a:prstGeom prst="rightArrow">
              <a:avLst>
                <a:gd name="adj1" fmla="val 50000"/>
                <a:gd name="adj2" fmla="val 49125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1800" y="4695840"/>
              <a:ext cx="505080" cy="257040"/>
            </a:xfrm>
            <a:prstGeom prst="rightArrow">
              <a:avLst>
                <a:gd name="adj1" fmla="val 50000"/>
                <a:gd name="adj2" fmla="val 49125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7 Organisation calculée - Perform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2305080" y="1596960"/>
            <a:ext cx="420696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erformances d'un fichier calcul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Volume du fich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1035000" y="2516040"/>
            <a:ext cx="637560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connaît 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b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nombre de pages de b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cherche 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nombre total de p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pose :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: taux d'accroissement du nombre de page dû aux débord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1035360" y="4178160"/>
            <a:ext cx="3963240" cy="6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détermine la fonction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f(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p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isponible sous forme d'aba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7 Organisation calculée - Perform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2305080" y="1596960"/>
            <a:ext cx="420696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erformances d'un fichier calcul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Volume du fich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6" name=""/>
          <p:cNvGrpSpPr/>
          <p:nvPr/>
        </p:nvGrpSpPr>
        <p:grpSpPr>
          <a:xfrm>
            <a:off x="2362680" y="2529000"/>
            <a:ext cx="3944520" cy="2885760"/>
            <a:chOff x="2362680" y="2529000"/>
            <a:chExt cx="3944520" cy="2885760"/>
          </a:xfrm>
        </p:grpSpPr>
        <p:sp>
          <p:nvSpPr>
            <p:cNvPr id="1577" name=""/>
            <p:cNvSpPr/>
            <p:nvPr/>
          </p:nvSpPr>
          <p:spPr>
            <a:xfrm>
              <a:off x="2638440" y="2595600"/>
              <a:ext cx="3639960" cy="26114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2641680" y="2595600"/>
              <a:ext cx="3639960" cy="261144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9" name=""/>
            <p:cNvGrpSpPr/>
            <p:nvPr/>
          </p:nvGrpSpPr>
          <p:grpSpPr>
            <a:xfrm>
              <a:off x="2638440" y="2804760"/>
              <a:ext cx="3639960" cy="2403360"/>
              <a:chOff x="2638440" y="2804760"/>
              <a:chExt cx="3639960" cy="2403360"/>
            </a:xfrm>
          </p:grpSpPr>
          <p:sp>
            <p:nvSpPr>
              <p:cNvPr id="1580" name=""/>
              <p:cNvSpPr/>
              <p:nvPr/>
            </p:nvSpPr>
            <p:spPr>
              <a:xfrm>
                <a:off x="2638440" y="5073480"/>
                <a:ext cx="237960" cy="66240"/>
              </a:xfrm>
              <a:custGeom>
                <a:avLst/>
                <a:gdLst/>
                <a:ahLst/>
                <a:rect l="l" t="t" r="r" b="b"/>
                <a:pathLst>
                  <a:path w="150" h="42">
                    <a:moveTo>
                      <a:pt x="0" y="42"/>
                    </a:moveTo>
                    <a:lnTo>
                      <a:pt x="72" y="24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2876400" y="4968720"/>
                <a:ext cx="247680" cy="104400"/>
              </a:xfrm>
              <a:custGeom>
                <a:avLst/>
                <a:gdLst/>
                <a:ahLst/>
                <a:rect l="l" t="t" r="r" b="b"/>
                <a:pathLst>
                  <a:path w="156" h="66">
                    <a:moveTo>
                      <a:pt x="0" y="66"/>
                    </a:moveTo>
                    <a:lnTo>
                      <a:pt x="78" y="36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124080" y="4854240"/>
                <a:ext cx="238320" cy="114120"/>
              </a:xfrm>
              <a:custGeom>
                <a:avLst/>
                <a:gdLst/>
                <a:ahLst/>
                <a:rect l="l" t="t" r="r" b="b"/>
                <a:pathLst>
                  <a:path w="150" h="72">
                    <a:moveTo>
                      <a:pt x="0" y="72"/>
                    </a:moveTo>
                    <a:lnTo>
                      <a:pt x="72" y="36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3362400" y="4711320"/>
                <a:ext cx="247680" cy="142560"/>
              </a:xfrm>
              <a:custGeom>
                <a:avLst/>
                <a:gdLst/>
                <a:ahLst/>
                <a:rect l="l" t="t" r="r" b="b"/>
                <a:pathLst>
                  <a:path w="156" h="90">
                    <a:moveTo>
                      <a:pt x="0" y="90"/>
                    </a:moveTo>
                    <a:lnTo>
                      <a:pt x="78" y="48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 flipV="1">
                <a:off x="3610080" y="4559040"/>
                <a:ext cx="237960" cy="15192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 flipV="1">
                <a:off x="3848040" y="4396680"/>
                <a:ext cx="247680" cy="16164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 flipV="1">
                <a:off x="4095720" y="4234680"/>
                <a:ext cx="237960" cy="16164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4333680" y="4063680"/>
                <a:ext cx="247680" cy="171000"/>
              </a:xfrm>
              <a:custGeom>
                <a:avLst/>
                <a:gdLst/>
                <a:ahLst/>
                <a:rect l="l" t="t" r="r" b="b"/>
                <a:pathLst>
                  <a:path w="156" h="108">
                    <a:moveTo>
                      <a:pt x="0" y="108"/>
                    </a:moveTo>
                    <a:lnTo>
                      <a:pt x="78" y="54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 flipV="1">
                <a:off x="4581360" y="3899880"/>
                <a:ext cx="239760" cy="16308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 flipV="1">
                <a:off x="4821120" y="3737880"/>
                <a:ext cx="247680" cy="16164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 flipV="1">
                <a:off x="5068800" y="3575880"/>
                <a:ext cx="237960" cy="16164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5306760" y="3404880"/>
                <a:ext cx="247680" cy="171000"/>
              </a:xfrm>
              <a:custGeom>
                <a:avLst/>
                <a:gdLst/>
                <a:ahLst/>
                <a:rect l="l" t="t" r="r" b="b"/>
                <a:pathLst>
                  <a:path w="156" h="108">
                    <a:moveTo>
                      <a:pt x="0" y="108"/>
                    </a:moveTo>
                    <a:lnTo>
                      <a:pt x="78" y="54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 flipV="1">
                <a:off x="5554440" y="3242520"/>
                <a:ext cx="238320" cy="16164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 flipV="1">
                <a:off x="5792760" y="3081240"/>
                <a:ext cx="247680" cy="16128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 flipV="1">
                <a:off x="6040440" y="2918880"/>
                <a:ext cx="237960" cy="16164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2638440" y="5140080"/>
                <a:ext cx="237960" cy="47160"/>
              </a:xfrm>
              <a:custGeom>
                <a:avLst/>
                <a:gdLst/>
                <a:ahLst/>
                <a:rect l="l" t="t" r="r" b="b"/>
                <a:pathLst>
                  <a:path w="150" h="30">
                    <a:moveTo>
                      <a:pt x="0" y="30"/>
                    </a:moveTo>
                    <a:lnTo>
                      <a:pt x="72" y="18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2876400" y="5044680"/>
                <a:ext cx="247680" cy="95040"/>
              </a:xfrm>
              <a:custGeom>
                <a:avLst/>
                <a:gdLst/>
                <a:ahLst/>
                <a:rect l="l" t="t" r="r" b="b"/>
                <a:pathLst>
                  <a:path w="156" h="60">
                    <a:moveTo>
                      <a:pt x="0" y="60"/>
                    </a:moveTo>
                    <a:lnTo>
                      <a:pt x="78" y="36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3124080" y="4901760"/>
                <a:ext cx="238320" cy="142560"/>
              </a:xfrm>
              <a:custGeom>
                <a:avLst/>
                <a:gdLst/>
                <a:ahLst/>
                <a:rect l="l" t="t" r="r" b="b"/>
                <a:pathLst>
                  <a:path w="150" h="90">
                    <a:moveTo>
                      <a:pt x="0" y="90"/>
                    </a:moveTo>
                    <a:lnTo>
                      <a:pt x="72" y="48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3362400" y="4730400"/>
                <a:ext cx="247680" cy="171000"/>
              </a:xfrm>
              <a:custGeom>
                <a:avLst/>
                <a:gdLst/>
                <a:ahLst/>
                <a:rect l="l" t="t" r="r" b="b"/>
                <a:pathLst>
                  <a:path w="156" h="108">
                    <a:moveTo>
                      <a:pt x="0" y="108"/>
                    </a:moveTo>
                    <a:lnTo>
                      <a:pt x="78" y="54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3610080" y="4520880"/>
                <a:ext cx="237960" cy="209160"/>
              </a:xfrm>
              <a:custGeom>
                <a:avLst/>
                <a:gdLst/>
                <a:ahLst/>
                <a:rect l="l" t="t" r="r" b="b"/>
                <a:pathLst>
                  <a:path w="150" h="132">
                    <a:moveTo>
                      <a:pt x="0" y="132"/>
                    </a:moveTo>
                    <a:lnTo>
                      <a:pt x="72" y="66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flipV="1">
                <a:off x="3848040" y="4321080"/>
                <a:ext cx="247680" cy="1994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4095720" y="4120920"/>
                <a:ext cx="237960" cy="199800"/>
              </a:xfrm>
              <a:custGeom>
                <a:avLst/>
                <a:gdLst/>
                <a:ahLst/>
                <a:rect l="l" t="t" r="r" b="b"/>
                <a:pathLst>
                  <a:path w="150" h="126">
                    <a:moveTo>
                      <a:pt x="0" y="126"/>
                    </a:moveTo>
                    <a:lnTo>
                      <a:pt x="72" y="60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4333680" y="3947760"/>
                <a:ext cx="247680" cy="172800"/>
              </a:xfrm>
              <a:custGeom>
                <a:avLst/>
                <a:gdLst/>
                <a:ahLst/>
                <a:rect l="l" t="t" r="r" b="b"/>
                <a:pathLst>
                  <a:path w="156" h="109">
                    <a:moveTo>
                      <a:pt x="0" y="109"/>
                    </a:moveTo>
                    <a:lnTo>
                      <a:pt x="78" y="55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 flipV="1">
                <a:off x="4581360" y="3785400"/>
                <a:ext cx="239760" cy="1616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flipV="1">
                <a:off x="4821120" y="3633480"/>
                <a:ext cx="247680" cy="1519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 flipV="1">
                <a:off x="5068800" y="3481200"/>
                <a:ext cx="237960" cy="1519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5306760" y="3338280"/>
                <a:ext cx="247680" cy="142560"/>
              </a:xfrm>
              <a:custGeom>
                <a:avLst/>
                <a:gdLst/>
                <a:ahLst/>
                <a:rect l="l" t="t" r="r" b="b"/>
                <a:pathLst>
                  <a:path w="156" h="90">
                    <a:moveTo>
                      <a:pt x="0" y="90"/>
                    </a:moveTo>
                    <a:lnTo>
                      <a:pt x="78" y="48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5554440" y="3176280"/>
                <a:ext cx="238320" cy="161640"/>
              </a:xfrm>
              <a:custGeom>
                <a:avLst/>
                <a:gdLst/>
                <a:ahLst/>
                <a:rect l="l" t="t" r="r" b="b"/>
                <a:pathLst>
                  <a:path w="150" h="102">
                    <a:moveTo>
                      <a:pt x="0" y="102"/>
                    </a:moveTo>
                    <a:lnTo>
                      <a:pt x="72" y="54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 flipV="1">
                <a:off x="5792760" y="3013920"/>
                <a:ext cx="247680" cy="1616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 flipV="1">
                <a:off x="6040440" y="2852640"/>
                <a:ext cx="237960" cy="1612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2638440" y="5168520"/>
                <a:ext cx="237960" cy="28440"/>
              </a:xfrm>
              <a:custGeom>
                <a:avLst/>
                <a:gdLst/>
                <a:ahLst/>
                <a:rect l="l" t="t" r="r" b="b"/>
                <a:pathLst>
                  <a:path w="150" h="18">
                    <a:moveTo>
                      <a:pt x="0" y="18"/>
                    </a:moveTo>
                    <a:lnTo>
                      <a:pt x="72" y="12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2876400" y="5092560"/>
                <a:ext cx="247680" cy="75600"/>
              </a:xfrm>
              <a:custGeom>
                <a:avLst/>
                <a:gdLst/>
                <a:ahLst/>
                <a:rect l="l" t="t" r="r" b="b"/>
                <a:pathLst>
                  <a:path w="156" h="48">
                    <a:moveTo>
                      <a:pt x="0" y="48"/>
                    </a:moveTo>
                    <a:lnTo>
                      <a:pt x="78" y="30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124080" y="4949640"/>
                <a:ext cx="238320" cy="142560"/>
              </a:xfrm>
              <a:custGeom>
                <a:avLst/>
                <a:gdLst/>
                <a:ahLst/>
                <a:rect l="l" t="t" r="r" b="b"/>
                <a:pathLst>
                  <a:path w="150" h="90">
                    <a:moveTo>
                      <a:pt x="0" y="90"/>
                    </a:moveTo>
                    <a:lnTo>
                      <a:pt x="72" y="48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362400" y="4749480"/>
                <a:ext cx="247680" cy="199800"/>
              </a:xfrm>
              <a:custGeom>
                <a:avLst/>
                <a:gdLst/>
                <a:ahLst/>
                <a:rect l="l" t="t" r="r" b="b"/>
                <a:pathLst>
                  <a:path w="156" h="126">
                    <a:moveTo>
                      <a:pt x="0" y="126"/>
                    </a:moveTo>
                    <a:lnTo>
                      <a:pt x="78" y="66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3610080" y="4501800"/>
                <a:ext cx="237960" cy="247320"/>
              </a:xfrm>
              <a:custGeom>
                <a:avLst/>
                <a:gdLst/>
                <a:ahLst/>
                <a:rect l="l" t="t" r="r" b="b"/>
                <a:pathLst>
                  <a:path w="150" h="156">
                    <a:moveTo>
                      <a:pt x="0" y="156"/>
                    </a:moveTo>
                    <a:lnTo>
                      <a:pt x="72" y="78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848040" y="4254120"/>
                <a:ext cx="247680" cy="247320"/>
              </a:xfrm>
              <a:custGeom>
                <a:avLst/>
                <a:gdLst/>
                <a:ahLst/>
                <a:rect l="l" t="t" r="r" b="b"/>
                <a:pathLst>
                  <a:path w="156" h="156">
                    <a:moveTo>
                      <a:pt x="0" y="156"/>
                    </a:moveTo>
                    <a:lnTo>
                      <a:pt x="78" y="78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4095720" y="4035240"/>
                <a:ext cx="237960" cy="218520"/>
              </a:xfrm>
              <a:custGeom>
                <a:avLst/>
                <a:gdLst/>
                <a:ahLst/>
                <a:rect l="l" t="t" r="r" b="b"/>
                <a:pathLst>
                  <a:path w="150" h="138">
                    <a:moveTo>
                      <a:pt x="0" y="138"/>
                    </a:moveTo>
                    <a:lnTo>
                      <a:pt x="72" y="66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4333680" y="3862080"/>
                <a:ext cx="247680" cy="172800"/>
              </a:xfrm>
              <a:custGeom>
                <a:avLst/>
                <a:gdLst/>
                <a:ahLst/>
                <a:rect l="l" t="t" r="r" b="b"/>
                <a:pathLst>
                  <a:path w="156" h="109">
                    <a:moveTo>
                      <a:pt x="0" y="109"/>
                    </a:moveTo>
                    <a:lnTo>
                      <a:pt x="78" y="54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4581360" y="3719160"/>
                <a:ext cx="239760" cy="142560"/>
              </a:xfrm>
              <a:custGeom>
                <a:avLst/>
                <a:gdLst/>
                <a:ahLst/>
                <a:rect l="l" t="t" r="r" b="b"/>
                <a:pathLst>
                  <a:path w="151" h="90">
                    <a:moveTo>
                      <a:pt x="0" y="90"/>
                    </a:moveTo>
                    <a:lnTo>
                      <a:pt x="73" y="42"/>
                    </a:lnTo>
                    <a:lnTo>
                      <a:pt x="151" y="0"/>
                    </a:lnTo>
                  </a:path>
                </a:pathLst>
              </a:custGeom>
              <a:noFill/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4821120" y="3595320"/>
                <a:ext cx="247680" cy="123480"/>
              </a:xfrm>
              <a:custGeom>
                <a:avLst/>
                <a:gdLst/>
                <a:ahLst/>
                <a:rect l="l" t="t" r="r" b="b"/>
                <a:pathLst>
                  <a:path w="156" h="78">
                    <a:moveTo>
                      <a:pt x="0" y="78"/>
                    </a:moveTo>
                    <a:lnTo>
                      <a:pt x="78" y="36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 flipV="1">
                <a:off x="5068800" y="3471120"/>
                <a:ext cx="237960" cy="1234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 flipV="1">
                <a:off x="5306760" y="3337920"/>
                <a:ext cx="247680" cy="1328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 flipV="1">
                <a:off x="5554440" y="3186000"/>
                <a:ext cx="238320" cy="1519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5792760" y="3014280"/>
                <a:ext cx="247680" cy="171360"/>
              </a:xfrm>
              <a:custGeom>
                <a:avLst/>
                <a:gdLst/>
                <a:ahLst/>
                <a:rect l="l" t="t" r="r" b="b"/>
                <a:pathLst>
                  <a:path w="156" h="108">
                    <a:moveTo>
                      <a:pt x="0" y="108"/>
                    </a:moveTo>
                    <a:lnTo>
                      <a:pt x="78" y="54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 flipV="1">
                <a:off x="6040440" y="2833200"/>
                <a:ext cx="237960" cy="1803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2638440" y="5187600"/>
                <a:ext cx="237960" cy="18720"/>
              </a:xfrm>
              <a:custGeom>
                <a:avLst/>
                <a:gdLst/>
                <a:ahLst/>
                <a:rect l="l" t="t" r="r" b="b"/>
                <a:pathLst>
                  <a:path w="150" h="12">
                    <a:moveTo>
                      <a:pt x="0" y="12"/>
                    </a:moveTo>
                    <a:lnTo>
                      <a:pt x="72" y="6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2876400" y="5130360"/>
                <a:ext cx="247680" cy="56880"/>
              </a:xfrm>
              <a:custGeom>
                <a:avLst/>
                <a:gdLst/>
                <a:ahLst/>
                <a:rect l="l" t="t" r="r" b="b"/>
                <a:pathLst>
                  <a:path w="156" h="36">
                    <a:moveTo>
                      <a:pt x="0" y="36"/>
                    </a:moveTo>
                    <a:lnTo>
                      <a:pt x="78" y="24"/>
                    </a:lnTo>
                    <a:lnTo>
                      <a:pt x="120" y="12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3124080" y="4987800"/>
                <a:ext cx="238320" cy="142200"/>
              </a:xfrm>
              <a:custGeom>
                <a:avLst/>
                <a:gdLst/>
                <a:ahLst/>
                <a:rect l="l" t="t" r="r" b="b"/>
                <a:pathLst>
                  <a:path w="150" h="90">
                    <a:moveTo>
                      <a:pt x="0" y="90"/>
                    </a:moveTo>
                    <a:lnTo>
                      <a:pt x="72" y="54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3362400" y="4768560"/>
                <a:ext cx="247680" cy="218880"/>
              </a:xfrm>
              <a:custGeom>
                <a:avLst/>
                <a:gdLst/>
                <a:ahLst/>
                <a:rect l="l" t="t" r="r" b="b"/>
                <a:pathLst>
                  <a:path w="156" h="138">
                    <a:moveTo>
                      <a:pt x="0" y="138"/>
                    </a:moveTo>
                    <a:lnTo>
                      <a:pt x="78" y="72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3610080" y="4482720"/>
                <a:ext cx="237960" cy="285480"/>
              </a:xfrm>
              <a:custGeom>
                <a:avLst/>
                <a:gdLst/>
                <a:ahLst/>
                <a:rect l="l" t="t" r="r" b="b"/>
                <a:pathLst>
                  <a:path w="150" h="180">
                    <a:moveTo>
                      <a:pt x="0" y="180"/>
                    </a:moveTo>
                    <a:lnTo>
                      <a:pt x="36" y="138"/>
                    </a:lnTo>
                    <a:lnTo>
                      <a:pt x="72" y="90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3848040" y="4206600"/>
                <a:ext cx="247680" cy="275760"/>
              </a:xfrm>
              <a:custGeom>
                <a:avLst/>
                <a:gdLst/>
                <a:ahLst/>
                <a:rect l="l" t="t" r="r" b="b"/>
                <a:pathLst>
                  <a:path w="156" h="174">
                    <a:moveTo>
                      <a:pt x="0" y="174"/>
                    </a:moveTo>
                    <a:lnTo>
                      <a:pt x="78" y="84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4095720" y="3966840"/>
                <a:ext cx="237960" cy="239400"/>
              </a:xfrm>
              <a:custGeom>
                <a:avLst/>
                <a:gdLst/>
                <a:ahLst/>
                <a:rect l="l" t="t" r="r" b="b"/>
                <a:pathLst>
                  <a:path w="150" h="151">
                    <a:moveTo>
                      <a:pt x="0" y="151"/>
                    </a:moveTo>
                    <a:lnTo>
                      <a:pt x="72" y="73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4333680" y="3795480"/>
                <a:ext cx="247680" cy="171000"/>
              </a:xfrm>
              <a:custGeom>
                <a:avLst/>
                <a:gdLst/>
                <a:ahLst/>
                <a:rect l="l" t="t" r="r" b="b"/>
                <a:pathLst>
                  <a:path w="156" h="108">
                    <a:moveTo>
                      <a:pt x="0" y="108"/>
                    </a:moveTo>
                    <a:lnTo>
                      <a:pt x="78" y="48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4581360" y="3671640"/>
                <a:ext cx="239760" cy="123480"/>
              </a:xfrm>
              <a:custGeom>
                <a:avLst/>
                <a:gdLst/>
                <a:ahLst/>
                <a:rect l="l" t="t" r="r" b="b"/>
                <a:pathLst>
                  <a:path w="151" h="78">
                    <a:moveTo>
                      <a:pt x="0" y="78"/>
                    </a:moveTo>
                    <a:lnTo>
                      <a:pt x="73" y="36"/>
                    </a:lnTo>
                    <a:lnTo>
                      <a:pt x="151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4821120" y="3576240"/>
                <a:ext cx="247680" cy="95040"/>
              </a:xfrm>
              <a:custGeom>
                <a:avLst/>
                <a:gdLst/>
                <a:ahLst/>
                <a:rect l="l" t="t" r="r" b="b"/>
                <a:pathLst>
                  <a:path w="156" h="60">
                    <a:moveTo>
                      <a:pt x="0" y="60"/>
                    </a:moveTo>
                    <a:lnTo>
                      <a:pt x="78" y="30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5068800" y="3481200"/>
                <a:ext cx="237960" cy="94680"/>
              </a:xfrm>
              <a:custGeom>
                <a:avLst/>
                <a:gdLst/>
                <a:ahLst/>
                <a:rect l="l" t="t" r="r" b="b"/>
                <a:pathLst>
                  <a:path w="150" h="60">
                    <a:moveTo>
                      <a:pt x="0" y="60"/>
                    </a:moveTo>
                    <a:lnTo>
                      <a:pt x="72" y="30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5306760" y="3366720"/>
                <a:ext cx="247680" cy="114120"/>
              </a:xfrm>
              <a:custGeom>
                <a:avLst/>
                <a:gdLst/>
                <a:ahLst/>
                <a:rect l="l" t="t" r="r" b="b"/>
                <a:pathLst>
                  <a:path w="156" h="72">
                    <a:moveTo>
                      <a:pt x="0" y="72"/>
                    </a:moveTo>
                    <a:lnTo>
                      <a:pt x="78" y="36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5554440" y="3214440"/>
                <a:ext cx="238320" cy="151920"/>
              </a:xfrm>
              <a:custGeom>
                <a:avLst/>
                <a:gdLst/>
                <a:ahLst/>
                <a:rect l="l" t="t" r="r" b="b"/>
                <a:pathLst>
                  <a:path w="150" h="96">
                    <a:moveTo>
                      <a:pt x="0" y="96"/>
                    </a:moveTo>
                    <a:lnTo>
                      <a:pt x="72" y="48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5792760" y="3033360"/>
                <a:ext cx="247680" cy="180720"/>
              </a:xfrm>
              <a:custGeom>
                <a:avLst/>
                <a:gdLst/>
                <a:ahLst/>
                <a:rect l="l" t="t" r="r" b="b"/>
                <a:pathLst>
                  <a:path w="156" h="114">
                    <a:moveTo>
                      <a:pt x="0" y="114"/>
                    </a:moveTo>
                    <a:lnTo>
                      <a:pt x="78" y="60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6040440" y="2823840"/>
                <a:ext cx="237960" cy="209160"/>
              </a:xfrm>
              <a:custGeom>
                <a:avLst/>
                <a:gdLst/>
                <a:ahLst/>
                <a:rect l="l" t="t" r="r" b="b"/>
                <a:pathLst>
                  <a:path w="150" h="132">
                    <a:moveTo>
                      <a:pt x="0" y="132"/>
                    </a:moveTo>
                    <a:lnTo>
                      <a:pt x="78" y="66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2638440" y="5197320"/>
                <a:ext cx="237960" cy="9000"/>
              </a:xfrm>
              <a:custGeom>
                <a:avLst/>
                <a:gdLst/>
                <a:ahLst/>
                <a:rect l="l" t="t" r="r" b="b"/>
                <a:pathLst>
                  <a:path w="150" h="6">
                    <a:moveTo>
                      <a:pt x="0" y="6"/>
                    </a:moveTo>
                    <a:lnTo>
                      <a:pt x="72" y="6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2876400" y="5149440"/>
                <a:ext cx="247680" cy="47520"/>
              </a:xfrm>
              <a:custGeom>
                <a:avLst/>
                <a:gdLst/>
                <a:ahLst/>
                <a:rect l="l" t="t" r="r" b="b"/>
                <a:pathLst>
                  <a:path w="156" h="30">
                    <a:moveTo>
                      <a:pt x="0" y="30"/>
                    </a:moveTo>
                    <a:lnTo>
                      <a:pt x="78" y="18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3124080" y="5025600"/>
                <a:ext cx="238320" cy="123480"/>
              </a:xfrm>
              <a:custGeom>
                <a:avLst/>
                <a:gdLst/>
                <a:ahLst/>
                <a:rect l="l" t="t" r="r" b="b"/>
                <a:pathLst>
                  <a:path w="150" h="78">
                    <a:moveTo>
                      <a:pt x="0" y="78"/>
                    </a:moveTo>
                    <a:lnTo>
                      <a:pt x="72" y="48"/>
                    </a:lnTo>
                    <a:lnTo>
                      <a:pt x="114" y="24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3362400" y="4787640"/>
                <a:ext cx="247680" cy="237600"/>
              </a:xfrm>
              <a:custGeom>
                <a:avLst/>
                <a:gdLst/>
                <a:ahLst/>
                <a:rect l="l" t="t" r="r" b="b"/>
                <a:pathLst>
                  <a:path w="156" h="150">
                    <a:moveTo>
                      <a:pt x="0" y="150"/>
                    </a:moveTo>
                    <a:lnTo>
                      <a:pt x="36" y="120"/>
                    </a:lnTo>
                    <a:lnTo>
                      <a:pt x="78" y="84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3610080" y="4473360"/>
                <a:ext cx="237960" cy="313920"/>
              </a:xfrm>
              <a:custGeom>
                <a:avLst/>
                <a:gdLst/>
                <a:ahLst/>
                <a:rect l="l" t="t" r="r" b="b"/>
                <a:pathLst>
                  <a:path w="150" h="198">
                    <a:moveTo>
                      <a:pt x="0" y="198"/>
                    </a:moveTo>
                    <a:lnTo>
                      <a:pt x="36" y="150"/>
                    </a:lnTo>
                    <a:lnTo>
                      <a:pt x="72" y="102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3848040" y="4168440"/>
                <a:ext cx="247680" cy="304560"/>
              </a:xfrm>
              <a:custGeom>
                <a:avLst/>
                <a:gdLst/>
                <a:ahLst/>
                <a:rect l="l" t="t" r="r" b="b"/>
                <a:pathLst>
                  <a:path w="156" h="192">
                    <a:moveTo>
                      <a:pt x="0" y="192"/>
                    </a:moveTo>
                    <a:lnTo>
                      <a:pt x="78" y="96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4095720" y="3909600"/>
                <a:ext cx="237960" cy="258480"/>
              </a:xfrm>
              <a:custGeom>
                <a:avLst/>
                <a:gdLst/>
                <a:ahLst/>
                <a:rect l="l" t="t" r="r" b="b"/>
                <a:pathLst>
                  <a:path w="150" h="163">
                    <a:moveTo>
                      <a:pt x="0" y="163"/>
                    </a:moveTo>
                    <a:lnTo>
                      <a:pt x="72" y="79"/>
                    </a:lnTo>
                    <a:lnTo>
                      <a:pt x="114" y="36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4333680" y="3747960"/>
                <a:ext cx="247680" cy="161280"/>
              </a:xfrm>
              <a:custGeom>
                <a:avLst/>
                <a:gdLst/>
                <a:ahLst/>
                <a:rect l="l" t="t" r="r" b="b"/>
                <a:pathLst>
                  <a:path w="156" h="102">
                    <a:moveTo>
                      <a:pt x="0" y="102"/>
                    </a:moveTo>
                    <a:lnTo>
                      <a:pt x="36" y="72"/>
                    </a:lnTo>
                    <a:lnTo>
                      <a:pt x="78" y="42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4581360" y="3643200"/>
                <a:ext cx="239760" cy="104400"/>
              </a:xfrm>
              <a:custGeom>
                <a:avLst/>
                <a:gdLst/>
                <a:ahLst/>
                <a:rect l="l" t="t" r="r" b="b"/>
                <a:pathLst>
                  <a:path w="151" h="66">
                    <a:moveTo>
                      <a:pt x="0" y="66"/>
                    </a:moveTo>
                    <a:lnTo>
                      <a:pt x="73" y="30"/>
                    </a:lnTo>
                    <a:lnTo>
                      <a:pt x="151" y="0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4821120" y="3576240"/>
                <a:ext cx="247680" cy="6660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0" y="42"/>
                    </a:moveTo>
                    <a:lnTo>
                      <a:pt x="78" y="18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5068800" y="3500280"/>
                <a:ext cx="237960" cy="75600"/>
              </a:xfrm>
              <a:custGeom>
                <a:avLst/>
                <a:gdLst/>
                <a:ahLst/>
                <a:rect l="l" t="t" r="r" b="b"/>
                <a:pathLst>
                  <a:path w="150" h="48">
                    <a:moveTo>
                      <a:pt x="0" y="48"/>
                    </a:moveTo>
                    <a:lnTo>
                      <a:pt x="72" y="24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5306760" y="3395520"/>
                <a:ext cx="247680" cy="104400"/>
              </a:xfrm>
              <a:custGeom>
                <a:avLst/>
                <a:gdLst/>
                <a:ahLst/>
                <a:rect l="l" t="t" r="r" b="b"/>
                <a:pathLst>
                  <a:path w="156" h="66">
                    <a:moveTo>
                      <a:pt x="0" y="66"/>
                    </a:moveTo>
                    <a:lnTo>
                      <a:pt x="78" y="36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5554440" y="3242880"/>
                <a:ext cx="238320" cy="152280"/>
              </a:xfrm>
              <a:custGeom>
                <a:avLst/>
                <a:gdLst/>
                <a:ahLst/>
                <a:rect l="l" t="t" r="r" b="b"/>
                <a:pathLst>
                  <a:path w="150" h="96">
                    <a:moveTo>
                      <a:pt x="0" y="96"/>
                    </a:moveTo>
                    <a:lnTo>
                      <a:pt x="72" y="54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5792760" y="3043080"/>
                <a:ext cx="247680" cy="199440"/>
              </a:xfrm>
              <a:custGeom>
                <a:avLst/>
                <a:gdLst/>
                <a:ahLst/>
                <a:rect l="l" t="t" r="r" b="b"/>
                <a:pathLst>
                  <a:path w="156" h="126">
                    <a:moveTo>
                      <a:pt x="0" y="126"/>
                    </a:moveTo>
                    <a:lnTo>
                      <a:pt x="78" y="66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6040440" y="2814480"/>
                <a:ext cx="237960" cy="228240"/>
              </a:xfrm>
              <a:custGeom>
                <a:avLst/>
                <a:gdLst/>
                <a:ahLst/>
                <a:rect l="l" t="t" r="r" b="b"/>
                <a:pathLst>
                  <a:path w="150" h="144">
                    <a:moveTo>
                      <a:pt x="0" y="144"/>
                    </a:moveTo>
                    <a:lnTo>
                      <a:pt x="78" y="72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2638440" y="5197320"/>
                <a:ext cx="237960" cy="9000"/>
              </a:xfrm>
              <a:custGeom>
                <a:avLst/>
                <a:gdLst/>
                <a:ahLst/>
                <a:rect l="l" t="t" r="r" b="b"/>
                <a:pathLst>
                  <a:path w="150" h="6">
                    <a:moveTo>
                      <a:pt x="0" y="6"/>
                    </a:moveTo>
                    <a:lnTo>
                      <a:pt x="72" y="6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2876400" y="5168520"/>
                <a:ext cx="247680" cy="28440"/>
              </a:xfrm>
              <a:custGeom>
                <a:avLst/>
                <a:gdLst/>
                <a:ahLst/>
                <a:rect l="l" t="t" r="r" b="b"/>
                <a:pathLst>
                  <a:path w="156" h="18">
                    <a:moveTo>
                      <a:pt x="0" y="18"/>
                    </a:moveTo>
                    <a:lnTo>
                      <a:pt x="78" y="12"/>
                    </a:lnTo>
                    <a:lnTo>
                      <a:pt x="120" y="6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3124080" y="5054400"/>
                <a:ext cx="238320" cy="113760"/>
              </a:xfrm>
              <a:custGeom>
                <a:avLst/>
                <a:gdLst/>
                <a:ahLst/>
                <a:rect l="l" t="t" r="r" b="b"/>
                <a:pathLst>
                  <a:path w="150" h="72">
                    <a:moveTo>
                      <a:pt x="0" y="72"/>
                    </a:moveTo>
                    <a:lnTo>
                      <a:pt x="72" y="42"/>
                    </a:lnTo>
                    <a:lnTo>
                      <a:pt x="114" y="24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3362400" y="4806720"/>
                <a:ext cx="247680" cy="247320"/>
              </a:xfrm>
              <a:custGeom>
                <a:avLst/>
                <a:gdLst/>
                <a:ahLst/>
                <a:rect l="l" t="t" r="r" b="b"/>
                <a:pathLst>
                  <a:path w="156" h="156">
                    <a:moveTo>
                      <a:pt x="0" y="156"/>
                    </a:moveTo>
                    <a:lnTo>
                      <a:pt x="36" y="126"/>
                    </a:lnTo>
                    <a:lnTo>
                      <a:pt x="78" y="84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3610080" y="4473360"/>
                <a:ext cx="237960" cy="333000"/>
              </a:xfrm>
              <a:custGeom>
                <a:avLst/>
                <a:gdLst/>
                <a:ahLst/>
                <a:rect l="l" t="t" r="r" b="b"/>
                <a:pathLst>
                  <a:path w="150" h="210">
                    <a:moveTo>
                      <a:pt x="0" y="210"/>
                    </a:moveTo>
                    <a:lnTo>
                      <a:pt x="36" y="162"/>
                    </a:lnTo>
                    <a:lnTo>
                      <a:pt x="72" y="108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3848040" y="4130280"/>
                <a:ext cx="247680" cy="342720"/>
              </a:xfrm>
              <a:custGeom>
                <a:avLst/>
                <a:gdLst/>
                <a:ahLst/>
                <a:rect l="l" t="t" r="r" b="b"/>
                <a:pathLst>
                  <a:path w="156" h="216">
                    <a:moveTo>
                      <a:pt x="0" y="216"/>
                    </a:moveTo>
                    <a:lnTo>
                      <a:pt x="78" y="108"/>
                    </a:lnTo>
                    <a:lnTo>
                      <a:pt x="120" y="48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4095720" y="3871800"/>
                <a:ext cx="237960" cy="258120"/>
              </a:xfrm>
              <a:custGeom>
                <a:avLst/>
                <a:gdLst/>
                <a:ahLst/>
                <a:rect l="l" t="t" r="r" b="b"/>
                <a:pathLst>
                  <a:path w="150" h="163">
                    <a:moveTo>
                      <a:pt x="0" y="163"/>
                    </a:moveTo>
                    <a:lnTo>
                      <a:pt x="72" y="73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4333680" y="3709800"/>
                <a:ext cx="247680" cy="161640"/>
              </a:xfrm>
              <a:custGeom>
                <a:avLst/>
                <a:gdLst/>
                <a:ahLst/>
                <a:rect l="l" t="t" r="r" b="b"/>
                <a:pathLst>
                  <a:path w="156" h="102">
                    <a:moveTo>
                      <a:pt x="0" y="102"/>
                    </a:moveTo>
                    <a:lnTo>
                      <a:pt x="78" y="42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4581360" y="3624120"/>
                <a:ext cx="239760" cy="85320"/>
              </a:xfrm>
              <a:custGeom>
                <a:avLst/>
                <a:gdLst/>
                <a:ahLst/>
                <a:rect l="l" t="t" r="r" b="b"/>
                <a:pathLst>
                  <a:path w="151" h="54">
                    <a:moveTo>
                      <a:pt x="0" y="54"/>
                    </a:moveTo>
                    <a:lnTo>
                      <a:pt x="37" y="36"/>
                    </a:lnTo>
                    <a:lnTo>
                      <a:pt x="73" y="24"/>
                    </a:lnTo>
                    <a:lnTo>
                      <a:pt x="151" y="0"/>
                    </a:lnTo>
                  </a:path>
                </a:pathLst>
              </a:cu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4821120" y="3566880"/>
                <a:ext cx="247680" cy="56880"/>
              </a:xfrm>
              <a:custGeom>
                <a:avLst/>
                <a:gdLst/>
                <a:ahLst/>
                <a:rect l="l" t="t" r="r" b="b"/>
                <a:pathLst>
                  <a:path w="156" h="36">
                    <a:moveTo>
                      <a:pt x="0" y="36"/>
                    </a:moveTo>
                    <a:lnTo>
                      <a:pt x="78" y="18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5068800" y="3519360"/>
                <a:ext cx="237960" cy="47160"/>
              </a:xfrm>
              <a:custGeom>
                <a:avLst/>
                <a:gdLst/>
                <a:ahLst/>
                <a:rect l="l" t="t" r="r" b="b"/>
                <a:pathLst>
                  <a:path w="150" h="30">
                    <a:moveTo>
                      <a:pt x="0" y="30"/>
                    </a:moveTo>
                    <a:lnTo>
                      <a:pt x="72" y="18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5306760" y="3423960"/>
                <a:ext cx="247680" cy="95040"/>
              </a:xfrm>
              <a:custGeom>
                <a:avLst/>
                <a:gdLst/>
                <a:ahLst/>
                <a:rect l="l" t="t" r="r" b="b"/>
                <a:pathLst>
                  <a:path w="156" h="60">
                    <a:moveTo>
                      <a:pt x="0" y="60"/>
                    </a:moveTo>
                    <a:lnTo>
                      <a:pt x="78" y="36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5554440" y="3271680"/>
                <a:ext cx="238320" cy="151920"/>
              </a:xfrm>
              <a:custGeom>
                <a:avLst/>
                <a:gdLst/>
                <a:ahLst/>
                <a:rect l="l" t="t" r="r" b="b"/>
                <a:pathLst>
                  <a:path w="150" h="96">
                    <a:moveTo>
                      <a:pt x="0" y="96"/>
                    </a:moveTo>
                    <a:lnTo>
                      <a:pt x="72" y="54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5792760" y="3062160"/>
                <a:ext cx="247680" cy="209160"/>
              </a:xfrm>
              <a:custGeom>
                <a:avLst/>
                <a:gdLst/>
                <a:ahLst/>
                <a:rect l="l" t="t" r="r" b="b"/>
                <a:pathLst>
                  <a:path w="156" h="132">
                    <a:moveTo>
                      <a:pt x="0" y="132"/>
                    </a:moveTo>
                    <a:lnTo>
                      <a:pt x="78" y="72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6040440" y="2814480"/>
                <a:ext cx="237960" cy="247320"/>
              </a:xfrm>
              <a:custGeom>
                <a:avLst/>
                <a:gdLst/>
                <a:ahLst/>
                <a:rect l="l" t="t" r="r" b="b"/>
                <a:pathLst>
                  <a:path w="150" h="156">
                    <a:moveTo>
                      <a:pt x="0" y="156"/>
                    </a:moveTo>
                    <a:lnTo>
                      <a:pt x="78" y="78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2638440" y="5197320"/>
                <a:ext cx="237960" cy="9000"/>
              </a:xfrm>
              <a:custGeom>
                <a:avLst/>
                <a:gdLst/>
                <a:ahLst/>
                <a:rect l="l" t="t" r="r" b="b"/>
                <a:pathLst>
                  <a:path w="150" h="6">
                    <a:moveTo>
                      <a:pt x="0" y="6"/>
                    </a:moveTo>
                    <a:lnTo>
                      <a:pt x="72" y="6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2876400" y="5168520"/>
                <a:ext cx="247680" cy="28440"/>
              </a:xfrm>
              <a:custGeom>
                <a:avLst/>
                <a:gdLst/>
                <a:ahLst/>
                <a:rect l="l" t="t" r="r" b="b"/>
                <a:pathLst>
                  <a:path w="156" h="18">
                    <a:moveTo>
                      <a:pt x="0" y="18"/>
                    </a:moveTo>
                    <a:lnTo>
                      <a:pt x="78" y="12"/>
                    </a:lnTo>
                    <a:lnTo>
                      <a:pt x="120" y="6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3124080" y="5054400"/>
                <a:ext cx="238320" cy="113760"/>
              </a:xfrm>
              <a:custGeom>
                <a:avLst/>
                <a:gdLst/>
                <a:ahLst/>
                <a:rect l="l" t="t" r="r" b="b"/>
                <a:pathLst>
                  <a:path w="150" h="72">
                    <a:moveTo>
                      <a:pt x="0" y="72"/>
                    </a:moveTo>
                    <a:lnTo>
                      <a:pt x="72" y="42"/>
                    </a:lnTo>
                    <a:lnTo>
                      <a:pt x="114" y="24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3362400" y="4806720"/>
                <a:ext cx="247680" cy="247320"/>
              </a:xfrm>
              <a:custGeom>
                <a:avLst/>
                <a:gdLst/>
                <a:ahLst/>
                <a:rect l="l" t="t" r="r" b="b"/>
                <a:pathLst>
                  <a:path w="156" h="156">
                    <a:moveTo>
                      <a:pt x="0" y="156"/>
                    </a:moveTo>
                    <a:lnTo>
                      <a:pt x="36" y="126"/>
                    </a:lnTo>
                    <a:lnTo>
                      <a:pt x="78" y="84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3610080" y="4473360"/>
                <a:ext cx="237960" cy="333000"/>
              </a:xfrm>
              <a:custGeom>
                <a:avLst/>
                <a:gdLst/>
                <a:ahLst/>
                <a:rect l="l" t="t" r="r" b="b"/>
                <a:pathLst>
                  <a:path w="150" h="210">
                    <a:moveTo>
                      <a:pt x="0" y="210"/>
                    </a:moveTo>
                    <a:lnTo>
                      <a:pt x="36" y="162"/>
                    </a:lnTo>
                    <a:lnTo>
                      <a:pt x="72" y="108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848040" y="4130280"/>
                <a:ext cx="247680" cy="342720"/>
              </a:xfrm>
              <a:custGeom>
                <a:avLst/>
                <a:gdLst/>
                <a:ahLst/>
                <a:rect l="l" t="t" r="r" b="b"/>
                <a:pathLst>
                  <a:path w="156" h="216">
                    <a:moveTo>
                      <a:pt x="0" y="216"/>
                    </a:moveTo>
                    <a:lnTo>
                      <a:pt x="78" y="108"/>
                    </a:lnTo>
                    <a:lnTo>
                      <a:pt x="120" y="48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4095720" y="3871800"/>
                <a:ext cx="237960" cy="258120"/>
              </a:xfrm>
              <a:custGeom>
                <a:avLst/>
                <a:gdLst/>
                <a:ahLst/>
                <a:rect l="l" t="t" r="r" b="b"/>
                <a:pathLst>
                  <a:path w="150" h="163">
                    <a:moveTo>
                      <a:pt x="0" y="163"/>
                    </a:moveTo>
                    <a:lnTo>
                      <a:pt x="72" y="73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4333680" y="3709800"/>
                <a:ext cx="247680" cy="161640"/>
              </a:xfrm>
              <a:custGeom>
                <a:avLst/>
                <a:gdLst/>
                <a:ahLst/>
                <a:rect l="l" t="t" r="r" b="b"/>
                <a:pathLst>
                  <a:path w="156" h="102">
                    <a:moveTo>
                      <a:pt x="0" y="102"/>
                    </a:moveTo>
                    <a:lnTo>
                      <a:pt x="78" y="42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4581360" y="3624120"/>
                <a:ext cx="239760" cy="85320"/>
              </a:xfrm>
              <a:custGeom>
                <a:avLst/>
                <a:gdLst/>
                <a:ahLst/>
                <a:rect l="l" t="t" r="r" b="b"/>
                <a:pathLst>
                  <a:path w="151" h="54">
                    <a:moveTo>
                      <a:pt x="0" y="54"/>
                    </a:moveTo>
                    <a:lnTo>
                      <a:pt x="37" y="36"/>
                    </a:lnTo>
                    <a:lnTo>
                      <a:pt x="73" y="24"/>
                    </a:lnTo>
                    <a:lnTo>
                      <a:pt x="151" y="0"/>
                    </a:lnTo>
                  </a:path>
                </a:pathLst>
              </a:custGeom>
              <a:noFill/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4821120" y="3566880"/>
                <a:ext cx="247680" cy="56880"/>
              </a:xfrm>
              <a:custGeom>
                <a:avLst/>
                <a:gdLst/>
                <a:ahLst/>
                <a:rect l="l" t="t" r="r" b="b"/>
                <a:pathLst>
                  <a:path w="156" h="36">
                    <a:moveTo>
                      <a:pt x="0" y="36"/>
                    </a:moveTo>
                    <a:lnTo>
                      <a:pt x="78" y="18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5068800" y="3519360"/>
                <a:ext cx="237960" cy="47160"/>
              </a:xfrm>
              <a:custGeom>
                <a:avLst/>
                <a:gdLst/>
                <a:ahLst/>
                <a:rect l="l" t="t" r="r" b="b"/>
                <a:pathLst>
                  <a:path w="150" h="30">
                    <a:moveTo>
                      <a:pt x="0" y="30"/>
                    </a:moveTo>
                    <a:lnTo>
                      <a:pt x="72" y="18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5306760" y="3423960"/>
                <a:ext cx="247680" cy="95040"/>
              </a:xfrm>
              <a:custGeom>
                <a:avLst/>
                <a:gdLst/>
                <a:ahLst/>
                <a:rect l="l" t="t" r="r" b="b"/>
                <a:pathLst>
                  <a:path w="156" h="60">
                    <a:moveTo>
                      <a:pt x="0" y="60"/>
                    </a:moveTo>
                    <a:lnTo>
                      <a:pt x="78" y="36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5554440" y="3271680"/>
                <a:ext cx="238320" cy="151920"/>
              </a:xfrm>
              <a:custGeom>
                <a:avLst/>
                <a:gdLst/>
                <a:ahLst/>
                <a:rect l="l" t="t" r="r" b="b"/>
                <a:pathLst>
                  <a:path w="150" h="96">
                    <a:moveTo>
                      <a:pt x="0" y="96"/>
                    </a:moveTo>
                    <a:lnTo>
                      <a:pt x="72" y="54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5792760" y="3062160"/>
                <a:ext cx="247680" cy="209160"/>
              </a:xfrm>
              <a:custGeom>
                <a:avLst/>
                <a:gdLst/>
                <a:ahLst/>
                <a:rect l="l" t="t" r="r" b="b"/>
                <a:pathLst>
                  <a:path w="156" h="132">
                    <a:moveTo>
                      <a:pt x="0" y="132"/>
                    </a:moveTo>
                    <a:lnTo>
                      <a:pt x="78" y="72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6040440" y="2814480"/>
                <a:ext cx="237960" cy="247320"/>
              </a:xfrm>
              <a:custGeom>
                <a:avLst/>
                <a:gdLst/>
                <a:ahLst/>
                <a:rect l="l" t="t" r="r" b="b"/>
                <a:pathLst>
                  <a:path w="150" h="156">
                    <a:moveTo>
                      <a:pt x="0" y="156"/>
                    </a:moveTo>
                    <a:lnTo>
                      <a:pt x="78" y="78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2638440" y="5206680"/>
                <a:ext cx="237960" cy="1440"/>
              </a:xfrm>
              <a:custGeom>
                <a:avLst/>
                <a:gdLst/>
                <a:ahLst/>
                <a:rect l="l" t="t" r="r" b="b"/>
                <a:pathLst>
                  <a:path w="150" h="0">
                    <a:moveTo>
                      <a:pt x="0" y="0"/>
                    </a:moveTo>
                    <a:lnTo>
                      <a:pt x="72" y="0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2876400" y="5178240"/>
                <a:ext cx="247680" cy="28080"/>
              </a:xfrm>
              <a:custGeom>
                <a:avLst/>
                <a:gdLst/>
                <a:ahLst/>
                <a:rect l="l" t="t" r="r" b="b"/>
                <a:pathLst>
                  <a:path w="156" h="18">
                    <a:moveTo>
                      <a:pt x="0" y="18"/>
                    </a:moveTo>
                    <a:lnTo>
                      <a:pt x="78" y="12"/>
                    </a:lnTo>
                    <a:lnTo>
                      <a:pt x="120" y="6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124080" y="5073480"/>
                <a:ext cx="238320" cy="104400"/>
              </a:xfrm>
              <a:custGeom>
                <a:avLst/>
                <a:gdLst/>
                <a:ahLst/>
                <a:rect l="l" t="t" r="r" b="b"/>
                <a:pathLst>
                  <a:path w="150" h="66">
                    <a:moveTo>
                      <a:pt x="0" y="66"/>
                    </a:moveTo>
                    <a:lnTo>
                      <a:pt x="72" y="42"/>
                    </a:lnTo>
                    <a:lnTo>
                      <a:pt x="114" y="24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3362400" y="4825800"/>
                <a:ext cx="247680" cy="247320"/>
              </a:xfrm>
              <a:custGeom>
                <a:avLst/>
                <a:gdLst/>
                <a:ahLst/>
                <a:rect l="l" t="t" r="r" b="b"/>
                <a:pathLst>
                  <a:path w="156" h="156">
                    <a:moveTo>
                      <a:pt x="0" y="156"/>
                    </a:moveTo>
                    <a:lnTo>
                      <a:pt x="36" y="126"/>
                    </a:lnTo>
                    <a:lnTo>
                      <a:pt x="78" y="90"/>
                    </a:lnTo>
                    <a:lnTo>
                      <a:pt x="120" y="48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3610080" y="4463640"/>
                <a:ext cx="237960" cy="361800"/>
              </a:xfrm>
              <a:custGeom>
                <a:avLst/>
                <a:gdLst/>
                <a:ahLst/>
                <a:rect l="l" t="t" r="r" b="b"/>
                <a:pathLst>
                  <a:path w="150" h="228">
                    <a:moveTo>
                      <a:pt x="0" y="228"/>
                    </a:moveTo>
                    <a:lnTo>
                      <a:pt x="36" y="174"/>
                    </a:lnTo>
                    <a:lnTo>
                      <a:pt x="72" y="120"/>
                    </a:lnTo>
                    <a:lnTo>
                      <a:pt x="114" y="60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3848040" y="4101840"/>
                <a:ext cx="247680" cy="361440"/>
              </a:xfrm>
              <a:custGeom>
                <a:avLst/>
                <a:gdLst/>
                <a:ahLst/>
                <a:rect l="l" t="t" r="r" b="b"/>
                <a:pathLst>
                  <a:path w="156" h="228">
                    <a:moveTo>
                      <a:pt x="0" y="228"/>
                    </a:moveTo>
                    <a:lnTo>
                      <a:pt x="78" y="108"/>
                    </a:lnTo>
                    <a:lnTo>
                      <a:pt x="120" y="54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4095720" y="3833640"/>
                <a:ext cx="237960" cy="267840"/>
              </a:xfrm>
              <a:custGeom>
                <a:avLst/>
                <a:gdLst/>
                <a:ahLst/>
                <a:rect l="l" t="t" r="r" b="b"/>
                <a:pathLst>
                  <a:path w="150" h="169">
                    <a:moveTo>
                      <a:pt x="0" y="169"/>
                    </a:moveTo>
                    <a:lnTo>
                      <a:pt x="72" y="78"/>
                    </a:lnTo>
                    <a:lnTo>
                      <a:pt x="114" y="36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4333680" y="3681000"/>
                <a:ext cx="247680" cy="152280"/>
              </a:xfrm>
              <a:custGeom>
                <a:avLst/>
                <a:gdLst/>
                <a:ahLst/>
                <a:rect l="l" t="t" r="r" b="b"/>
                <a:pathLst>
                  <a:path w="156" h="96">
                    <a:moveTo>
                      <a:pt x="0" y="96"/>
                    </a:moveTo>
                    <a:lnTo>
                      <a:pt x="36" y="66"/>
                    </a:lnTo>
                    <a:lnTo>
                      <a:pt x="78" y="42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4581360" y="3605040"/>
                <a:ext cx="239760" cy="75600"/>
              </a:xfrm>
              <a:custGeom>
                <a:avLst/>
                <a:gdLst/>
                <a:ahLst/>
                <a:rect l="l" t="t" r="r" b="b"/>
                <a:pathLst>
                  <a:path w="151" h="48">
                    <a:moveTo>
                      <a:pt x="0" y="48"/>
                    </a:moveTo>
                    <a:lnTo>
                      <a:pt x="73" y="18"/>
                    </a:lnTo>
                    <a:lnTo>
                      <a:pt x="151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4821120" y="3566880"/>
                <a:ext cx="247680" cy="37800"/>
              </a:xfrm>
              <a:custGeom>
                <a:avLst/>
                <a:gdLst/>
                <a:ahLst/>
                <a:rect l="l" t="t" r="r" b="b"/>
                <a:pathLst>
                  <a:path w="156" h="24">
                    <a:moveTo>
                      <a:pt x="0" y="24"/>
                    </a:moveTo>
                    <a:lnTo>
                      <a:pt x="78" y="12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5068800" y="3528720"/>
                <a:ext cx="237960" cy="37800"/>
              </a:xfrm>
              <a:custGeom>
                <a:avLst/>
                <a:gdLst/>
                <a:ahLst/>
                <a:rect l="l" t="t" r="r" b="b"/>
                <a:pathLst>
                  <a:path w="150" h="24">
                    <a:moveTo>
                      <a:pt x="0" y="24"/>
                    </a:moveTo>
                    <a:lnTo>
                      <a:pt x="72" y="12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5306760" y="3443040"/>
                <a:ext cx="247680" cy="85320"/>
              </a:xfrm>
              <a:custGeom>
                <a:avLst/>
                <a:gdLst/>
                <a:ahLst/>
                <a:rect l="l" t="t" r="r" b="b"/>
                <a:pathLst>
                  <a:path w="156" h="54">
                    <a:moveTo>
                      <a:pt x="0" y="54"/>
                    </a:moveTo>
                    <a:lnTo>
                      <a:pt x="78" y="30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5554440" y="3290760"/>
                <a:ext cx="238320" cy="151920"/>
              </a:xfrm>
              <a:custGeom>
                <a:avLst/>
                <a:gdLst/>
                <a:ahLst/>
                <a:rect l="l" t="t" r="r" b="b"/>
                <a:pathLst>
                  <a:path w="150" h="96">
                    <a:moveTo>
                      <a:pt x="0" y="96"/>
                    </a:moveTo>
                    <a:lnTo>
                      <a:pt x="72" y="54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5792760" y="3071520"/>
                <a:ext cx="247680" cy="218880"/>
              </a:xfrm>
              <a:custGeom>
                <a:avLst/>
                <a:gdLst/>
                <a:ahLst/>
                <a:rect l="l" t="t" r="r" b="b"/>
                <a:pathLst>
                  <a:path w="156" h="138">
                    <a:moveTo>
                      <a:pt x="0" y="138"/>
                    </a:moveTo>
                    <a:lnTo>
                      <a:pt x="78" y="72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6040440" y="2814480"/>
                <a:ext cx="237960" cy="256680"/>
              </a:xfrm>
              <a:custGeom>
                <a:avLst/>
                <a:gdLst/>
                <a:ahLst/>
                <a:rect l="l" t="t" r="r" b="b"/>
                <a:pathLst>
                  <a:path w="150" h="162">
                    <a:moveTo>
                      <a:pt x="0" y="162"/>
                    </a:moveTo>
                    <a:lnTo>
                      <a:pt x="78" y="84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638440" y="5206680"/>
                <a:ext cx="237960" cy="144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flipV="1">
                <a:off x="2876400" y="5187600"/>
                <a:ext cx="247680" cy="1872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flipV="1">
                <a:off x="3124080" y="5111640"/>
                <a:ext cx="238320" cy="756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flipV="1">
                <a:off x="3362400" y="4863600"/>
                <a:ext cx="247680" cy="24732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V="1">
                <a:off x="3610080" y="4453920"/>
                <a:ext cx="237960" cy="40932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 flipV="1">
                <a:off x="3848040" y="4044240"/>
                <a:ext cx="247680" cy="40932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 flipV="1">
                <a:off x="4095720" y="3776400"/>
                <a:ext cx="237960" cy="26784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 flipV="1">
                <a:off x="4333680" y="3642840"/>
                <a:ext cx="247680" cy="13284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 flipV="1">
                <a:off x="4581360" y="3595320"/>
                <a:ext cx="239760" cy="4752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flipV="1">
                <a:off x="4821120" y="3576240"/>
                <a:ext cx="247680" cy="1872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flipV="1">
                <a:off x="5068800" y="3547800"/>
                <a:ext cx="237960" cy="2808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flipV="1">
                <a:off x="5306760" y="3481200"/>
                <a:ext cx="247680" cy="6624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 flipV="1">
                <a:off x="5554440" y="3338280"/>
                <a:ext cx="238320" cy="14256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flipV="1">
                <a:off x="5792760" y="3099600"/>
                <a:ext cx="247680" cy="23796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 flipV="1">
                <a:off x="6040440" y="2804760"/>
                <a:ext cx="237960" cy="29484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2638440" y="5206680"/>
                <a:ext cx="237960" cy="1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2876400" y="5197320"/>
                <a:ext cx="247680" cy="9000"/>
              </a:xfrm>
              <a:custGeom>
                <a:avLst/>
                <a:gdLst/>
                <a:ahLst/>
                <a:rect l="l" t="t" r="r" b="b"/>
                <a:pathLst>
                  <a:path w="156" h="6">
                    <a:moveTo>
                      <a:pt x="0" y="6"/>
                    </a:moveTo>
                    <a:lnTo>
                      <a:pt x="78" y="6"/>
                    </a:lnTo>
                    <a:lnTo>
                      <a:pt x="120" y="6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3124080" y="5121000"/>
                <a:ext cx="238320" cy="75960"/>
              </a:xfrm>
              <a:custGeom>
                <a:avLst/>
                <a:gdLst/>
                <a:ahLst/>
                <a:rect l="l" t="t" r="r" b="b"/>
                <a:pathLst>
                  <a:path w="150" h="48">
                    <a:moveTo>
                      <a:pt x="0" y="48"/>
                    </a:moveTo>
                    <a:lnTo>
                      <a:pt x="36" y="42"/>
                    </a:lnTo>
                    <a:lnTo>
                      <a:pt x="72" y="36"/>
                    </a:lnTo>
                    <a:lnTo>
                      <a:pt x="114" y="18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3362400" y="4873320"/>
                <a:ext cx="247680" cy="247320"/>
              </a:xfrm>
              <a:custGeom>
                <a:avLst/>
                <a:gdLst/>
                <a:ahLst/>
                <a:rect l="l" t="t" r="r" b="b"/>
                <a:pathLst>
                  <a:path w="156" h="156">
                    <a:moveTo>
                      <a:pt x="0" y="156"/>
                    </a:moveTo>
                    <a:lnTo>
                      <a:pt x="36" y="126"/>
                    </a:lnTo>
                    <a:lnTo>
                      <a:pt x="78" y="90"/>
                    </a:lnTo>
                    <a:lnTo>
                      <a:pt x="120" y="48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3610080" y="4454280"/>
                <a:ext cx="237960" cy="418680"/>
              </a:xfrm>
              <a:custGeom>
                <a:avLst/>
                <a:gdLst/>
                <a:ahLst/>
                <a:rect l="l" t="t" r="r" b="b"/>
                <a:pathLst>
                  <a:path w="150" h="264">
                    <a:moveTo>
                      <a:pt x="0" y="264"/>
                    </a:moveTo>
                    <a:lnTo>
                      <a:pt x="36" y="204"/>
                    </a:lnTo>
                    <a:lnTo>
                      <a:pt x="72" y="138"/>
                    </a:lnTo>
                    <a:lnTo>
                      <a:pt x="114" y="66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3848040" y="4025520"/>
                <a:ext cx="247680" cy="428400"/>
              </a:xfrm>
              <a:custGeom>
                <a:avLst/>
                <a:gdLst/>
                <a:ahLst/>
                <a:rect l="l" t="t" r="r" b="b"/>
                <a:pathLst>
                  <a:path w="156" h="270">
                    <a:moveTo>
                      <a:pt x="0" y="270"/>
                    </a:moveTo>
                    <a:lnTo>
                      <a:pt x="36" y="198"/>
                    </a:lnTo>
                    <a:lnTo>
                      <a:pt x="78" y="132"/>
                    </a:lnTo>
                    <a:lnTo>
                      <a:pt x="120" y="60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4095720" y="3747960"/>
                <a:ext cx="237960" cy="277200"/>
              </a:xfrm>
              <a:custGeom>
                <a:avLst/>
                <a:gdLst/>
                <a:ahLst/>
                <a:rect l="l" t="t" r="r" b="b"/>
                <a:pathLst>
                  <a:path w="150" h="175">
                    <a:moveTo>
                      <a:pt x="0" y="175"/>
                    </a:moveTo>
                    <a:lnTo>
                      <a:pt x="36" y="120"/>
                    </a:lnTo>
                    <a:lnTo>
                      <a:pt x="72" y="78"/>
                    </a:lnTo>
                    <a:lnTo>
                      <a:pt x="114" y="36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4333680" y="3624120"/>
                <a:ext cx="247680" cy="123480"/>
              </a:xfrm>
              <a:custGeom>
                <a:avLst/>
                <a:gdLst/>
                <a:ahLst/>
                <a:rect l="l" t="t" r="r" b="b"/>
                <a:pathLst>
                  <a:path w="156" h="78">
                    <a:moveTo>
                      <a:pt x="0" y="78"/>
                    </a:moveTo>
                    <a:lnTo>
                      <a:pt x="36" y="48"/>
                    </a:lnTo>
                    <a:lnTo>
                      <a:pt x="78" y="30"/>
                    </a:lnTo>
                    <a:lnTo>
                      <a:pt x="120" y="12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4581360" y="3585960"/>
                <a:ext cx="239760" cy="37800"/>
              </a:xfrm>
              <a:custGeom>
                <a:avLst/>
                <a:gdLst/>
                <a:ahLst/>
                <a:rect l="l" t="t" r="r" b="b"/>
                <a:pathLst>
                  <a:path w="151" h="24">
                    <a:moveTo>
                      <a:pt x="0" y="24"/>
                    </a:moveTo>
                    <a:lnTo>
                      <a:pt x="37" y="12"/>
                    </a:lnTo>
                    <a:lnTo>
                      <a:pt x="73" y="6"/>
                    </a:lnTo>
                    <a:lnTo>
                      <a:pt x="151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4821120" y="3576240"/>
                <a:ext cx="247680" cy="9360"/>
              </a:xfrm>
              <a:custGeom>
                <a:avLst/>
                <a:gdLst/>
                <a:ahLst/>
                <a:rect l="l" t="t" r="r" b="b"/>
                <a:pathLst>
                  <a:path w="156" h="6">
                    <a:moveTo>
                      <a:pt x="0" y="6"/>
                    </a:moveTo>
                    <a:lnTo>
                      <a:pt x="78" y="0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5068800" y="3557160"/>
                <a:ext cx="237960" cy="18720"/>
              </a:xfrm>
              <a:custGeom>
                <a:avLst/>
                <a:gdLst/>
                <a:ahLst/>
                <a:rect l="l" t="t" r="r" b="b"/>
                <a:pathLst>
                  <a:path w="150" h="12">
                    <a:moveTo>
                      <a:pt x="0" y="12"/>
                    </a:moveTo>
                    <a:lnTo>
                      <a:pt x="72" y="6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5306760" y="3490560"/>
                <a:ext cx="247680" cy="6624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0" y="42"/>
                    </a:moveTo>
                    <a:lnTo>
                      <a:pt x="78" y="24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5554440" y="3357360"/>
                <a:ext cx="238320" cy="132840"/>
              </a:xfrm>
              <a:custGeom>
                <a:avLst/>
                <a:gdLst/>
                <a:ahLst/>
                <a:rect l="l" t="t" r="r" b="b"/>
                <a:pathLst>
                  <a:path w="150" h="84">
                    <a:moveTo>
                      <a:pt x="0" y="84"/>
                    </a:moveTo>
                    <a:lnTo>
                      <a:pt x="72" y="48"/>
                    </a:lnTo>
                    <a:lnTo>
                      <a:pt x="114" y="24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5792760" y="3109680"/>
                <a:ext cx="247680" cy="247320"/>
              </a:xfrm>
              <a:custGeom>
                <a:avLst/>
                <a:gdLst/>
                <a:ahLst/>
                <a:rect l="l" t="t" r="r" b="b"/>
                <a:pathLst>
                  <a:path w="156" h="156">
                    <a:moveTo>
                      <a:pt x="0" y="156"/>
                    </a:moveTo>
                    <a:lnTo>
                      <a:pt x="36" y="120"/>
                    </a:lnTo>
                    <a:lnTo>
                      <a:pt x="78" y="84"/>
                    </a:lnTo>
                    <a:lnTo>
                      <a:pt x="156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6040440" y="2805120"/>
                <a:ext cx="237960" cy="304560"/>
              </a:xfrm>
              <a:custGeom>
                <a:avLst/>
                <a:gdLst/>
                <a:ahLst/>
                <a:rect l="l" t="t" r="r" b="b"/>
                <a:pathLst>
                  <a:path w="150" h="192">
                    <a:moveTo>
                      <a:pt x="0" y="192"/>
                    </a:moveTo>
                    <a:lnTo>
                      <a:pt x="36" y="144"/>
                    </a:lnTo>
                    <a:lnTo>
                      <a:pt x="78" y="96"/>
                    </a:lnTo>
                    <a:lnTo>
                      <a:pt x="150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0" name=""/>
            <p:cNvGrpSpPr/>
            <p:nvPr/>
          </p:nvGrpSpPr>
          <p:grpSpPr>
            <a:xfrm>
              <a:off x="2638440" y="2593800"/>
              <a:ext cx="3403440" cy="2612880"/>
              <a:chOff x="2638440" y="2593800"/>
              <a:chExt cx="3403440" cy="2612880"/>
            </a:xfrm>
          </p:grpSpPr>
          <p:sp>
            <p:nvSpPr>
              <p:cNvPr id="1731" name=""/>
              <p:cNvSpPr/>
              <p:nvPr/>
            </p:nvSpPr>
            <p:spPr>
              <a:xfrm>
                <a:off x="2638440" y="2595240"/>
                <a:ext cx="1440" cy="261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6041880" y="2593800"/>
                <a:ext cx="0" cy="2609640"/>
              </a:xfrm>
              <a:prstGeom prst="line">
                <a:avLst/>
              </a:prstGeom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5794200" y="2593800"/>
                <a:ext cx="0" cy="2609640"/>
              </a:xfrm>
              <a:prstGeom prst="line">
                <a:avLst/>
              </a:prstGeom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5556240" y="2593800"/>
                <a:ext cx="0" cy="2609640"/>
              </a:xfrm>
              <a:prstGeom prst="line">
                <a:avLst/>
              </a:prstGeom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5308560" y="2593800"/>
                <a:ext cx="0" cy="2609640"/>
              </a:xfrm>
              <a:prstGeom prst="line">
                <a:avLst/>
              </a:prstGeom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5070240" y="2593800"/>
                <a:ext cx="0" cy="2609640"/>
              </a:xfrm>
              <a:prstGeom prst="line">
                <a:avLst/>
              </a:prstGeom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4822920" y="2593800"/>
                <a:ext cx="0" cy="2609640"/>
              </a:xfrm>
              <a:prstGeom prst="line">
                <a:avLst/>
              </a:prstGeom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4584600" y="2593800"/>
                <a:ext cx="0" cy="2609640"/>
              </a:xfrm>
              <a:prstGeom prst="line">
                <a:avLst/>
              </a:prstGeom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4336920" y="2593800"/>
                <a:ext cx="0" cy="2609640"/>
              </a:xfrm>
              <a:prstGeom prst="line">
                <a:avLst/>
              </a:prstGeom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4098960" y="2593800"/>
                <a:ext cx="0" cy="2609640"/>
              </a:xfrm>
              <a:prstGeom prst="line">
                <a:avLst/>
              </a:prstGeom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3851280" y="2593800"/>
                <a:ext cx="0" cy="2609640"/>
              </a:xfrm>
              <a:prstGeom prst="line">
                <a:avLst/>
              </a:prstGeom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3612960" y="2593800"/>
                <a:ext cx="0" cy="2609640"/>
              </a:xfrm>
              <a:prstGeom prst="line">
                <a:avLst/>
              </a:prstGeom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3363840" y="2593800"/>
                <a:ext cx="0" cy="2609640"/>
              </a:xfrm>
              <a:prstGeom prst="line">
                <a:avLst/>
              </a:prstGeom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3125880" y="2593800"/>
                <a:ext cx="0" cy="2609640"/>
              </a:xfrm>
              <a:prstGeom prst="line">
                <a:avLst/>
              </a:prstGeom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2878200" y="2593800"/>
                <a:ext cx="0" cy="2609640"/>
              </a:xfrm>
              <a:prstGeom prst="line">
                <a:avLst/>
              </a:prstGeom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6" name=""/>
            <p:cNvGrpSpPr/>
            <p:nvPr/>
          </p:nvGrpSpPr>
          <p:grpSpPr>
            <a:xfrm>
              <a:off x="2638440" y="2595600"/>
              <a:ext cx="3639960" cy="2612520"/>
              <a:chOff x="2638440" y="2595600"/>
              <a:chExt cx="3639960" cy="2612520"/>
            </a:xfrm>
          </p:grpSpPr>
          <p:sp>
            <p:nvSpPr>
              <p:cNvPr id="1747" name=""/>
              <p:cNvSpPr/>
              <p:nvPr/>
            </p:nvSpPr>
            <p:spPr>
              <a:xfrm>
                <a:off x="2638440" y="2595600"/>
                <a:ext cx="36399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2638440" y="5206680"/>
                <a:ext cx="36399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2638440" y="4883040"/>
                <a:ext cx="36399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2638440" y="4559040"/>
                <a:ext cx="36399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2638440" y="4225680"/>
                <a:ext cx="36399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2638440" y="3900240"/>
                <a:ext cx="36399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2638440" y="3576240"/>
                <a:ext cx="36399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2638440" y="3252600"/>
                <a:ext cx="36399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2638440" y="2919240"/>
                <a:ext cx="36399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6" name=""/>
            <p:cNvGrpSpPr/>
            <p:nvPr/>
          </p:nvGrpSpPr>
          <p:grpSpPr>
            <a:xfrm>
              <a:off x="2610000" y="2595600"/>
              <a:ext cx="28440" cy="2612520"/>
              <a:chOff x="2610000" y="2595600"/>
              <a:chExt cx="28440" cy="2612520"/>
            </a:xfrm>
          </p:grpSpPr>
          <p:sp>
            <p:nvSpPr>
              <p:cNvPr id="1757" name=""/>
              <p:cNvSpPr/>
              <p:nvPr/>
            </p:nvSpPr>
            <p:spPr>
              <a:xfrm>
                <a:off x="2610000" y="5206680"/>
                <a:ext cx="28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2610000" y="4883040"/>
                <a:ext cx="284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2610000" y="4559040"/>
                <a:ext cx="284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2610000" y="4225680"/>
                <a:ext cx="284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2610000" y="3900240"/>
                <a:ext cx="284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2610000" y="3576240"/>
                <a:ext cx="28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2610000" y="3252600"/>
                <a:ext cx="284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2610000" y="2919240"/>
                <a:ext cx="284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2610000" y="2595600"/>
                <a:ext cx="28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6" name=""/>
            <p:cNvGrpSpPr/>
            <p:nvPr/>
          </p:nvGrpSpPr>
          <p:grpSpPr>
            <a:xfrm>
              <a:off x="2638440" y="5206680"/>
              <a:ext cx="3641760" cy="28440"/>
              <a:chOff x="2638440" y="5206680"/>
              <a:chExt cx="3641760" cy="28440"/>
            </a:xfrm>
          </p:grpSpPr>
          <p:sp>
            <p:nvSpPr>
              <p:cNvPr id="1767" name=""/>
              <p:cNvSpPr/>
              <p:nvPr/>
            </p:nvSpPr>
            <p:spPr>
              <a:xfrm flipV="1">
                <a:off x="2638440" y="52066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 flipV="1">
                <a:off x="2876400" y="52066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 flipV="1">
                <a:off x="3124080" y="52066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 flipV="1">
                <a:off x="3362400" y="52066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 flipV="1">
                <a:off x="3610080" y="52066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 flipV="1">
                <a:off x="3848040" y="52066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 flipV="1">
                <a:off x="4095720" y="52066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 flipV="1">
                <a:off x="4333680" y="52066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 flipV="1">
                <a:off x="4581360" y="52066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 flipV="1">
                <a:off x="4821120" y="52066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 flipV="1">
                <a:off x="5068800" y="52066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 flipV="1">
                <a:off x="5306760" y="52066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 flipV="1">
                <a:off x="5554440" y="52066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 flipV="1">
                <a:off x="5792760" y="52066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 flipV="1">
                <a:off x="6040440" y="52066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 flipV="1">
                <a:off x="6278400" y="52066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3" name=""/>
            <p:cNvSpPr/>
            <p:nvPr/>
          </p:nvSpPr>
          <p:spPr>
            <a:xfrm>
              <a:off x="2362680" y="514044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2362680" y="481644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2362680" y="449280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4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2362680" y="415908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6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2362680" y="383364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8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2362680" y="351000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,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2362680" y="318600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2362680" y="285264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,4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2362680" y="252900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,6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2571840" y="5292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,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2809800" y="5292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,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3057480" y="5292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,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295800" y="5292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,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3543480" y="5292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,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3819600" y="5292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4029120" y="5292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4267080" y="5292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4514760" y="5292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4754520" y="5292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5002200" y="5292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5240160" y="5292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5487840" y="5292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726160" y="5292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973840" y="5292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249960" y="5292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8" name=""/>
            <p:cNvGrpSpPr/>
            <p:nvPr/>
          </p:nvGrpSpPr>
          <p:grpSpPr>
            <a:xfrm>
              <a:off x="4053600" y="3570120"/>
              <a:ext cx="406800" cy="215640"/>
              <a:chOff x="4053600" y="3570120"/>
              <a:chExt cx="406800" cy="215640"/>
            </a:xfrm>
          </p:grpSpPr>
          <p:sp>
            <p:nvSpPr>
              <p:cNvPr id="1809" name=""/>
              <p:cNvSpPr/>
              <p:nvPr/>
            </p:nvSpPr>
            <p:spPr>
              <a:xfrm>
                <a:off x="4053600" y="3570120"/>
                <a:ext cx="293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4270320" y="3676320"/>
                <a:ext cx="1900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4431960" y="3662280"/>
                <a:ext cx="28440" cy="28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2" name=""/>
            <p:cNvGrpSpPr/>
            <p:nvPr/>
          </p:nvGrpSpPr>
          <p:grpSpPr>
            <a:xfrm>
              <a:off x="4433760" y="4043520"/>
              <a:ext cx="402480" cy="215640"/>
              <a:chOff x="4433760" y="4043520"/>
              <a:chExt cx="402480" cy="215640"/>
            </a:xfrm>
          </p:grpSpPr>
          <p:sp>
            <p:nvSpPr>
              <p:cNvPr id="1813" name=""/>
              <p:cNvSpPr/>
              <p:nvPr/>
            </p:nvSpPr>
            <p:spPr>
              <a:xfrm>
                <a:off x="4599000" y="40435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433760" y="4156200"/>
                <a:ext cx="2332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433760" y="4141800"/>
                <a:ext cx="28440" cy="28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6" name=""/>
            <p:cNvGrpSpPr/>
            <p:nvPr/>
          </p:nvGrpSpPr>
          <p:grpSpPr>
            <a:xfrm>
              <a:off x="2762280" y="2595600"/>
              <a:ext cx="3403440" cy="2609280"/>
              <a:chOff x="2762280" y="2595600"/>
              <a:chExt cx="3403440" cy="2609280"/>
            </a:xfrm>
          </p:grpSpPr>
          <p:sp>
            <p:nvSpPr>
              <p:cNvPr id="1817" name=""/>
              <p:cNvSpPr/>
              <p:nvPr/>
            </p:nvSpPr>
            <p:spPr>
              <a:xfrm>
                <a:off x="2762280" y="2595600"/>
                <a:ext cx="0" cy="2609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3002040" y="2595600"/>
                <a:ext cx="0" cy="2609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3249720" y="2595600"/>
                <a:ext cx="0" cy="2609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3487680" y="2595600"/>
                <a:ext cx="0" cy="2609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3735360" y="2595600"/>
                <a:ext cx="0" cy="2609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3975120" y="2595600"/>
                <a:ext cx="0" cy="2609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4222800" y="2595600"/>
                <a:ext cx="0" cy="2609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460760" y="2595600"/>
                <a:ext cx="0" cy="2609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708440" y="2595600"/>
                <a:ext cx="0" cy="2609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4946760" y="2595600"/>
                <a:ext cx="0" cy="2609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5194080" y="2595600"/>
                <a:ext cx="0" cy="2609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5432400" y="2595600"/>
                <a:ext cx="0" cy="2609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5680080" y="2595600"/>
                <a:ext cx="0" cy="2609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5918040" y="2595600"/>
                <a:ext cx="0" cy="2609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6165720" y="2595600"/>
                <a:ext cx="0" cy="2609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2" name=""/>
            <p:cNvGrpSpPr/>
            <p:nvPr/>
          </p:nvGrpSpPr>
          <p:grpSpPr>
            <a:xfrm>
              <a:off x="2639880" y="2759040"/>
              <a:ext cx="3639960" cy="2287440"/>
              <a:chOff x="2639880" y="2759040"/>
              <a:chExt cx="3639960" cy="2287440"/>
            </a:xfrm>
          </p:grpSpPr>
          <p:sp>
            <p:nvSpPr>
              <p:cNvPr id="1833" name=""/>
              <p:cNvSpPr/>
              <p:nvPr/>
            </p:nvSpPr>
            <p:spPr>
              <a:xfrm>
                <a:off x="2639880" y="2759040"/>
                <a:ext cx="3639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2639880" y="3082680"/>
                <a:ext cx="3639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2639880" y="3416040"/>
                <a:ext cx="3639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2639880" y="3740040"/>
                <a:ext cx="3639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2639880" y="4065480"/>
                <a:ext cx="3639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2639880" y="4389120"/>
                <a:ext cx="3639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2639880" y="4722480"/>
                <a:ext cx="3639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2639880" y="5046480"/>
                <a:ext cx="3639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1" name=""/>
            <p:cNvGrpSpPr/>
            <p:nvPr/>
          </p:nvGrpSpPr>
          <p:grpSpPr>
            <a:xfrm>
              <a:off x="5815080" y="3519360"/>
              <a:ext cx="414360" cy="1604880"/>
              <a:chOff x="5815080" y="3519360"/>
              <a:chExt cx="414360" cy="1604880"/>
            </a:xfrm>
          </p:grpSpPr>
          <p:sp>
            <p:nvSpPr>
              <p:cNvPr id="1842" name=""/>
              <p:cNvSpPr/>
              <p:nvPr/>
            </p:nvSpPr>
            <p:spPr>
              <a:xfrm>
                <a:off x="5815080" y="3519360"/>
                <a:ext cx="414360" cy="1604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6062400" y="3708000"/>
                <a:ext cx="115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6063120" y="384804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6063120" y="398772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6063120" y="41274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6063120" y="426708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6063120" y="440676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6063120" y="454644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6063120" y="468612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6063120" y="48258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5853240" y="3774960"/>
                <a:ext cx="133200" cy="144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5853240" y="3914640"/>
                <a:ext cx="133200" cy="14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5853240" y="4054320"/>
                <a:ext cx="133200" cy="14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5853240" y="4194000"/>
                <a:ext cx="133200" cy="144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5853240" y="4333680"/>
                <a:ext cx="133200" cy="1440"/>
              </a:xfrm>
              <a:prstGeom prst="line">
                <a:avLst/>
              </a:prstGeom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5853240" y="4473360"/>
                <a:ext cx="133200" cy="144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5853240" y="4613040"/>
                <a:ext cx="133200" cy="144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5853240" y="4752720"/>
                <a:ext cx="13320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5853240" y="4892400"/>
                <a:ext cx="133200" cy="18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5853240" y="5033880"/>
                <a:ext cx="133200" cy="1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6063120" y="496692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5819760" y="3525480"/>
                <a:ext cx="406440" cy="1461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rp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4" name=""/>
            <p:cNvSpPr/>
            <p:nvPr/>
          </p:nvSpPr>
          <p:spPr>
            <a:xfrm flipV="1">
              <a:off x="6280200" y="2599920"/>
              <a:ext cx="0" cy="2608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5" name=""/>
          <p:cNvSpPr/>
          <p:nvPr/>
        </p:nvSpPr>
        <p:spPr>
          <a:xfrm>
            <a:off x="1973160" y="2379600"/>
            <a:ext cx="40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6335640" y="5141880"/>
            <a:ext cx="40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2243160" y="4195800"/>
            <a:ext cx="1857240" cy="1114560"/>
          </a:xfrm>
          <a:custGeom>
            <a:avLst/>
            <a:gdLst/>
            <a:ahLst/>
            <a:rect l="l" t="t" r="r" b="b"/>
            <a:pathLst>
              <a:path w="195" h="780">
                <a:moveTo>
                  <a:pt x="0" y="0"/>
                </a:moveTo>
                <a:lnTo>
                  <a:pt x="195" y="0"/>
                </a:lnTo>
                <a:lnTo>
                  <a:pt x="195" y="7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1917000" y="407844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1,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7 Organisation calculée - Perform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2305080" y="1596960"/>
            <a:ext cx="420696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erformances d'un fichier calcul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Volume du fich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1031760" y="2516040"/>
            <a:ext cx="333540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b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= 100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0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pp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=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1036440" y="3435480"/>
            <a:ext cx="5615280" cy="10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/ (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p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b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) = 1,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'abaque nous donne, pour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pp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= 20 et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1,1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1,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a donc :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b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162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000 p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1035720" y="4611600"/>
            <a:ext cx="2926080" cy="6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aux d'occupation glob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/ (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p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) = 0,67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7 Organisation calculée - Perform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2305080" y="1596960"/>
            <a:ext cx="420696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erformances d'un fichier calcul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emps de lecture séquentie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3593520" y="322272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sf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= 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2615760" y="2459160"/>
            <a:ext cx="354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rdre des enregistrements indiffé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7 Organisation calculée - Perform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2305080" y="1596960"/>
            <a:ext cx="420696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erformances d'un fichier calcul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emps de lecture par cl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5" name=""/>
          <p:cNvGrpSpPr/>
          <p:nvPr/>
        </p:nvGrpSpPr>
        <p:grpSpPr>
          <a:xfrm>
            <a:off x="2523960" y="3141720"/>
            <a:ext cx="3696120" cy="2876040"/>
            <a:chOff x="2523960" y="3141720"/>
            <a:chExt cx="3696120" cy="2876040"/>
          </a:xfrm>
        </p:grpSpPr>
        <p:sp>
          <p:nvSpPr>
            <p:cNvPr id="1896" name=""/>
            <p:cNvSpPr/>
            <p:nvPr/>
          </p:nvSpPr>
          <p:spPr>
            <a:xfrm>
              <a:off x="2722680" y="3208320"/>
              <a:ext cx="3468600" cy="260136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2722680" y="5438520"/>
              <a:ext cx="3468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2722680" y="5067000"/>
              <a:ext cx="3468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2722680" y="4695480"/>
              <a:ext cx="3468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2722680" y="4322520"/>
              <a:ext cx="3468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2722680" y="3951000"/>
              <a:ext cx="3468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2722680" y="3579480"/>
              <a:ext cx="3468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722680" y="3208320"/>
              <a:ext cx="34686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722680" y="3208320"/>
              <a:ext cx="3468600" cy="26013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693880" y="5810040"/>
              <a:ext cx="288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693880" y="5438520"/>
              <a:ext cx="28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693880" y="5067000"/>
              <a:ext cx="28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693880" y="4695480"/>
              <a:ext cx="28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693880" y="4322520"/>
              <a:ext cx="28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693880" y="3951000"/>
              <a:ext cx="28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2693880" y="3579480"/>
              <a:ext cx="28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2693880" y="3208320"/>
              <a:ext cx="288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2722680" y="5810040"/>
              <a:ext cx="34686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V="1">
              <a:off x="2722680" y="5638680"/>
              <a:ext cx="228600" cy="756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 flipV="1">
              <a:off x="2951280" y="5543280"/>
              <a:ext cx="237960" cy="9504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 flipV="1">
              <a:off x="3189240" y="5429160"/>
              <a:ext cx="228600" cy="1137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 flipV="1">
              <a:off x="3417840" y="5286240"/>
              <a:ext cx="228600" cy="1425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 flipV="1">
              <a:off x="3646440" y="5143320"/>
              <a:ext cx="228600" cy="1425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 flipV="1">
              <a:off x="3875040" y="4980960"/>
              <a:ext cx="238320" cy="16164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V="1">
              <a:off x="4113360" y="4818960"/>
              <a:ext cx="228600" cy="16164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 flipV="1">
              <a:off x="4341960" y="4657680"/>
              <a:ext cx="230040" cy="1612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 flipV="1">
              <a:off x="4572000" y="4484520"/>
              <a:ext cx="228600" cy="1728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 flipV="1">
              <a:off x="4800600" y="4312800"/>
              <a:ext cx="237960" cy="1710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 flipV="1">
              <a:off x="5038560" y="4141440"/>
              <a:ext cx="228600" cy="171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 flipV="1">
              <a:off x="5267160" y="3960360"/>
              <a:ext cx="228600" cy="180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 flipV="1">
              <a:off x="5495760" y="3789000"/>
              <a:ext cx="228600" cy="171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 flipV="1">
              <a:off x="5724360" y="3607920"/>
              <a:ext cx="238320" cy="180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 flipV="1">
              <a:off x="5962680" y="3427200"/>
              <a:ext cx="228600" cy="1807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 flipV="1">
              <a:off x="2722680" y="5762520"/>
              <a:ext cx="228600" cy="28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 flipV="1">
              <a:off x="2951280" y="5705280"/>
              <a:ext cx="237960" cy="568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 flipV="1">
              <a:off x="3189240" y="5609880"/>
              <a:ext cx="228600" cy="950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V="1">
              <a:off x="3417840" y="5485680"/>
              <a:ext cx="228600" cy="1234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 flipV="1">
              <a:off x="3646440" y="5343120"/>
              <a:ext cx="228600" cy="1422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 flipV="1">
              <a:off x="3875040" y="5181120"/>
              <a:ext cx="238320" cy="1616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 flipV="1">
              <a:off x="4113360" y="5009760"/>
              <a:ext cx="228600" cy="1710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V="1">
              <a:off x="4341960" y="4838400"/>
              <a:ext cx="230040" cy="1713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 flipV="1">
              <a:off x="4572000" y="4657320"/>
              <a:ext cx="228600" cy="1803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 flipV="1">
              <a:off x="4800600" y="4484520"/>
              <a:ext cx="237960" cy="1728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 flipV="1">
              <a:off x="5038560" y="4312800"/>
              <a:ext cx="228600" cy="1710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 flipV="1">
              <a:off x="5267160" y="4141440"/>
              <a:ext cx="228600" cy="1713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 flipV="1">
              <a:off x="5495760" y="3960360"/>
              <a:ext cx="228600" cy="1803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 flipV="1">
              <a:off x="5724360" y="3789000"/>
              <a:ext cx="238320" cy="1713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 flipV="1">
              <a:off x="5962680" y="3617280"/>
              <a:ext cx="228600" cy="1710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 flipV="1">
              <a:off x="2722680" y="5790960"/>
              <a:ext cx="228600" cy="187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 flipV="1">
              <a:off x="2951280" y="5752440"/>
              <a:ext cx="237960" cy="37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 flipV="1">
              <a:off x="3189240" y="5686200"/>
              <a:ext cx="228600" cy="662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 flipV="1">
              <a:off x="3417840" y="5572080"/>
              <a:ext cx="228600" cy="1137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flipV="1">
              <a:off x="3646440" y="5429160"/>
              <a:ext cx="228600" cy="142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 flipV="1">
              <a:off x="3875040" y="5257440"/>
              <a:ext cx="238320" cy="1713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 flipV="1">
              <a:off x="4113360" y="5076360"/>
              <a:ext cx="228600" cy="1803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V="1">
              <a:off x="4341960" y="4886280"/>
              <a:ext cx="230040" cy="1900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 flipV="1">
              <a:off x="4572000" y="4705200"/>
              <a:ext cx="228600" cy="1807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 flipV="1">
              <a:off x="4800600" y="4532040"/>
              <a:ext cx="237960" cy="172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 flipV="1">
              <a:off x="5038560" y="4360320"/>
              <a:ext cx="228600" cy="1710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 flipV="1">
              <a:off x="5267160" y="4198320"/>
              <a:ext cx="228600" cy="1616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 flipV="1">
              <a:off x="5495760" y="4026960"/>
              <a:ext cx="228600" cy="1710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 flipV="1">
              <a:off x="5724360" y="3855600"/>
              <a:ext cx="238320" cy="1710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 flipV="1">
              <a:off x="5962680" y="3684240"/>
              <a:ext cx="228600" cy="1713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 flipV="1">
              <a:off x="2722680" y="5800320"/>
              <a:ext cx="228600" cy="90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 flipV="1">
              <a:off x="2951280" y="5781600"/>
              <a:ext cx="237960" cy="1872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 flipV="1">
              <a:off x="3189240" y="5724360"/>
              <a:ext cx="228600" cy="5688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 flipV="1">
              <a:off x="3417840" y="5628960"/>
              <a:ext cx="228600" cy="950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 flipV="1">
              <a:off x="3646440" y="5476680"/>
              <a:ext cx="228600" cy="15192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 flipV="1">
              <a:off x="3875040" y="5304960"/>
              <a:ext cx="238320" cy="1710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flipV="1">
              <a:off x="4113360" y="5104800"/>
              <a:ext cx="228600" cy="1998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flipV="1">
              <a:off x="4341960" y="4914720"/>
              <a:ext cx="230040" cy="19008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flipV="1">
              <a:off x="4572000" y="4724280"/>
              <a:ext cx="228600" cy="19008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V="1">
              <a:off x="4800600" y="4551120"/>
              <a:ext cx="237960" cy="1728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V="1">
              <a:off x="5038560" y="4388760"/>
              <a:ext cx="228600" cy="1616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 flipV="1">
              <a:off x="5267160" y="4227480"/>
              <a:ext cx="228600" cy="16128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5495760" y="4055760"/>
              <a:ext cx="228600" cy="17136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V="1">
              <a:off x="5724360" y="3894120"/>
              <a:ext cx="238320" cy="16128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V="1">
              <a:off x="5962680" y="3713040"/>
              <a:ext cx="228600" cy="18072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2722680" y="5810040"/>
              <a:ext cx="228600" cy="108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 flipV="1">
              <a:off x="2951280" y="5790960"/>
              <a:ext cx="237960" cy="1872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 flipV="1">
              <a:off x="3189240" y="5752440"/>
              <a:ext cx="228600" cy="3780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 flipV="1">
              <a:off x="3417840" y="5657400"/>
              <a:ext cx="228600" cy="9468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V="1">
              <a:off x="3646440" y="5514840"/>
              <a:ext cx="228600" cy="14256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 flipV="1">
              <a:off x="3875040" y="5333760"/>
              <a:ext cx="238320" cy="18072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 flipV="1">
              <a:off x="4113360" y="5133960"/>
              <a:ext cx="228600" cy="19944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V="1">
              <a:off x="4341960" y="4924080"/>
              <a:ext cx="230040" cy="20952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flipV="1">
              <a:off x="4572000" y="4733640"/>
              <a:ext cx="228600" cy="19008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 flipV="1">
              <a:off x="4800600" y="4560480"/>
              <a:ext cx="237960" cy="17244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V="1">
              <a:off x="5038560" y="4398480"/>
              <a:ext cx="228600" cy="16164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V="1">
              <a:off x="5267160" y="4236480"/>
              <a:ext cx="228600" cy="16164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5495760" y="4084560"/>
              <a:ext cx="228600" cy="15192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V="1">
              <a:off x="5724360" y="3912840"/>
              <a:ext cx="238320" cy="17136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V="1">
              <a:off x="5962680" y="3741120"/>
              <a:ext cx="228600" cy="17100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2722680" y="5810040"/>
              <a:ext cx="228600" cy="108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V="1">
              <a:off x="2951280" y="5800320"/>
              <a:ext cx="237960" cy="90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 flipV="1">
              <a:off x="3189240" y="5762160"/>
              <a:ext cx="228600" cy="378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 flipV="1">
              <a:off x="3417840" y="5676480"/>
              <a:ext cx="228600" cy="853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 flipV="1">
              <a:off x="3646440" y="5543280"/>
              <a:ext cx="228600" cy="1332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V="1">
              <a:off x="3875040" y="5352840"/>
              <a:ext cx="238320" cy="19008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 flipV="1">
              <a:off x="4113360" y="5142960"/>
              <a:ext cx="228600" cy="20916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 flipV="1">
              <a:off x="4341960" y="4933440"/>
              <a:ext cx="230040" cy="20916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 flipV="1">
              <a:off x="4572000" y="4743360"/>
              <a:ext cx="228600" cy="19008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 flipV="1">
              <a:off x="4800600" y="4560840"/>
              <a:ext cx="237960" cy="18216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V="1">
              <a:off x="5038560" y="4407840"/>
              <a:ext cx="228600" cy="15228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 flipV="1">
              <a:off x="5267160" y="4245840"/>
              <a:ext cx="228600" cy="1616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 flipV="1">
              <a:off x="5495760" y="4093920"/>
              <a:ext cx="228600" cy="1519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 flipV="1">
              <a:off x="5724360" y="3931560"/>
              <a:ext cx="238320" cy="1616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V="1">
              <a:off x="5962680" y="3760200"/>
              <a:ext cx="228600" cy="1710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2722680" y="5810040"/>
              <a:ext cx="228600" cy="108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 flipV="1">
              <a:off x="2951280" y="5800320"/>
              <a:ext cx="237960" cy="900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 flipV="1">
              <a:off x="3189240" y="5771520"/>
              <a:ext cx="228600" cy="2844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 flipV="1">
              <a:off x="3417840" y="5695920"/>
              <a:ext cx="228600" cy="7560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 flipV="1">
              <a:off x="3646440" y="5562360"/>
              <a:ext cx="228600" cy="13320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V="1">
              <a:off x="3875040" y="5371920"/>
              <a:ext cx="238320" cy="19008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 flipV="1">
              <a:off x="4113360" y="5152680"/>
              <a:ext cx="228600" cy="21888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 flipV="1">
              <a:off x="4341960" y="4942800"/>
              <a:ext cx="230040" cy="20916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 flipV="1">
              <a:off x="4572000" y="4743360"/>
              <a:ext cx="228600" cy="19944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 flipV="1">
              <a:off x="4800600" y="4570200"/>
              <a:ext cx="237960" cy="17280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 flipV="1">
              <a:off x="5038560" y="4407840"/>
              <a:ext cx="228600" cy="16164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 flipV="1">
              <a:off x="5267160" y="4255920"/>
              <a:ext cx="228600" cy="15192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 flipV="1">
              <a:off x="5495760" y="4103640"/>
              <a:ext cx="228600" cy="15192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 flipV="1">
              <a:off x="5724360" y="3950640"/>
              <a:ext cx="238320" cy="15228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 flipV="1">
              <a:off x="5962680" y="3769920"/>
              <a:ext cx="228600" cy="18036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2722680" y="5810040"/>
              <a:ext cx="228600" cy="1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2951280" y="5810040"/>
              <a:ext cx="237960" cy="1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 flipV="1">
              <a:off x="3189240" y="5781600"/>
              <a:ext cx="228600" cy="28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 flipV="1">
              <a:off x="3417840" y="5714280"/>
              <a:ext cx="228600" cy="66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 flipV="1">
              <a:off x="3646440" y="5571720"/>
              <a:ext cx="228600" cy="1422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 flipV="1">
              <a:off x="3875040" y="5380920"/>
              <a:ext cx="238320" cy="190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 flipV="1">
              <a:off x="4113360" y="5162040"/>
              <a:ext cx="228600" cy="2185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V="1">
              <a:off x="4341960" y="4943160"/>
              <a:ext cx="230040" cy="2188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V="1">
              <a:off x="4572000" y="4743360"/>
              <a:ext cx="228600" cy="199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V="1">
              <a:off x="4800600" y="4570200"/>
              <a:ext cx="237960" cy="172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 flipV="1">
              <a:off x="5038560" y="4407840"/>
              <a:ext cx="228600" cy="1616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V="1">
              <a:off x="5267160" y="4265280"/>
              <a:ext cx="228600" cy="142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 flipV="1">
              <a:off x="5495760" y="4113000"/>
              <a:ext cx="228600" cy="151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 flipV="1">
              <a:off x="5724360" y="3960720"/>
              <a:ext cx="238320" cy="151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 flipV="1">
              <a:off x="5962680" y="3789000"/>
              <a:ext cx="228600" cy="171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2722680" y="5810040"/>
              <a:ext cx="228600" cy="108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2951280" y="5810040"/>
              <a:ext cx="237960" cy="108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 flipV="1">
              <a:off x="3189240" y="5790960"/>
              <a:ext cx="228600" cy="1872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 flipV="1">
              <a:off x="3417840" y="5724360"/>
              <a:ext cx="228600" cy="6624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 flipV="1">
              <a:off x="3646440" y="5590800"/>
              <a:ext cx="228600" cy="13284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 flipV="1">
              <a:off x="3875040" y="5390640"/>
              <a:ext cx="238320" cy="19980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V="1">
              <a:off x="4113360" y="5162400"/>
              <a:ext cx="228600" cy="22824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 flipV="1">
              <a:off x="4341960" y="4943160"/>
              <a:ext cx="230040" cy="21888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 flipV="1">
              <a:off x="4572000" y="4743360"/>
              <a:ext cx="228600" cy="19944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 flipV="1">
              <a:off x="4800600" y="4570200"/>
              <a:ext cx="237960" cy="17280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 flipV="1">
              <a:off x="5038560" y="4407840"/>
              <a:ext cx="228600" cy="16164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 flipV="1">
              <a:off x="5267160" y="4265280"/>
              <a:ext cx="228600" cy="14256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 flipV="1">
              <a:off x="5495760" y="4122360"/>
              <a:ext cx="228600" cy="14220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 flipV="1">
              <a:off x="5724360" y="3969720"/>
              <a:ext cx="238320" cy="15228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 flipV="1">
              <a:off x="5962680" y="3798360"/>
              <a:ext cx="228600" cy="17100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2722680" y="5810040"/>
              <a:ext cx="228600" cy="1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2951280" y="5810040"/>
              <a:ext cx="237960" cy="1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flipV="1">
              <a:off x="3189240" y="5790960"/>
              <a:ext cx="228600" cy="18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 flipV="1">
              <a:off x="3417840" y="5733720"/>
              <a:ext cx="228600" cy="56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 flipV="1">
              <a:off x="3646440" y="5600160"/>
              <a:ext cx="228600" cy="132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 flipV="1">
              <a:off x="3875040" y="5400000"/>
              <a:ext cx="238320" cy="199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 flipV="1">
              <a:off x="4113360" y="5171760"/>
              <a:ext cx="228600" cy="228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 flipV="1">
              <a:off x="4341960" y="4952520"/>
              <a:ext cx="230040" cy="218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 flipV="1">
              <a:off x="4572000" y="4743000"/>
              <a:ext cx="228600" cy="209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 flipV="1">
              <a:off x="4800600" y="4570200"/>
              <a:ext cx="237960" cy="172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 flipV="1">
              <a:off x="5038560" y="4407840"/>
              <a:ext cx="228600" cy="161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 flipV="1">
              <a:off x="5267160" y="4265280"/>
              <a:ext cx="228600" cy="142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 flipV="1">
              <a:off x="5495760" y="4122360"/>
              <a:ext cx="228600" cy="142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 flipV="1">
              <a:off x="5724360" y="3969720"/>
              <a:ext cx="238320" cy="152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 flipV="1">
              <a:off x="5962680" y="3798360"/>
              <a:ext cx="228600" cy="171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2523960" y="574344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2523960" y="53719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2523960" y="500040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2523960" y="462744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2523960" y="42559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2523960" y="388440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2523960" y="35128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2523960" y="3141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2655720" y="5895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,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2884320" y="5895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,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122640" y="5895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,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3351240" y="5895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,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3579840" y="5895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,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846600" y="5895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4046400" y="5895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4275000" y="5895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4503600" y="5895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4734000" y="5895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4971960" y="5895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5200560" y="5895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5429160" y="5895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5657760" y="5895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5896080" y="5895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6162840" y="5895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8" name=""/>
            <p:cNvGrpSpPr/>
            <p:nvPr/>
          </p:nvGrpSpPr>
          <p:grpSpPr>
            <a:xfrm>
              <a:off x="4310640" y="4465440"/>
              <a:ext cx="391680" cy="215640"/>
              <a:chOff x="4310640" y="4465440"/>
              <a:chExt cx="391680" cy="215640"/>
            </a:xfrm>
          </p:grpSpPr>
          <p:sp>
            <p:nvSpPr>
              <p:cNvPr id="2089" name=""/>
              <p:cNvSpPr/>
              <p:nvPr/>
            </p:nvSpPr>
            <p:spPr>
              <a:xfrm>
                <a:off x="4310640" y="446544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4479840" y="4571280"/>
                <a:ext cx="2224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4670640" y="4557240"/>
                <a:ext cx="28440" cy="28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2" name=""/>
            <p:cNvGrpSpPr/>
            <p:nvPr/>
          </p:nvGrpSpPr>
          <p:grpSpPr>
            <a:xfrm>
              <a:off x="4678200" y="4728960"/>
              <a:ext cx="408600" cy="215640"/>
              <a:chOff x="4678200" y="4728960"/>
              <a:chExt cx="408600" cy="215640"/>
            </a:xfrm>
          </p:grpSpPr>
          <p:sp>
            <p:nvSpPr>
              <p:cNvPr id="2093" name=""/>
              <p:cNvSpPr/>
              <p:nvPr/>
            </p:nvSpPr>
            <p:spPr>
              <a:xfrm>
                <a:off x="4793400" y="4728960"/>
                <a:ext cx="293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4678200" y="4841280"/>
                <a:ext cx="1843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4678200" y="4826880"/>
                <a:ext cx="28800" cy="28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6" name=""/>
            <p:cNvGrpSpPr/>
            <p:nvPr/>
          </p:nvGrpSpPr>
          <p:grpSpPr>
            <a:xfrm>
              <a:off x="2838600" y="3203280"/>
              <a:ext cx="3235320" cy="2601000"/>
              <a:chOff x="2838600" y="3203280"/>
              <a:chExt cx="3235320" cy="2601000"/>
            </a:xfrm>
          </p:grpSpPr>
          <p:sp>
            <p:nvSpPr>
              <p:cNvPr id="2097" name=""/>
              <p:cNvSpPr/>
              <p:nvPr/>
            </p:nvSpPr>
            <p:spPr>
              <a:xfrm>
                <a:off x="2838600" y="3203280"/>
                <a:ext cx="0" cy="2601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3066480" y="3203280"/>
                <a:ext cx="0" cy="2601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3301920" y="3203280"/>
                <a:ext cx="0" cy="2601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3528000" y="3203280"/>
                <a:ext cx="0" cy="2601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3763440" y="3203280"/>
                <a:ext cx="0" cy="2601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3991320" y="3203280"/>
                <a:ext cx="0" cy="2601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4226760" y="3203280"/>
                <a:ext cx="0" cy="2601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4452840" y="3203280"/>
                <a:ext cx="0" cy="2601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4688280" y="3203280"/>
                <a:ext cx="0" cy="2601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4915080" y="3203280"/>
                <a:ext cx="0" cy="2601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5150160" y="3203280"/>
                <a:ext cx="0" cy="2601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5376600" y="3203280"/>
                <a:ext cx="0" cy="2601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5612040" y="3203280"/>
                <a:ext cx="0" cy="2601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5838480" y="3203280"/>
                <a:ext cx="0" cy="2601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6073920" y="3203280"/>
                <a:ext cx="0" cy="2601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2" name=""/>
            <p:cNvSpPr/>
            <p:nvPr/>
          </p:nvSpPr>
          <p:spPr>
            <a:xfrm>
              <a:off x="2720880" y="3208320"/>
              <a:ext cx="3467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3" name=""/>
            <p:cNvGrpSpPr/>
            <p:nvPr/>
          </p:nvGrpSpPr>
          <p:grpSpPr>
            <a:xfrm>
              <a:off x="2722680" y="3408120"/>
              <a:ext cx="3467160" cy="2212560"/>
              <a:chOff x="2722680" y="3408120"/>
              <a:chExt cx="3467160" cy="2212560"/>
            </a:xfrm>
          </p:grpSpPr>
          <p:sp>
            <p:nvSpPr>
              <p:cNvPr id="2114" name=""/>
              <p:cNvSpPr/>
              <p:nvPr/>
            </p:nvSpPr>
            <p:spPr>
              <a:xfrm>
                <a:off x="2722680" y="3408120"/>
                <a:ext cx="3467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2722680" y="3783960"/>
                <a:ext cx="3467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2722680" y="4147560"/>
                <a:ext cx="3467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2722680" y="4515840"/>
                <a:ext cx="3467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2722680" y="4879440"/>
                <a:ext cx="3467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2722680" y="5255640"/>
                <a:ext cx="3467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2722680" y="5620680"/>
                <a:ext cx="3467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1" name=""/>
            <p:cNvGrpSpPr/>
            <p:nvPr/>
          </p:nvGrpSpPr>
          <p:grpSpPr>
            <a:xfrm>
              <a:off x="2722680" y="3198600"/>
              <a:ext cx="3465360" cy="2648880"/>
              <a:chOff x="2722680" y="3198600"/>
              <a:chExt cx="3465360" cy="2648880"/>
            </a:xfrm>
          </p:grpSpPr>
          <p:sp>
            <p:nvSpPr>
              <p:cNvPr id="2122" name=""/>
              <p:cNvSpPr/>
              <p:nvPr/>
            </p:nvSpPr>
            <p:spPr>
              <a:xfrm>
                <a:off x="5725440" y="3206520"/>
                <a:ext cx="0" cy="2639520"/>
              </a:xfrm>
              <a:prstGeom prst="line">
                <a:avLst/>
              </a:prstGeom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5956560" y="3206520"/>
                <a:ext cx="0" cy="2639520"/>
              </a:xfrm>
              <a:prstGeom prst="line">
                <a:avLst/>
              </a:prstGeom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5493960" y="3206520"/>
                <a:ext cx="0" cy="2639520"/>
              </a:xfrm>
              <a:prstGeom prst="line">
                <a:avLst/>
              </a:prstGeom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5263200" y="3206520"/>
                <a:ext cx="0" cy="2639520"/>
              </a:xfrm>
              <a:prstGeom prst="line">
                <a:avLst/>
              </a:prstGeom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5033160" y="3206520"/>
                <a:ext cx="0" cy="2639520"/>
              </a:xfrm>
              <a:prstGeom prst="line">
                <a:avLst/>
              </a:prstGeom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4802040" y="3206520"/>
                <a:ext cx="0" cy="2639520"/>
              </a:xfrm>
              <a:prstGeom prst="line">
                <a:avLst/>
              </a:prstGeom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4570560" y="3206520"/>
                <a:ext cx="0" cy="2639520"/>
              </a:xfrm>
              <a:prstGeom prst="line">
                <a:avLst/>
              </a:prstGeom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4339800" y="3206520"/>
                <a:ext cx="0" cy="2639520"/>
              </a:xfrm>
              <a:prstGeom prst="line">
                <a:avLst/>
              </a:prstGeom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4108320" y="3206520"/>
                <a:ext cx="0" cy="2639520"/>
              </a:xfrm>
              <a:prstGeom prst="line">
                <a:avLst/>
              </a:prstGeom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3878640" y="3206520"/>
                <a:ext cx="0" cy="2639520"/>
              </a:xfrm>
              <a:prstGeom prst="line">
                <a:avLst/>
              </a:prstGeom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3647520" y="3206520"/>
                <a:ext cx="0" cy="2639520"/>
              </a:xfrm>
              <a:prstGeom prst="line">
                <a:avLst/>
              </a:prstGeom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3416400" y="3206520"/>
                <a:ext cx="0" cy="2639520"/>
              </a:xfrm>
              <a:prstGeom prst="line">
                <a:avLst/>
              </a:prstGeom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3184920" y="3206520"/>
                <a:ext cx="0" cy="2639520"/>
              </a:xfrm>
              <a:prstGeom prst="line">
                <a:avLst/>
              </a:prstGeom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2722680" y="3198600"/>
                <a:ext cx="1440" cy="264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2953800" y="3206520"/>
                <a:ext cx="0" cy="2639520"/>
              </a:xfrm>
              <a:prstGeom prst="line">
                <a:avLst/>
              </a:prstGeom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6188040" y="3206520"/>
                <a:ext cx="0" cy="2639520"/>
              </a:xfrm>
              <a:prstGeom prst="line">
                <a:avLst/>
              </a:prstGeom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8" name=""/>
            <p:cNvGrpSpPr/>
            <p:nvPr/>
          </p:nvGrpSpPr>
          <p:grpSpPr>
            <a:xfrm>
              <a:off x="5748480" y="4181400"/>
              <a:ext cx="414360" cy="1604520"/>
              <a:chOff x="5748480" y="4181400"/>
              <a:chExt cx="414360" cy="1604520"/>
            </a:xfrm>
          </p:grpSpPr>
          <p:sp>
            <p:nvSpPr>
              <p:cNvPr id="2139" name=""/>
              <p:cNvSpPr/>
              <p:nvPr/>
            </p:nvSpPr>
            <p:spPr>
              <a:xfrm>
                <a:off x="5748480" y="4181400"/>
                <a:ext cx="414360" cy="16045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5995800" y="4369680"/>
                <a:ext cx="115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5996520" y="450972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5996520" y="46494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5996520" y="478908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5996520" y="492876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5996520" y="506844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5996520" y="520812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5996520" y="53478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5996520" y="548748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5786640" y="4436640"/>
                <a:ext cx="133200" cy="108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5786640" y="4576320"/>
                <a:ext cx="13320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5786640" y="4716000"/>
                <a:ext cx="133200" cy="10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5786640" y="4855680"/>
                <a:ext cx="133200" cy="10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5786640" y="4995360"/>
                <a:ext cx="133200" cy="1080"/>
              </a:xfrm>
              <a:prstGeom prst="line">
                <a:avLst/>
              </a:prstGeom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5786640" y="5135040"/>
                <a:ext cx="133200" cy="108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5786640" y="5274720"/>
                <a:ext cx="133200" cy="108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5786640" y="5414400"/>
                <a:ext cx="13320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5786640" y="5554080"/>
                <a:ext cx="133200" cy="144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5786640" y="5695560"/>
                <a:ext cx="133200" cy="1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5996520" y="56286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5753160" y="4187160"/>
                <a:ext cx="406440" cy="1458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rp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61" name=""/>
          <p:cNvSpPr/>
          <p:nvPr/>
        </p:nvSpPr>
        <p:spPr>
          <a:xfrm>
            <a:off x="2106720" y="304164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l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6202080" y="5713560"/>
            <a:ext cx="40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2058120" y="2463840"/>
            <a:ext cx="46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ombre moyen de lectures de pages :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l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f(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p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2252520" y="5315040"/>
            <a:ext cx="1857600" cy="581040"/>
          </a:xfrm>
          <a:custGeom>
            <a:avLst/>
            <a:gdLst/>
            <a:ahLst/>
            <a:rect l="l" t="t" r="r" b="b"/>
            <a:pathLst>
              <a:path w="195" h="780">
                <a:moveTo>
                  <a:pt x="0" y="0"/>
                </a:moveTo>
                <a:lnTo>
                  <a:pt x="195" y="0"/>
                </a:lnTo>
                <a:lnTo>
                  <a:pt x="195" y="7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1874520" y="5197320"/>
            <a:ext cx="43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1,1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7 Organisation calculée - Perform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2305080" y="1596960"/>
            <a:ext cx="420696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erformances d'un fichier calcul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emps de l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1030320" y="251604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1037520" y="2863800"/>
            <a:ext cx="569772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'abaque nous donne, pour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pp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= 20 et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1,1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1,1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a donc :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k1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1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14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99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itesse de lecture : 71 enreg./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7 Organisation calculée - Comparaison des techniques prim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638280" y="1800360"/>
            <a:ext cx="2609640" cy="314280"/>
          </a:xfrm>
          <a:prstGeom prst="rect">
            <a:avLst/>
          </a:prstGeom>
          <a:solidFill>
            <a:srgbClr val="d2d2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oni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3286080" y="1800360"/>
            <a:ext cx="2448000" cy="314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très répan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3286080" y="1447920"/>
            <a:ext cx="2448000" cy="314280"/>
          </a:xfrm>
          <a:prstGeom prst="rect">
            <a:avLst/>
          </a:prstGeom>
          <a:solidFill>
            <a:srgbClr val="d2d2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équentiel index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5772240" y="1800360"/>
            <a:ext cx="2419200" cy="314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us r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5772240" y="1447920"/>
            <a:ext cx="2419200" cy="314280"/>
          </a:xfrm>
          <a:prstGeom prst="rect">
            <a:avLst/>
          </a:prstGeom>
          <a:solidFill>
            <a:srgbClr val="d2d2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638280" y="2143080"/>
            <a:ext cx="2609640" cy="314280"/>
          </a:xfrm>
          <a:prstGeom prst="rect">
            <a:avLst/>
          </a:prstGeom>
          <a:solidFill>
            <a:srgbClr val="d2d2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cupation espace dis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3286080" y="2143080"/>
            <a:ext cx="2448000" cy="314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y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5772240" y="2143080"/>
            <a:ext cx="2419200" cy="314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oyen à excell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638280" y="2487600"/>
            <a:ext cx="2609640" cy="314280"/>
          </a:xfrm>
          <a:prstGeom prst="rect">
            <a:avLst/>
          </a:prstGeom>
          <a:solidFill>
            <a:srgbClr val="d2d2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cupation mémoire centr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3286080" y="2487600"/>
            <a:ext cx="2448000" cy="314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usieurs milliers de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5772240" y="2487600"/>
            <a:ext cx="2419200" cy="314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 p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638280" y="2830680"/>
            <a:ext cx="2609640" cy="314280"/>
          </a:xfrm>
          <a:prstGeom prst="rect">
            <a:avLst/>
          </a:prstGeom>
          <a:solidFill>
            <a:srgbClr val="d2d2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bilité a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3286080" y="2830680"/>
            <a:ext cx="2448000" cy="314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5772240" y="2830680"/>
            <a:ext cx="2419200" cy="314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bon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638280" y="3174840"/>
            <a:ext cx="2609640" cy="314640"/>
          </a:xfrm>
          <a:prstGeom prst="rect">
            <a:avLst/>
          </a:prstGeom>
          <a:solidFill>
            <a:srgbClr val="d2d2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ès par clé : temps moy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3286080" y="3174840"/>
            <a:ext cx="2448000" cy="314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yen, amélior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5772240" y="3174840"/>
            <a:ext cx="2419200" cy="314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excell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638280" y="3517920"/>
            <a:ext cx="2609640" cy="314280"/>
          </a:xfrm>
          <a:prstGeom prst="rect">
            <a:avLst/>
          </a:prstGeom>
          <a:solidFill>
            <a:srgbClr val="d2d2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ès par clé : con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638280" y="3862440"/>
            <a:ext cx="2609640" cy="314280"/>
          </a:xfrm>
          <a:prstGeom prst="rect">
            <a:avLst/>
          </a:prstGeom>
          <a:solidFill>
            <a:srgbClr val="d2d2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ps d'accès par clé selon 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638280" y="4205160"/>
            <a:ext cx="2609640" cy="314280"/>
          </a:xfrm>
          <a:prstGeom prst="rect">
            <a:avLst/>
          </a:prstGeom>
          <a:solidFill>
            <a:srgbClr val="d2d2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ès ordonn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638280" y="4549680"/>
            <a:ext cx="2609640" cy="314280"/>
          </a:xfrm>
          <a:prstGeom prst="rect">
            <a:avLst/>
          </a:prstGeom>
          <a:solidFill>
            <a:srgbClr val="d2d2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ès par interva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638280" y="4892760"/>
            <a:ext cx="2609640" cy="314280"/>
          </a:xfrm>
          <a:prstGeom prst="rect">
            <a:avLst/>
          </a:prstGeom>
          <a:solidFill>
            <a:srgbClr val="d2d2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égrad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638280" y="5237280"/>
            <a:ext cx="2609640" cy="314280"/>
          </a:xfrm>
          <a:prstGeom prst="rect">
            <a:avLst/>
          </a:prstGeom>
          <a:solidFill>
            <a:srgbClr val="d2d2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nsi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638280" y="5581800"/>
            <a:ext cx="2609640" cy="314280"/>
          </a:xfrm>
          <a:prstGeom prst="rect">
            <a:avLst/>
          </a:prstGeom>
          <a:solidFill>
            <a:srgbClr val="d2d2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nstr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3286080" y="3517920"/>
            <a:ext cx="2448000" cy="314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ps const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3286080" y="3862440"/>
            <a:ext cx="2448000" cy="314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arithm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3286080" y="4205160"/>
            <a:ext cx="2448000" cy="314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ou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3286080" y="4549680"/>
            <a:ext cx="2448000" cy="314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ou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3286080" y="4892760"/>
            <a:ext cx="2448000" cy="314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gressive (</a:t>
            </a:r>
            <a:r>
              <a:rPr b="1" lang="fr-FR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fr-FR" sz="1200" spc="-1" strike="noStrike">
                <a:solidFill>
                  <a:srgbClr val="ff0000"/>
                </a:solidFill>
                <a:latin typeface="Arial"/>
              </a:rPr>
              <a:t>r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!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3286080" y="5237280"/>
            <a:ext cx="2448000" cy="314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3286080" y="5581800"/>
            <a:ext cx="2448000" cy="314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rap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5772240" y="3517920"/>
            <a:ext cx="2419200" cy="314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5772240" y="3862440"/>
            <a:ext cx="2419200" cy="314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oyenne const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5772240" y="4205160"/>
            <a:ext cx="2419200" cy="314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5772240" y="4549680"/>
            <a:ext cx="2419200" cy="314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5772240" y="4892760"/>
            <a:ext cx="2419200" cy="314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gressive, faible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5772240" y="5237280"/>
            <a:ext cx="2419200" cy="314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5772240" y="5581800"/>
            <a:ext cx="2419200" cy="314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2488680" y="1392120"/>
            <a:ext cx="404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4.8  Les index seconda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8 Les index second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942840" y="1558800"/>
            <a:ext cx="7597800" cy="1870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ndex primai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plus souvent identifia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 seul index primaire par fich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structure du fichier dépend fortement de la présence d'un index prim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ifficile d'ajouter et de supprimer un index primaire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au v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ff"/>
                </a:solidFill>
                <a:latin typeface="Arial"/>
              </a:rPr>
              <a:t>faible volume, très bonnes performance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942840" y="3720960"/>
            <a:ext cx="7588440" cy="2421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ndex secondai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dentifiant ou non identifi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ff"/>
                </a:solidFill>
                <a:latin typeface="Arial"/>
              </a:rPr>
              <a:t>de 0 à N index secondaires par fich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ff"/>
                </a:solidFill>
                <a:latin typeface="Arial"/>
              </a:rPr>
              <a:t>la structure du fichier est indépendante de la présence d'un index second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ff"/>
                </a:solidFill>
                <a:latin typeface="Arial"/>
              </a:rPr>
              <a:t>facile d'ajouter et de supprimer un index secondaire </a:t>
            </a:r>
            <a:r>
              <a:rPr b="1" i="1" lang="fr-FR" sz="1600" spc="-1" strike="noStrike">
                <a:solidFill>
                  <a:srgbClr val="0000ff"/>
                </a:solidFill>
                <a:latin typeface="Arial"/>
              </a:rPr>
              <a:t>au v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olume plus important, moins bonnes perform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ertains SGBD n'offrent que des index secondaires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3" name=""/>
          <p:cNvGrpSpPr/>
          <p:nvPr/>
        </p:nvGrpSpPr>
        <p:grpSpPr>
          <a:xfrm>
            <a:off x="361800" y="3133800"/>
            <a:ext cx="505080" cy="2352600"/>
            <a:chOff x="361800" y="3133800"/>
            <a:chExt cx="505080" cy="2352600"/>
          </a:xfrm>
        </p:grpSpPr>
        <p:sp>
          <p:nvSpPr>
            <p:cNvPr id="2234" name=""/>
            <p:cNvSpPr/>
            <p:nvPr/>
          </p:nvSpPr>
          <p:spPr>
            <a:xfrm>
              <a:off x="361800" y="3133800"/>
              <a:ext cx="505080" cy="257040"/>
            </a:xfrm>
            <a:prstGeom prst="rightArrow">
              <a:avLst>
                <a:gd name="adj1" fmla="val 50000"/>
                <a:gd name="adj2" fmla="val 49125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361800" y="5229360"/>
              <a:ext cx="505080" cy="257040"/>
            </a:xfrm>
            <a:prstGeom prst="rightArrow">
              <a:avLst>
                <a:gd name="adj1" fmla="val 50000"/>
                <a:gd name="adj2" fmla="val 49125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361800" y="4381560"/>
              <a:ext cx="505080" cy="257040"/>
            </a:xfrm>
            <a:prstGeom prst="rightArrow">
              <a:avLst>
                <a:gd name="adj1" fmla="val 50000"/>
                <a:gd name="adj2" fmla="val 49125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361800" y="4695840"/>
              <a:ext cx="505080" cy="257040"/>
            </a:xfrm>
            <a:prstGeom prst="rightArrow">
              <a:avLst>
                <a:gd name="adj1" fmla="val 50000"/>
                <a:gd name="adj2" fmla="val 49125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8" name=""/>
          <p:cNvSpPr/>
          <p:nvPr/>
        </p:nvSpPr>
        <p:spPr>
          <a:xfrm>
            <a:off x="7686720" y="1419120"/>
            <a:ext cx="1133280" cy="4190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00"/>
                </a:solidFill>
                <a:latin typeface="Arial"/>
              </a:rPr>
              <a:t>Rapp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3200400" y="1568520"/>
            <a:ext cx="24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dex (dans un livre)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4" name=""/>
          <p:cNvGrpSpPr/>
          <p:nvPr/>
        </p:nvGrpSpPr>
        <p:grpSpPr>
          <a:xfrm>
            <a:off x="1791000" y="2076480"/>
            <a:ext cx="5572800" cy="3887280"/>
            <a:chOff x="1791000" y="2076480"/>
            <a:chExt cx="5572800" cy="3887280"/>
          </a:xfrm>
        </p:grpSpPr>
        <p:sp>
          <p:nvSpPr>
            <p:cNvPr id="2245" name=""/>
            <p:cNvSpPr/>
            <p:nvPr/>
          </p:nvSpPr>
          <p:spPr>
            <a:xfrm>
              <a:off x="2182680" y="2146320"/>
              <a:ext cx="2382840" cy="3817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Times New Roman"/>
                </a:rPr>
                <a:t>base de données active 16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Times New Roman"/>
                </a:rPr>
                <a:t>base de données temporelles 153, 17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Times New Roman"/>
                </a:rPr>
                <a:t>between 6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Times New Roman"/>
                </a:rPr>
                <a:t>cardinalité d’attribut 18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Times New Roman"/>
                </a:rPr>
                <a:t>cardinalité d’un role 18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Times New Roman"/>
                </a:rPr>
                <a:t>catalogue 147, 169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Times New Roman"/>
                </a:rPr>
                <a:t>cellules 28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Times New Roman"/>
                </a:rPr>
                <a:t>Chen 29, 20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Times New Roman"/>
                </a:rPr>
                <a:t>chimpanzé 36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Times New Roman"/>
                </a:rPr>
                <a:t>circuit de dépendances 312, 39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Times New Roman"/>
                </a:rPr>
                <a:t>classe d’objets 20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Times New Roman"/>
                </a:rPr>
                <a:t>classe fonctionnelle 184, 185, 242, 24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Times New Roman"/>
                </a:rPr>
                <a:t>clé étrangère  34, 44, 77, 81, 15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Times New Roman"/>
                </a:rPr>
                <a:t>close 14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Times New Roman"/>
                </a:rPr>
                <a:t>coalescing 15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Times New Roman"/>
                </a:rPr>
                <a:t>COBOL 18, 14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Times New Roman"/>
                </a:rPr>
                <a:t>Codd 2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Times New Roman"/>
                </a:rPr>
                <a:t>codomaine 35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Times New Roman"/>
                </a:rPr>
                <a:t>colonne 32, 35, 4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2104920" y="2076480"/>
              <a:ext cx="2600280" cy="9144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019240" y="4743360"/>
              <a:ext cx="1000080" cy="1810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3047760" y="4743360"/>
              <a:ext cx="1629000" cy="1810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5372280" y="2395440"/>
              <a:ext cx="1898280" cy="2764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3333cc"/>
                  </a:solidFill>
                  <a:latin typeface="Arial"/>
                </a:rPr>
                <a:t>les termes de la lettre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5375160" y="4281480"/>
              <a:ext cx="1965240" cy="2764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3333cc"/>
                  </a:solidFill>
                  <a:latin typeface="Arial"/>
                </a:rPr>
                <a:t>le terme </a:t>
              </a:r>
              <a:r>
                <a:rPr b="1" i="1" lang="fr-FR" sz="1200" spc="-1" strike="noStrike">
                  <a:solidFill>
                    <a:srgbClr val="3333cc"/>
                  </a:solidFill>
                  <a:latin typeface="Arial"/>
                </a:rPr>
                <a:t>clé étrangè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5375520" y="4605120"/>
              <a:ext cx="1988280" cy="459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3333cc"/>
                  </a:solidFill>
                  <a:latin typeface="Arial"/>
                </a:rPr>
                <a:t>numéros des pag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3333cc"/>
                  </a:solidFill>
                  <a:latin typeface="Arial"/>
                </a:rPr>
                <a:t>qui contiennent ce ter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52" name=""/>
            <p:cNvCxnSpPr>
              <a:stCxn id="2247" idx="1"/>
              <a:endCxn id="2250" idx="1"/>
            </p:cNvCxnSpPr>
            <p:nvPr/>
          </p:nvCxnSpPr>
          <p:spPr>
            <a:xfrm flipH="1" rot="10800000">
              <a:off x="2018880" y="4418640"/>
              <a:ext cx="3356640" cy="415080"/>
            </a:xfrm>
            <a:prstGeom prst="bentConnector3">
              <a:avLst>
                <a:gd name="adj1" fmla="val -68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53" name=""/>
            <p:cNvCxnSpPr>
              <a:stCxn id="2248" idx="3"/>
              <a:endCxn id="2251" idx="1"/>
            </p:cNvCxnSpPr>
            <p:nvPr/>
          </p:nvCxnSpPr>
          <p:spPr>
            <a:xfrm>
              <a:off x="4676760" y="4833360"/>
              <a:ext cx="69912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54" name=""/>
            <p:cNvCxnSpPr>
              <a:stCxn id="2246" idx="3"/>
              <a:endCxn id="2249" idx="1"/>
            </p:cNvCxnSpPr>
            <p:nvPr/>
          </p:nvCxnSpPr>
          <p:spPr>
            <a:xfrm>
              <a:off x="4704840" y="2533320"/>
              <a:ext cx="67068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255" name=""/>
          <p:cNvSpPr/>
          <p:nvPr/>
        </p:nvSpPr>
        <p:spPr>
          <a:xfrm>
            <a:off x="7686720" y="1419120"/>
            <a:ext cx="1133280" cy="4190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00"/>
                </a:solidFill>
                <a:latin typeface="Arial"/>
              </a:rPr>
              <a:t>Rapp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8 Les index second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5 Les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42840" y="2111400"/>
            <a:ext cx="7597800" cy="13262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incipales technologies des index primai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. organisation séquentielle indexé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2. organisation calcul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2" name="" descr=""/>
          <p:cNvPicPr/>
          <p:nvPr/>
        </p:nvPicPr>
        <p:blipFill>
          <a:blip r:embed="rId1"/>
          <a:stretch/>
        </p:blipFill>
        <p:spPr>
          <a:xfrm>
            <a:off x="3352680" y="2290680"/>
            <a:ext cx="5581800" cy="3229200"/>
          </a:xfrm>
          <a:prstGeom prst="rect">
            <a:avLst/>
          </a:prstGeom>
          <a:ln w="0">
            <a:noFill/>
          </a:ln>
        </p:spPr>
      </p:pic>
      <p:sp>
        <p:nvSpPr>
          <p:cNvPr id="2263" name=""/>
          <p:cNvSpPr/>
          <p:nvPr/>
        </p:nvSpPr>
        <p:spPr>
          <a:xfrm>
            <a:off x="350640" y="3394080"/>
            <a:ext cx="813240" cy="1479960"/>
          </a:xfrm>
          <a:prstGeom prst="rect">
            <a:avLst/>
          </a:prstGeom>
          <a:solidFill>
            <a:srgbClr val="d2d2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Bruxell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Genèv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Lil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Namu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Poitier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Toulous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1253880" y="3394080"/>
            <a:ext cx="1170000" cy="1479960"/>
          </a:xfrm>
          <a:prstGeom prst="rect">
            <a:avLst/>
          </a:prstGeom>
          <a:solidFill>
            <a:srgbClr val="d2d2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0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01 06 14 1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02 07 09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04 05 08 10 1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3047400" y="2692440"/>
            <a:ext cx="300240" cy="2763360"/>
          </a:xfrm>
          <a:prstGeom prst="rect">
            <a:avLst/>
          </a:prstGeom>
          <a:solidFill>
            <a:srgbClr val="d2d2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18000" bIns="18000" anchor="t">
            <a:spAutoFit/>
          </a:bodyPr>
          <a:p>
            <a:pPr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0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0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0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0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219240" y="3209760"/>
            <a:ext cx="2314440" cy="1828800"/>
          </a:xfrm>
          <a:prstGeom prst="roundRect">
            <a:avLst>
              <a:gd name="adj" fmla="val 3648"/>
            </a:avLst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732240" y="5870520"/>
            <a:ext cx="2286720" cy="459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Arial"/>
              </a:rPr>
              <a:t>les valeurs de LOCALIT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Arial"/>
              </a:rPr>
              <a:t>triées par ordre alphabét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276120" y="3324240"/>
            <a:ext cx="914400" cy="1600200"/>
          </a:xfrm>
          <a:custGeom>
            <a:avLst/>
            <a:gdLst>
              <a:gd name="textAreaLeft" fmla="*/ 9720 w 914400"/>
              <a:gd name="textAreaRight" fmla="*/ 904680 w 914400"/>
              <a:gd name="textAreaTop" fmla="*/ 9720 h 1600200"/>
              <a:gd name="textAreaBottom" fmla="*/ 1590480 h 1600200"/>
            </a:gdLst>
            <a:ahLst/>
            <a:rect l="textAreaLeft" t="textAreaTop" r="textAreaRight" b="textAreaBottom"/>
            <a:pathLst>
              <a:path w="21600" h="37794">
                <a:moveTo>
                  <a:pt x="788" y="0"/>
                </a:moveTo>
                <a:arcTo wR="788" hR="788" stAng="16200000" swAng="-5400000"/>
                <a:lnTo>
                  <a:pt x="0" y="37006"/>
                </a:lnTo>
                <a:arcTo wR="788" hR="788" stAng="10800000" swAng="-5400000"/>
                <a:lnTo>
                  <a:pt x="20812" y="37794"/>
                </a:lnTo>
                <a:arcTo wR="788" hR="788" stAng="5400000" swAng="-5400000"/>
                <a:lnTo>
                  <a:pt x="21600" y="788"/>
                </a:lnTo>
                <a:arcTo wR="788" hR="788" stAng="0" swAng="-5400000"/>
                <a:close/>
              </a:path>
            </a:pathLst>
          </a:cu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1219320" y="4619520"/>
            <a:ext cx="1257120" cy="304920"/>
          </a:xfrm>
          <a:prstGeom prst="roundRect">
            <a:avLst>
              <a:gd name="adj" fmla="val 3648"/>
            </a:avLst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0" name=""/>
          <p:cNvCxnSpPr>
            <a:stCxn id="2268" idx="2"/>
            <a:endCxn id="2267" idx="1"/>
          </p:cNvCxnSpPr>
          <p:nvPr/>
        </p:nvCxnSpPr>
        <p:spPr>
          <a:xfrm flipH="1" rot="16200000">
            <a:off x="145800" y="5510520"/>
            <a:ext cx="1175400" cy="2520"/>
          </a:xfrm>
          <a:prstGeom prst="bentConnector4">
            <a:avLst>
              <a:gd name="adj1" fmla="val 40257"/>
              <a:gd name="adj2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1" name=""/>
          <p:cNvSpPr/>
          <p:nvPr/>
        </p:nvSpPr>
        <p:spPr>
          <a:xfrm>
            <a:off x="858240" y="5318280"/>
            <a:ext cx="1988280" cy="459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Arial"/>
              </a:rPr>
              <a:t>numéros des lignes do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Arial"/>
              </a:rPr>
              <a:t>LOCALITE = 'Toulouse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2" name=""/>
          <p:cNvCxnSpPr>
            <a:stCxn id="2269" idx="2"/>
            <a:endCxn id="2271" idx="0"/>
          </p:cNvCxnSpPr>
          <p:nvPr/>
        </p:nvCxnSpPr>
        <p:spPr>
          <a:xfrm flipH="1" rot="16200000">
            <a:off x="1652400" y="5118840"/>
            <a:ext cx="394560" cy="5400"/>
          </a:xfrm>
          <a:prstGeom prst="bentConnector3">
            <a:avLst>
              <a:gd name="adj1" fmla="val 499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3" name=""/>
          <p:cNvSpPr/>
          <p:nvPr/>
        </p:nvSpPr>
        <p:spPr>
          <a:xfrm>
            <a:off x="144360" y="2260440"/>
            <a:ext cx="2463840" cy="276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Arial"/>
              </a:rPr>
              <a:t>Index sur la colonne LOCAL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4" name=""/>
          <p:cNvCxnSpPr>
            <a:stCxn id="2266" idx="0"/>
            <a:endCxn id="2273" idx="2"/>
          </p:cNvCxnSpPr>
          <p:nvPr/>
        </p:nvCxnSpPr>
        <p:spPr>
          <a:xfrm flipV="1">
            <a:off x="1375920" y="2534760"/>
            <a:ext cx="1080" cy="675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5" name=""/>
          <p:cNvSpPr/>
          <p:nvPr/>
        </p:nvSpPr>
        <p:spPr>
          <a:xfrm>
            <a:off x="4016160" y="5775480"/>
            <a:ext cx="3981600" cy="459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Arial"/>
              </a:rPr>
              <a:t>chaque ligne possède un numéro uniqu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Arial"/>
              </a:rPr>
              <a:t>l'accès à une ligne de numéro donné est très rapi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6" name=""/>
          <p:cNvCxnSpPr>
            <a:stCxn id="2265" idx="2"/>
            <a:endCxn id="2275" idx="1"/>
          </p:cNvCxnSpPr>
          <p:nvPr/>
        </p:nvCxnSpPr>
        <p:spPr>
          <a:xfrm flipH="1" rot="16200000">
            <a:off x="3339720" y="5324040"/>
            <a:ext cx="537480" cy="822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7" name=""/>
          <p:cNvSpPr/>
          <p:nvPr/>
        </p:nvSpPr>
        <p:spPr>
          <a:xfrm>
            <a:off x="2562120" y="1568520"/>
            <a:ext cx="39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dex (dans une base de données)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7686720" y="1419120"/>
            <a:ext cx="1133280" cy="4190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00"/>
                </a:solidFill>
                <a:latin typeface="Arial"/>
              </a:rPr>
              <a:t>Rapp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8 Les index second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8 Les index second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6" name=""/>
          <p:cNvGrpSpPr/>
          <p:nvPr/>
        </p:nvGrpSpPr>
        <p:grpSpPr>
          <a:xfrm>
            <a:off x="2228760" y="1719360"/>
            <a:ext cx="4249800" cy="4854240"/>
            <a:chOff x="2228760" y="1719360"/>
            <a:chExt cx="4249800" cy="4854240"/>
          </a:xfrm>
        </p:grpSpPr>
        <p:grpSp>
          <p:nvGrpSpPr>
            <p:cNvPr id="2287" name=""/>
            <p:cNvGrpSpPr/>
            <p:nvPr/>
          </p:nvGrpSpPr>
          <p:grpSpPr>
            <a:xfrm>
              <a:off x="2266920" y="4514400"/>
              <a:ext cx="1571400" cy="1086120"/>
              <a:chOff x="2266920" y="4514400"/>
              <a:chExt cx="1571400" cy="1086120"/>
            </a:xfrm>
          </p:grpSpPr>
          <p:sp>
            <p:nvSpPr>
              <p:cNvPr id="2288" name=""/>
              <p:cNvSpPr/>
              <p:nvPr/>
            </p:nvSpPr>
            <p:spPr>
              <a:xfrm flipV="1">
                <a:off x="3314520" y="4514040"/>
                <a:ext cx="523800" cy="1086120"/>
              </a:xfrm>
              <a:prstGeom prst="upArrow">
                <a:avLst>
                  <a:gd name="adj1" fmla="val 100000"/>
                  <a:gd name="adj2" fmla="val 26294"/>
                </a:avLst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 flipV="1">
                <a:off x="2266920" y="4514040"/>
                <a:ext cx="485640" cy="1086120"/>
              </a:xfrm>
              <a:prstGeom prst="upArrow">
                <a:avLst>
                  <a:gd name="adj1" fmla="val 100000"/>
                  <a:gd name="adj2" fmla="val 28360"/>
                </a:avLst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flipV="1">
                <a:off x="2876400" y="4514040"/>
                <a:ext cx="399960" cy="1086120"/>
              </a:xfrm>
              <a:prstGeom prst="upArrow">
                <a:avLst>
                  <a:gd name="adj1" fmla="val 100000"/>
                  <a:gd name="adj2" fmla="val 34435"/>
                </a:avLst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1" name=""/>
            <p:cNvGrpSpPr/>
            <p:nvPr/>
          </p:nvGrpSpPr>
          <p:grpSpPr>
            <a:xfrm>
              <a:off x="2228760" y="1719360"/>
              <a:ext cx="3976560" cy="3429000"/>
              <a:chOff x="2228760" y="1719360"/>
              <a:chExt cx="3976560" cy="3429000"/>
            </a:xfrm>
          </p:grpSpPr>
          <p:grpSp>
            <p:nvGrpSpPr>
              <p:cNvPr id="2292" name=""/>
              <p:cNvGrpSpPr/>
              <p:nvPr/>
            </p:nvGrpSpPr>
            <p:grpSpPr>
              <a:xfrm>
                <a:off x="2228760" y="2309760"/>
                <a:ext cx="1663560" cy="2124360"/>
                <a:chOff x="2228760" y="2309760"/>
                <a:chExt cx="1663560" cy="2124360"/>
              </a:xfrm>
            </p:grpSpPr>
            <p:sp>
              <p:nvSpPr>
                <p:cNvPr id="2293" name=""/>
                <p:cNvSpPr/>
                <p:nvPr/>
              </p:nvSpPr>
              <p:spPr>
                <a:xfrm>
                  <a:off x="2228760" y="2589480"/>
                  <a:ext cx="1663560" cy="1844640"/>
                </a:xfrm>
                <a:prstGeom prst="rect">
                  <a:avLst/>
                </a:prstGeom>
                <a:solidFill>
                  <a:srgbClr val="ffff99"/>
                </a:solidFill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>
                  <a:off x="2228760" y="2309760"/>
                  <a:ext cx="1663560" cy="29232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>
                  <a:off x="2531160" y="2349720"/>
                  <a:ext cx="116064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900" spc="-1" strike="noStrike">
                      <a:solidFill>
                        <a:srgbClr val="000000"/>
                      </a:solidFill>
                      <a:latin typeface="Arial"/>
                    </a:rPr>
                    <a:t>Index (LOCALITE)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 rot="16200000">
                  <a:off x="1854000" y="3338280"/>
                  <a:ext cx="1304640" cy="473400"/>
                </a:xfrm>
                <a:prstGeom prst="triangle">
                  <a:avLst>
                    <a:gd name="adj" fmla="val 50088"/>
                  </a:avLst>
                </a:prstGeom>
                <a:solidFill>
                  <a:srgbClr val="c0c0c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97" name=""/>
                <p:cNvGrpSpPr/>
                <p:nvPr/>
              </p:nvGrpSpPr>
              <p:grpSpPr>
                <a:xfrm>
                  <a:off x="2863800" y="2916360"/>
                  <a:ext cx="555120" cy="147600"/>
                  <a:chOff x="2863800" y="2916360"/>
                  <a:chExt cx="555120" cy="147600"/>
                </a:xfrm>
              </p:grpSpPr>
              <p:sp>
                <p:nvSpPr>
                  <p:cNvPr id="2298" name=""/>
                  <p:cNvSpPr/>
                  <p:nvPr/>
                </p:nvSpPr>
                <p:spPr>
                  <a:xfrm>
                    <a:off x="2863800" y="2916360"/>
                    <a:ext cx="417240" cy="14760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Bruxelles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299" name=""/>
                  <p:cNvGrpSpPr/>
                  <p:nvPr/>
                </p:nvGrpSpPr>
                <p:grpSpPr>
                  <a:xfrm>
                    <a:off x="3281040" y="2916360"/>
                    <a:ext cx="137880" cy="147600"/>
                    <a:chOff x="3281040" y="2916360"/>
                    <a:chExt cx="137880" cy="147600"/>
                  </a:xfrm>
                </p:grpSpPr>
                <p:sp>
                  <p:nvSpPr>
                    <p:cNvPr id="2300" name=""/>
                    <p:cNvSpPr/>
                    <p:nvPr/>
                  </p:nvSpPr>
                  <p:spPr>
                    <a:xfrm>
                      <a:off x="3281040" y="291636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1" name=""/>
                    <p:cNvSpPr/>
                    <p:nvPr/>
                  </p:nvSpPr>
                  <p:spPr>
                    <a:xfrm>
                      <a:off x="3328560" y="296892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302" name=""/>
                <p:cNvGrpSpPr/>
                <p:nvPr/>
              </p:nvGrpSpPr>
              <p:grpSpPr>
                <a:xfrm>
                  <a:off x="2863800" y="3110040"/>
                  <a:ext cx="555120" cy="147600"/>
                  <a:chOff x="2863800" y="3110040"/>
                  <a:chExt cx="555120" cy="147600"/>
                </a:xfrm>
              </p:grpSpPr>
              <p:sp>
                <p:nvSpPr>
                  <p:cNvPr id="2303" name=""/>
                  <p:cNvSpPr/>
                  <p:nvPr/>
                </p:nvSpPr>
                <p:spPr>
                  <a:xfrm>
                    <a:off x="2863800" y="3110040"/>
                    <a:ext cx="417240" cy="14760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Genève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04" name=""/>
                  <p:cNvGrpSpPr/>
                  <p:nvPr/>
                </p:nvGrpSpPr>
                <p:grpSpPr>
                  <a:xfrm>
                    <a:off x="3281040" y="3110040"/>
                    <a:ext cx="137880" cy="147600"/>
                    <a:chOff x="3281040" y="3110040"/>
                    <a:chExt cx="137880" cy="147600"/>
                  </a:xfrm>
                </p:grpSpPr>
                <p:sp>
                  <p:nvSpPr>
                    <p:cNvPr id="2305" name=""/>
                    <p:cNvSpPr/>
                    <p:nvPr/>
                  </p:nvSpPr>
                  <p:spPr>
                    <a:xfrm>
                      <a:off x="3281040" y="311004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6" name=""/>
                    <p:cNvSpPr/>
                    <p:nvPr/>
                  </p:nvSpPr>
                  <p:spPr>
                    <a:xfrm>
                      <a:off x="3328560" y="316260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307" name=""/>
                <p:cNvGrpSpPr/>
                <p:nvPr/>
              </p:nvGrpSpPr>
              <p:grpSpPr>
                <a:xfrm>
                  <a:off x="2863800" y="3305160"/>
                  <a:ext cx="555120" cy="147600"/>
                  <a:chOff x="2863800" y="3305160"/>
                  <a:chExt cx="555120" cy="147600"/>
                </a:xfrm>
              </p:grpSpPr>
              <p:sp>
                <p:nvSpPr>
                  <p:cNvPr id="2308" name=""/>
                  <p:cNvSpPr/>
                  <p:nvPr/>
                </p:nvSpPr>
                <p:spPr>
                  <a:xfrm>
                    <a:off x="2863800" y="3305160"/>
                    <a:ext cx="417240" cy="14760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Lille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09" name=""/>
                  <p:cNvGrpSpPr/>
                  <p:nvPr/>
                </p:nvGrpSpPr>
                <p:grpSpPr>
                  <a:xfrm>
                    <a:off x="3281040" y="3305160"/>
                    <a:ext cx="137880" cy="147600"/>
                    <a:chOff x="3281040" y="3305160"/>
                    <a:chExt cx="137880" cy="147600"/>
                  </a:xfrm>
                </p:grpSpPr>
                <p:sp>
                  <p:nvSpPr>
                    <p:cNvPr id="2310" name=""/>
                    <p:cNvSpPr/>
                    <p:nvPr/>
                  </p:nvSpPr>
                  <p:spPr>
                    <a:xfrm>
                      <a:off x="3281040" y="330516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11" name=""/>
                    <p:cNvSpPr/>
                    <p:nvPr/>
                  </p:nvSpPr>
                  <p:spPr>
                    <a:xfrm>
                      <a:off x="3328560" y="335772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312" name=""/>
                <p:cNvGrpSpPr/>
                <p:nvPr/>
              </p:nvGrpSpPr>
              <p:grpSpPr>
                <a:xfrm>
                  <a:off x="2863800" y="3695760"/>
                  <a:ext cx="555120" cy="147600"/>
                  <a:chOff x="2863800" y="3695760"/>
                  <a:chExt cx="555120" cy="147600"/>
                </a:xfrm>
              </p:grpSpPr>
              <p:sp>
                <p:nvSpPr>
                  <p:cNvPr id="2313" name=""/>
                  <p:cNvSpPr/>
                  <p:nvPr/>
                </p:nvSpPr>
                <p:spPr>
                  <a:xfrm>
                    <a:off x="2863800" y="3695760"/>
                    <a:ext cx="417240" cy="14760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Paris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14" name=""/>
                  <p:cNvGrpSpPr/>
                  <p:nvPr/>
                </p:nvGrpSpPr>
                <p:grpSpPr>
                  <a:xfrm>
                    <a:off x="3281040" y="3695760"/>
                    <a:ext cx="137880" cy="147600"/>
                    <a:chOff x="3281040" y="3695760"/>
                    <a:chExt cx="137880" cy="147600"/>
                  </a:xfrm>
                </p:grpSpPr>
                <p:sp>
                  <p:nvSpPr>
                    <p:cNvPr id="2315" name=""/>
                    <p:cNvSpPr/>
                    <p:nvPr/>
                  </p:nvSpPr>
                  <p:spPr>
                    <a:xfrm>
                      <a:off x="3281040" y="369576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16" name=""/>
                    <p:cNvSpPr/>
                    <p:nvPr/>
                  </p:nvSpPr>
                  <p:spPr>
                    <a:xfrm>
                      <a:off x="3328560" y="374832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317" name=""/>
                <p:cNvGrpSpPr/>
                <p:nvPr/>
              </p:nvGrpSpPr>
              <p:grpSpPr>
                <a:xfrm>
                  <a:off x="2863800" y="4087800"/>
                  <a:ext cx="970920" cy="147600"/>
                  <a:chOff x="2863800" y="4087800"/>
                  <a:chExt cx="970920" cy="147600"/>
                </a:xfrm>
              </p:grpSpPr>
              <p:grpSp>
                <p:nvGrpSpPr>
                  <p:cNvPr id="2318" name=""/>
                  <p:cNvGrpSpPr/>
                  <p:nvPr/>
                </p:nvGrpSpPr>
                <p:grpSpPr>
                  <a:xfrm>
                    <a:off x="2863800" y="4087800"/>
                    <a:ext cx="555120" cy="147600"/>
                    <a:chOff x="2863800" y="4087800"/>
                    <a:chExt cx="555120" cy="147600"/>
                  </a:xfrm>
                </p:grpSpPr>
                <p:sp>
                  <p:nvSpPr>
                    <p:cNvPr id="2319" name=""/>
                    <p:cNvSpPr/>
                    <p:nvPr/>
                  </p:nvSpPr>
                  <p:spPr>
                    <a:xfrm>
                      <a:off x="2863800" y="4087800"/>
                      <a:ext cx="417240" cy="147600"/>
                    </a:xfrm>
                    <a:prstGeom prst="rect">
                      <a:avLst/>
                    </a:prstGeom>
                    <a:solidFill>
                      <a:srgbClr val="dddddd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ulous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320" name=""/>
                    <p:cNvGrpSpPr/>
                    <p:nvPr/>
                  </p:nvGrpSpPr>
                  <p:grpSpPr>
                    <a:xfrm>
                      <a:off x="3281040" y="4087800"/>
                      <a:ext cx="137880" cy="147600"/>
                      <a:chOff x="3281040" y="4087800"/>
                      <a:chExt cx="137880" cy="147600"/>
                    </a:xfrm>
                  </p:grpSpPr>
                  <p:sp>
                    <p:nvSpPr>
                      <p:cNvPr id="2321" name=""/>
                      <p:cNvSpPr/>
                      <p:nvPr/>
                    </p:nvSpPr>
                    <p:spPr>
                      <a:xfrm>
                        <a:off x="3281040" y="4087800"/>
                        <a:ext cx="137880" cy="147600"/>
                      </a:xfrm>
                      <a:prstGeom prst="rect">
                        <a:avLst/>
                      </a:prstGeom>
                      <a:solidFill>
                        <a:srgbClr val="ccccff"/>
                      </a:solidFill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8000" rIns="18000" tIns="18000" bIns="180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437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22" name=""/>
                      <p:cNvSpPr/>
                      <p:nvPr/>
                    </p:nvSpPr>
                    <p:spPr>
                      <a:xfrm>
                        <a:off x="3328560" y="4140360"/>
                        <a:ext cx="42840" cy="417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7280" bIns="-17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323" name=""/>
                  <p:cNvGrpSpPr/>
                  <p:nvPr/>
                </p:nvGrpSpPr>
                <p:grpSpPr>
                  <a:xfrm>
                    <a:off x="3419280" y="4087800"/>
                    <a:ext cx="137520" cy="147600"/>
                    <a:chOff x="3419280" y="4087800"/>
                    <a:chExt cx="137520" cy="147600"/>
                  </a:xfrm>
                </p:grpSpPr>
                <p:sp>
                  <p:nvSpPr>
                    <p:cNvPr id="2324" name=""/>
                    <p:cNvSpPr/>
                    <p:nvPr/>
                  </p:nvSpPr>
                  <p:spPr>
                    <a:xfrm>
                      <a:off x="3419280" y="4087800"/>
                      <a:ext cx="13752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5" name=""/>
                    <p:cNvSpPr/>
                    <p:nvPr/>
                  </p:nvSpPr>
                  <p:spPr>
                    <a:xfrm>
                      <a:off x="3466440" y="4140360"/>
                      <a:ext cx="4248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26" name=""/>
                  <p:cNvGrpSpPr/>
                  <p:nvPr/>
                </p:nvGrpSpPr>
                <p:grpSpPr>
                  <a:xfrm>
                    <a:off x="3557160" y="4087800"/>
                    <a:ext cx="137880" cy="147600"/>
                    <a:chOff x="3557160" y="4087800"/>
                    <a:chExt cx="137880" cy="147600"/>
                  </a:xfrm>
                </p:grpSpPr>
                <p:sp>
                  <p:nvSpPr>
                    <p:cNvPr id="2327" name=""/>
                    <p:cNvSpPr/>
                    <p:nvPr/>
                  </p:nvSpPr>
                  <p:spPr>
                    <a:xfrm>
                      <a:off x="3557160" y="408780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8" name=""/>
                    <p:cNvSpPr/>
                    <p:nvPr/>
                  </p:nvSpPr>
                  <p:spPr>
                    <a:xfrm>
                      <a:off x="3604680" y="414036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29" name=""/>
                  <p:cNvGrpSpPr/>
                  <p:nvPr/>
                </p:nvGrpSpPr>
                <p:grpSpPr>
                  <a:xfrm>
                    <a:off x="3696840" y="4087800"/>
                    <a:ext cx="137880" cy="147600"/>
                    <a:chOff x="3696840" y="4087800"/>
                    <a:chExt cx="137880" cy="147600"/>
                  </a:xfrm>
                </p:grpSpPr>
                <p:sp>
                  <p:nvSpPr>
                    <p:cNvPr id="2330" name=""/>
                    <p:cNvSpPr/>
                    <p:nvPr/>
                  </p:nvSpPr>
                  <p:spPr>
                    <a:xfrm>
                      <a:off x="3696840" y="408780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1" name=""/>
                    <p:cNvSpPr/>
                    <p:nvPr/>
                  </p:nvSpPr>
                  <p:spPr>
                    <a:xfrm>
                      <a:off x="3744360" y="414036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332" name=""/>
                <p:cNvGrpSpPr/>
                <p:nvPr/>
              </p:nvGrpSpPr>
              <p:grpSpPr>
                <a:xfrm>
                  <a:off x="2863800" y="3890880"/>
                  <a:ext cx="969480" cy="149040"/>
                  <a:chOff x="2863800" y="3890880"/>
                  <a:chExt cx="969480" cy="149040"/>
                </a:xfrm>
              </p:grpSpPr>
              <p:grpSp>
                <p:nvGrpSpPr>
                  <p:cNvPr id="2333" name=""/>
                  <p:cNvGrpSpPr/>
                  <p:nvPr/>
                </p:nvGrpSpPr>
                <p:grpSpPr>
                  <a:xfrm>
                    <a:off x="2863800" y="3890880"/>
                    <a:ext cx="555120" cy="147600"/>
                    <a:chOff x="2863800" y="3890880"/>
                    <a:chExt cx="555120" cy="147600"/>
                  </a:xfrm>
                </p:grpSpPr>
                <p:sp>
                  <p:nvSpPr>
                    <p:cNvPr id="2334" name=""/>
                    <p:cNvSpPr/>
                    <p:nvPr/>
                  </p:nvSpPr>
                  <p:spPr>
                    <a:xfrm>
                      <a:off x="2863800" y="3890880"/>
                      <a:ext cx="417240" cy="147600"/>
                    </a:xfrm>
                    <a:prstGeom prst="rect">
                      <a:avLst/>
                    </a:prstGeom>
                    <a:solidFill>
                      <a:srgbClr val="dddddd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tier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335" name=""/>
                    <p:cNvGrpSpPr/>
                    <p:nvPr/>
                  </p:nvGrpSpPr>
                  <p:grpSpPr>
                    <a:xfrm>
                      <a:off x="3281040" y="3890880"/>
                      <a:ext cx="137880" cy="147600"/>
                      <a:chOff x="3281040" y="3890880"/>
                      <a:chExt cx="137880" cy="147600"/>
                    </a:xfrm>
                  </p:grpSpPr>
                  <p:sp>
                    <p:nvSpPr>
                      <p:cNvPr id="2336" name=""/>
                      <p:cNvSpPr/>
                      <p:nvPr/>
                    </p:nvSpPr>
                    <p:spPr>
                      <a:xfrm>
                        <a:off x="3281040" y="3890880"/>
                        <a:ext cx="137880" cy="147600"/>
                      </a:xfrm>
                      <a:prstGeom prst="rect">
                        <a:avLst/>
                      </a:prstGeom>
                      <a:solidFill>
                        <a:srgbClr val="ccccff"/>
                      </a:solidFill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8000" rIns="18000" tIns="18000" bIns="180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437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37" name=""/>
                      <p:cNvSpPr/>
                      <p:nvPr/>
                    </p:nvSpPr>
                    <p:spPr>
                      <a:xfrm>
                        <a:off x="3328560" y="3943440"/>
                        <a:ext cx="42840" cy="417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7280" bIns="-17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338" name=""/>
                  <p:cNvGrpSpPr/>
                  <p:nvPr/>
                </p:nvGrpSpPr>
                <p:grpSpPr>
                  <a:xfrm>
                    <a:off x="3420720" y="3892320"/>
                    <a:ext cx="137880" cy="147600"/>
                    <a:chOff x="3420720" y="3892320"/>
                    <a:chExt cx="137880" cy="147600"/>
                  </a:xfrm>
                </p:grpSpPr>
                <p:sp>
                  <p:nvSpPr>
                    <p:cNvPr id="2339" name=""/>
                    <p:cNvSpPr/>
                    <p:nvPr/>
                  </p:nvSpPr>
                  <p:spPr>
                    <a:xfrm>
                      <a:off x="3420720" y="389232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0" name=""/>
                    <p:cNvSpPr/>
                    <p:nvPr/>
                  </p:nvSpPr>
                  <p:spPr>
                    <a:xfrm>
                      <a:off x="3468240" y="394488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1" name=""/>
                  <p:cNvGrpSpPr/>
                  <p:nvPr/>
                </p:nvGrpSpPr>
                <p:grpSpPr>
                  <a:xfrm>
                    <a:off x="3557520" y="3892320"/>
                    <a:ext cx="137880" cy="147600"/>
                    <a:chOff x="3557520" y="3892320"/>
                    <a:chExt cx="137880" cy="147600"/>
                  </a:xfrm>
                </p:grpSpPr>
                <p:sp>
                  <p:nvSpPr>
                    <p:cNvPr id="2342" name=""/>
                    <p:cNvSpPr/>
                    <p:nvPr/>
                  </p:nvSpPr>
                  <p:spPr>
                    <a:xfrm>
                      <a:off x="3557520" y="389232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3" name=""/>
                    <p:cNvSpPr/>
                    <p:nvPr/>
                  </p:nvSpPr>
                  <p:spPr>
                    <a:xfrm>
                      <a:off x="3605040" y="394488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4" name=""/>
                  <p:cNvGrpSpPr/>
                  <p:nvPr/>
                </p:nvGrpSpPr>
                <p:grpSpPr>
                  <a:xfrm>
                    <a:off x="3695400" y="3892320"/>
                    <a:ext cx="137880" cy="147600"/>
                    <a:chOff x="3695400" y="3892320"/>
                    <a:chExt cx="137880" cy="147600"/>
                  </a:xfrm>
                </p:grpSpPr>
                <p:sp>
                  <p:nvSpPr>
                    <p:cNvPr id="2345" name=""/>
                    <p:cNvSpPr/>
                    <p:nvPr/>
                  </p:nvSpPr>
                  <p:spPr>
                    <a:xfrm>
                      <a:off x="3695400" y="389232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6" name=""/>
                    <p:cNvSpPr/>
                    <p:nvPr/>
                  </p:nvSpPr>
                  <p:spPr>
                    <a:xfrm>
                      <a:off x="3742920" y="394488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347" name=""/>
                <p:cNvGrpSpPr/>
                <p:nvPr/>
              </p:nvGrpSpPr>
              <p:grpSpPr>
                <a:xfrm>
                  <a:off x="2863800" y="3500640"/>
                  <a:ext cx="971280" cy="147600"/>
                  <a:chOff x="2863800" y="3500640"/>
                  <a:chExt cx="971280" cy="147600"/>
                </a:xfrm>
              </p:grpSpPr>
              <p:grpSp>
                <p:nvGrpSpPr>
                  <p:cNvPr id="2348" name=""/>
                  <p:cNvGrpSpPr/>
                  <p:nvPr/>
                </p:nvGrpSpPr>
                <p:grpSpPr>
                  <a:xfrm>
                    <a:off x="2863800" y="3500640"/>
                    <a:ext cx="555120" cy="147600"/>
                    <a:chOff x="2863800" y="3500640"/>
                    <a:chExt cx="555120" cy="147600"/>
                  </a:xfrm>
                </p:grpSpPr>
                <p:sp>
                  <p:nvSpPr>
                    <p:cNvPr id="2349" name=""/>
                    <p:cNvSpPr/>
                    <p:nvPr/>
                  </p:nvSpPr>
                  <p:spPr>
                    <a:xfrm>
                      <a:off x="2863800" y="3500640"/>
                      <a:ext cx="417240" cy="147600"/>
                    </a:xfrm>
                    <a:prstGeom prst="rect">
                      <a:avLst/>
                    </a:prstGeom>
                    <a:solidFill>
                      <a:srgbClr val="dddddd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u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350" name=""/>
                    <p:cNvGrpSpPr/>
                    <p:nvPr/>
                  </p:nvGrpSpPr>
                  <p:grpSpPr>
                    <a:xfrm>
                      <a:off x="3281040" y="3500640"/>
                      <a:ext cx="137880" cy="147600"/>
                      <a:chOff x="3281040" y="3500640"/>
                      <a:chExt cx="137880" cy="147600"/>
                    </a:xfrm>
                  </p:grpSpPr>
                  <p:sp>
                    <p:nvSpPr>
                      <p:cNvPr id="2351" name=""/>
                      <p:cNvSpPr/>
                      <p:nvPr/>
                    </p:nvSpPr>
                    <p:spPr>
                      <a:xfrm>
                        <a:off x="3281040" y="3500640"/>
                        <a:ext cx="137880" cy="147600"/>
                      </a:xfrm>
                      <a:prstGeom prst="rect">
                        <a:avLst/>
                      </a:prstGeom>
                      <a:solidFill>
                        <a:srgbClr val="ccccff"/>
                      </a:solidFill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8000" rIns="18000" tIns="18000" bIns="180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437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52" name=""/>
                      <p:cNvSpPr/>
                      <p:nvPr/>
                    </p:nvSpPr>
                    <p:spPr>
                      <a:xfrm>
                        <a:off x="3328560" y="3553200"/>
                        <a:ext cx="42840" cy="417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7280" bIns="-17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353" name=""/>
                  <p:cNvGrpSpPr/>
                  <p:nvPr/>
                </p:nvGrpSpPr>
                <p:grpSpPr>
                  <a:xfrm>
                    <a:off x="3419280" y="3500640"/>
                    <a:ext cx="137880" cy="147600"/>
                    <a:chOff x="3419280" y="3500640"/>
                    <a:chExt cx="137880" cy="147600"/>
                  </a:xfrm>
                </p:grpSpPr>
                <p:sp>
                  <p:nvSpPr>
                    <p:cNvPr id="2354" name=""/>
                    <p:cNvSpPr/>
                    <p:nvPr/>
                  </p:nvSpPr>
                  <p:spPr>
                    <a:xfrm>
                      <a:off x="3419280" y="350064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5" name=""/>
                    <p:cNvSpPr/>
                    <p:nvPr/>
                  </p:nvSpPr>
                  <p:spPr>
                    <a:xfrm>
                      <a:off x="3466800" y="355320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56" name=""/>
                  <p:cNvGrpSpPr/>
                  <p:nvPr/>
                </p:nvGrpSpPr>
                <p:grpSpPr>
                  <a:xfrm>
                    <a:off x="3557520" y="3500640"/>
                    <a:ext cx="137880" cy="147600"/>
                    <a:chOff x="3557520" y="3500640"/>
                    <a:chExt cx="137880" cy="147600"/>
                  </a:xfrm>
                </p:grpSpPr>
                <p:sp>
                  <p:nvSpPr>
                    <p:cNvPr id="2357" name=""/>
                    <p:cNvSpPr/>
                    <p:nvPr/>
                  </p:nvSpPr>
                  <p:spPr>
                    <a:xfrm>
                      <a:off x="3557520" y="350064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8" name=""/>
                    <p:cNvSpPr/>
                    <p:nvPr/>
                  </p:nvSpPr>
                  <p:spPr>
                    <a:xfrm>
                      <a:off x="3605040" y="355320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59" name=""/>
                  <p:cNvGrpSpPr/>
                  <p:nvPr/>
                </p:nvGrpSpPr>
                <p:grpSpPr>
                  <a:xfrm>
                    <a:off x="3697200" y="3500640"/>
                    <a:ext cx="137880" cy="147600"/>
                    <a:chOff x="3697200" y="3500640"/>
                    <a:chExt cx="137880" cy="147600"/>
                  </a:xfrm>
                </p:grpSpPr>
                <p:sp>
                  <p:nvSpPr>
                    <p:cNvPr id="2360" name=""/>
                    <p:cNvSpPr/>
                    <p:nvPr/>
                  </p:nvSpPr>
                  <p:spPr>
                    <a:xfrm>
                      <a:off x="3697200" y="350064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1" name=""/>
                    <p:cNvSpPr/>
                    <p:nvPr/>
                  </p:nvSpPr>
                  <p:spPr>
                    <a:xfrm>
                      <a:off x="3744720" y="355320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362" name=""/>
              <p:cNvGrpSpPr/>
              <p:nvPr/>
            </p:nvGrpSpPr>
            <p:grpSpPr>
              <a:xfrm>
                <a:off x="4262400" y="1719360"/>
                <a:ext cx="1942920" cy="3429000"/>
                <a:chOff x="4262400" y="1719360"/>
                <a:chExt cx="1942920" cy="3429000"/>
              </a:xfrm>
            </p:grpSpPr>
            <p:sp>
              <p:nvSpPr>
                <p:cNvPr id="2363" name=""/>
                <p:cNvSpPr/>
                <p:nvPr/>
              </p:nvSpPr>
              <p:spPr>
                <a:xfrm>
                  <a:off x="4262400" y="1998720"/>
                  <a:ext cx="1942920" cy="314964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>
                  <a:off x="4262400" y="1719360"/>
                  <a:ext cx="1942920" cy="29232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5" name=""/>
                <p:cNvSpPr/>
                <p:nvPr/>
              </p:nvSpPr>
              <p:spPr>
                <a:xfrm>
                  <a:off x="4726440" y="1746360"/>
                  <a:ext cx="1101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000" spc="-1" strike="noStrike">
                      <a:solidFill>
                        <a:srgbClr val="000000"/>
                      </a:solidFill>
                      <a:latin typeface="Arial"/>
                    </a:rPr>
                    <a:t>Fichier de bas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66" name=""/>
              <p:cNvSpPr/>
              <p:nvPr/>
            </p:nvSpPr>
            <p:spPr>
              <a:xfrm>
                <a:off x="4475160" y="2079720"/>
                <a:ext cx="1639800" cy="3014640"/>
              </a:xfrm>
              <a:prstGeom prst="rect">
                <a:avLst/>
              </a:prstGeom>
              <a:solidFill>
                <a:srgbClr val="f0f0f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367" name=""/>
              <p:cNvCxnSpPr>
                <a:stCxn id="2301" idx="0"/>
                <a:endCxn id="2368" idx="1"/>
              </p:cNvCxnSpPr>
              <p:nvPr/>
            </p:nvCxnSpPr>
            <p:spPr>
              <a:xfrm flipH="1" flipV="1" rot="5400000">
                <a:off x="3538080" y="2003040"/>
                <a:ext cx="778320" cy="115344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  <p:cxnSp>
            <p:nvCxnSpPr>
              <p:cNvPr id="2369" name=""/>
              <p:cNvCxnSpPr>
                <a:stCxn id="2306" idx="0"/>
                <a:endCxn id="2370" idx="1"/>
              </p:cNvCxnSpPr>
              <p:nvPr/>
            </p:nvCxnSpPr>
            <p:spPr>
              <a:xfrm flipH="1" flipV="1" rot="5400000">
                <a:off x="3534120" y="2192760"/>
                <a:ext cx="786240" cy="115344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  <p:cxnSp>
            <p:nvCxnSpPr>
              <p:cNvPr id="2371" name=""/>
              <p:cNvCxnSpPr>
                <a:stCxn id="2311" idx="0"/>
                <a:endCxn id="2372" idx="1"/>
              </p:cNvCxnSpPr>
              <p:nvPr/>
            </p:nvCxnSpPr>
            <p:spPr>
              <a:xfrm flipH="1" flipV="1" rot="5400000">
                <a:off x="3623040" y="2476800"/>
                <a:ext cx="608760" cy="115344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  <p:cxnSp>
            <p:nvCxnSpPr>
              <p:cNvPr id="2373" name=""/>
              <p:cNvCxnSpPr>
                <a:stCxn id="2316" idx="6"/>
                <a:endCxn id="2374" idx="1"/>
              </p:cNvCxnSpPr>
              <p:nvPr/>
            </p:nvCxnSpPr>
            <p:spPr>
              <a:xfrm flipV="1">
                <a:off x="3371760" y="3676320"/>
                <a:ext cx="1132560" cy="94320"/>
              </a:xfrm>
              <a:prstGeom prst="curvedConnector5">
                <a:avLst>
                  <a:gd name="adj1" fmla="val 49920"/>
                  <a:gd name="adj2" fmla="val 49808"/>
                  <a:gd name="adj3" fmla="val 49920"/>
                </a:avLst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  <p:grpSp>
            <p:nvGrpSpPr>
              <p:cNvPr id="2375" name=""/>
              <p:cNvGrpSpPr/>
              <p:nvPr/>
            </p:nvGrpSpPr>
            <p:grpSpPr>
              <a:xfrm>
                <a:off x="4503600" y="2489400"/>
                <a:ext cx="1574640" cy="142920"/>
                <a:chOff x="4503600" y="2489400"/>
                <a:chExt cx="1574640" cy="142920"/>
              </a:xfrm>
            </p:grpSpPr>
            <p:sp>
              <p:nvSpPr>
                <p:cNvPr id="2376" name=""/>
                <p:cNvSpPr/>
                <p:nvPr/>
              </p:nvSpPr>
              <p:spPr>
                <a:xfrm>
                  <a:off x="4503600" y="2489400"/>
                  <a:ext cx="27612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B062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7" name=""/>
                <p:cNvSpPr/>
                <p:nvPr/>
              </p:nvSpPr>
              <p:spPr>
                <a:xfrm>
                  <a:off x="5225760" y="2489400"/>
                  <a:ext cx="13824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...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>
                  <a:off x="5364000" y="2489400"/>
                  <a:ext cx="41760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Namu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9" name=""/>
                <p:cNvSpPr/>
                <p:nvPr/>
              </p:nvSpPr>
              <p:spPr>
                <a:xfrm>
                  <a:off x="4779720" y="2489400"/>
                  <a:ext cx="44604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Goffin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0" name=""/>
                <p:cNvSpPr/>
                <p:nvPr/>
              </p:nvSpPr>
              <p:spPr>
                <a:xfrm>
                  <a:off x="5781600" y="2489400"/>
                  <a:ext cx="15876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B2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1" name=""/>
                <p:cNvSpPr/>
                <p:nvPr/>
              </p:nvSpPr>
              <p:spPr>
                <a:xfrm>
                  <a:off x="5940360" y="2489400"/>
                  <a:ext cx="13788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...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2" name=""/>
              <p:cNvGrpSpPr/>
              <p:nvPr/>
            </p:nvGrpSpPr>
            <p:grpSpPr>
              <a:xfrm>
                <a:off x="4503600" y="3602160"/>
                <a:ext cx="1574640" cy="142920"/>
                <a:chOff x="4503600" y="3602160"/>
                <a:chExt cx="1574640" cy="142920"/>
              </a:xfrm>
            </p:grpSpPr>
            <p:sp>
              <p:nvSpPr>
                <p:cNvPr id="2374" name=""/>
                <p:cNvSpPr/>
                <p:nvPr/>
              </p:nvSpPr>
              <p:spPr>
                <a:xfrm>
                  <a:off x="4503600" y="3602160"/>
                  <a:ext cx="27612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S712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3" name=""/>
                <p:cNvSpPr/>
                <p:nvPr/>
              </p:nvSpPr>
              <p:spPr>
                <a:xfrm>
                  <a:off x="5225760" y="3602160"/>
                  <a:ext cx="13824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...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>
                  <a:off x="5364000" y="3602160"/>
                  <a:ext cx="41760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Paris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>
                  <a:off x="4779720" y="3602160"/>
                  <a:ext cx="44604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Guillaum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6" name=""/>
                <p:cNvSpPr/>
                <p:nvPr/>
              </p:nvSpPr>
              <p:spPr>
                <a:xfrm>
                  <a:off x="5781600" y="3602160"/>
                  <a:ext cx="15876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B1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7" name=""/>
                <p:cNvSpPr/>
                <p:nvPr/>
              </p:nvSpPr>
              <p:spPr>
                <a:xfrm>
                  <a:off x="5940360" y="3602160"/>
                  <a:ext cx="13788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...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8" name=""/>
              <p:cNvGrpSpPr/>
              <p:nvPr/>
            </p:nvGrpSpPr>
            <p:grpSpPr>
              <a:xfrm>
                <a:off x="4503600" y="3417840"/>
                <a:ext cx="1574640" cy="142920"/>
                <a:chOff x="4503600" y="3417840"/>
                <a:chExt cx="1574640" cy="142920"/>
              </a:xfrm>
            </p:grpSpPr>
            <p:sp>
              <p:nvSpPr>
                <p:cNvPr id="2389" name=""/>
                <p:cNvSpPr/>
                <p:nvPr/>
              </p:nvSpPr>
              <p:spPr>
                <a:xfrm>
                  <a:off x="4503600" y="3417840"/>
                  <a:ext cx="27612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B112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>
                  <a:off x="5225760" y="3417840"/>
                  <a:ext cx="13824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...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1" name=""/>
                <p:cNvSpPr/>
                <p:nvPr/>
              </p:nvSpPr>
              <p:spPr>
                <a:xfrm>
                  <a:off x="5364000" y="3417840"/>
                  <a:ext cx="41760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Poitiers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2" name=""/>
                <p:cNvSpPr/>
                <p:nvPr/>
              </p:nvSpPr>
              <p:spPr>
                <a:xfrm>
                  <a:off x="4779720" y="3417840"/>
                  <a:ext cx="44604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Hansenn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>
                  <a:off x="5781600" y="3417840"/>
                  <a:ext cx="15876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C1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4" name=""/>
                <p:cNvSpPr/>
                <p:nvPr/>
              </p:nvSpPr>
              <p:spPr>
                <a:xfrm>
                  <a:off x="5940360" y="3417840"/>
                  <a:ext cx="13788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...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5" name=""/>
              <p:cNvGrpSpPr/>
              <p:nvPr/>
            </p:nvGrpSpPr>
            <p:grpSpPr>
              <a:xfrm>
                <a:off x="4503600" y="2301840"/>
                <a:ext cx="1574640" cy="142920"/>
                <a:chOff x="4503600" y="2301840"/>
                <a:chExt cx="1574640" cy="142920"/>
              </a:xfrm>
            </p:grpSpPr>
            <p:sp>
              <p:nvSpPr>
                <p:cNvPr id="2370" name=""/>
                <p:cNvSpPr/>
                <p:nvPr/>
              </p:nvSpPr>
              <p:spPr>
                <a:xfrm>
                  <a:off x="4503600" y="2301840"/>
                  <a:ext cx="27612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B332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6" name=""/>
                <p:cNvSpPr/>
                <p:nvPr/>
              </p:nvSpPr>
              <p:spPr>
                <a:xfrm>
                  <a:off x="5225760" y="2301840"/>
                  <a:ext cx="13824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...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>
                  <a:off x="5364000" y="2301840"/>
                  <a:ext cx="41760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Genèv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8" name=""/>
                <p:cNvSpPr/>
                <p:nvPr/>
              </p:nvSpPr>
              <p:spPr>
                <a:xfrm>
                  <a:off x="4779720" y="2301840"/>
                  <a:ext cx="44604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Monti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>
                  <a:off x="5781600" y="2301840"/>
                  <a:ext cx="15876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B2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>
                  <a:off x="5940360" y="2301840"/>
                  <a:ext cx="13788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...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1" name=""/>
              <p:cNvGrpSpPr/>
              <p:nvPr/>
            </p:nvGrpSpPr>
            <p:grpSpPr>
              <a:xfrm>
                <a:off x="4503600" y="4915080"/>
                <a:ext cx="1574640" cy="142920"/>
                <a:chOff x="4503600" y="4915080"/>
                <a:chExt cx="1574640" cy="142920"/>
              </a:xfrm>
            </p:grpSpPr>
            <p:sp>
              <p:nvSpPr>
                <p:cNvPr id="2402" name=""/>
                <p:cNvSpPr/>
                <p:nvPr/>
              </p:nvSpPr>
              <p:spPr>
                <a:xfrm>
                  <a:off x="4503600" y="4915080"/>
                  <a:ext cx="27612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B512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3" name=""/>
                <p:cNvSpPr/>
                <p:nvPr/>
              </p:nvSpPr>
              <p:spPr>
                <a:xfrm>
                  <a:off x="5225760" y="4915080"/>
                  <a:ext cx="13824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...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4" name=""/>
                <p:cNvSpPr/>
                <p:nvPr/>
              </p:nvSpPr>
              <p:spPr>
                <a:xfrm>
                  <a:off x="5364000" y="4915080"/>
                  <a:ext cx="41760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Toulous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5" name=""/>
                <p:cNvSpPr/>
                <p:nvPr/>
              </p:nvSpPr>
              <p:spPr>
                <a:xfrm>
                  <a:off x="4779720" y="4915080"/>
                  <a:ext cx="44604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Gille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6" name=""/>
                <p:cNvSpPr/>
                <p:nvPr/>
              </p:nvSpPr>
              <p:spPr>
                <a:xfrm>
                  <a:off x="5781600" y="4915080"/>
                  <a:ext cx="15876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B1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7" name=""/>
                <p:cNvSpPr/>
                <p:nvPr/>
              </p:nvSpPr>
              <p:spPr>
                <a:xfrm>
                  <a:off x="5940360" y="4915080"/>
                  <a:ext cx="13788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...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8" name=""/>
              <p:cNvGrpSpPr/>
              <p:nvPr/>
            </p:nvGrpSpPr>
            <p:grpSpPr>
              <a:xfrm>
                <a:off x="4503600" y="4727520"/>
                <a:ext cx="1574640" cy="142920"/>
                <a:chOff x="4503600" y="4727520"/>
                <a:chExt cx="1574640" cy="142920"/>
              </a:xfrm>
            </p:grpSpPr>
            <p:sp>
              <p:nvSpPr>
                <p:cNvPr id="2409" name=""/>
                <p:cNvSpPr/>
                <p:nvPr/>
              </p:nvSpPr>
              <p:spPr>
                <a:xfrm>
                  <a:off x="4503600" y="4727520"/>
                  <a:ext cx="27612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C003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0" name=""/>
                <p:cNvSpPr/>
                <p:nvPr/>
              </p:nvSpPr>
              <p:spPr>
                <a:xfrm>
                  <a:off x="5225760" y="4727520"/>
                  <a:ext cx="13824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...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1" name=""/>
                <p:cNvSpPr/>
                <p:nvPr/>
              </p:nvSpPr>
              <p:spPr>
                <a:xfrm>
                  <a:off x="5364000" y="4727520"/>
                  <a:ext cx="41760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Toulous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2" name=""/>
                <p:cNvSpPr/>
                <p:nvPr/>
              </p:nvSpPr>
              <p:spPr>
                <a:xfrm>
                  <a:off x="4779720" y="4727520"/>
                  <a:ext cx="44604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Avron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3" name=""/>
                <p:cNvSpPr/>
                <p:nvPr/>
              </p:nvSpPr>
              <p:spPr>
                <a:xfrm>
                  <a:off x="5781600" y="4727520"/>
                  <a:ext cx="15876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B1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>
                  <a:off x="5940360" y="4727520"/>
                  <a:ext cx="13788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...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5" name=""/>
              <p:cNvGrpSpPr/>
              <p:nvPr/>
            </p:nvGrpSpPr>
            <p:grpSpPr>
              <a:xfrm>
                <a:off x="4503600" y="2862360"/>
                <a:ext cx="1574640" cy="142920"/>
                <a:chOff x="4503600" y="2862360"/>
                <a:chExt cx="1574640" cy="142920"/>
              </a:xfrm>
            </p:grpSpPr>
            <p:sp>
              <p:nvSpPr>
                <p:cNvPr id="2416" name=""/>
                <p:cNvSpPr/>
                <p:nvPr/>
              </p:nvSpPr>
              <p:spPr>
                <a:xfrm>
                  <a:off x="4503600" y="2862360"/>
                  <a:ext cx="27612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C123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7" name=""/>
                <p:cNvSpPr/>
                <p:nvPr/>
              </p:nvSpPr>
              <p:spPr>
                <a:xfrm>
                  <a:off x="5225760" y="2862360"/>
                  <a:ext cx="13824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...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>
                  <a:off x="5364000" y="2862360"/>
                  <a:ext cx="41760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Namu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9" name=""/>
                <p:cNvSpPr/>
                <p:nvPr/>
              </p:nvSpPr>
              <p:spPr>
                <a:xfrm>
                  <a:off x="4779720" y="2862360"/>
                  <a:ext cx="44604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Mercie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>
                  <a:off x="5781600" y="2862360"/>
                  <a:ext cx="15876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C1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1" name=""/>
                <p:cNvSpPr/>
                <p:nvPr/>
              </p:nvSpPr>
              <p:spPr>
                <a:xfrm>
                  <a:off x="5940360" y="2862360"/>
                  <a:ext cx="13788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...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2" name=""/>
              <p:cNvGrpSpPr/>
              <p:nvPr/>
            </p:nvGrpSpPr>
            <p:grpSpPr>
              <a:xfrm>
                <a:off x="4503600" y="4353120"/>
                <a:ext cx="1574640" cy="142920"/>
                <a:chOff x="4503600" y="4353120"/>
                <a:chExt cx="1574640" cy="142920"/>
              </a:xfrm>
            </p:grpSpPr>
            <p:sp>
              <p:nvSpPr>
                <p:cNvPr id="2423" name=""/>
                <p:cNvSpPr/>
                <p:nvPr/>
              </p:nvSpPr>
              <p:spPr>
                <a:xfrm>
                  <a:off x="4503600" y="4353120"/>
                  <a:ext cx="27612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C400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>
                  <a:off x="5225760" y="4353120"/>
                  <a:ext cx="13824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...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5" name=""/>
                <p:cNvSpPr/>
                <p:nvPr/>
              </p:nvSpPr>
              <p:spPr>
                <a:xfrm>
                  <a:off x="5364000" y="4353120"/>
                  <a:ext cx="41760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Poitiers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6" name=""/>
                <p:cNvSpPr/>
                <p:nvPr/>
              </p:nvSpPr>
              <p:spPr>
                <a:xfrm>
                  <a:off x="4779720" y="4353120"/>
                  <a:ext cx="44604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Férard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7" name=""/>
                <p:cNvSpPr/>
                <p:nvPr/>
              </p:nvSpPr>
              <p:spPr>
                <a:xfrm>
                  <a:off x="5781600" y="4353120"/>
                  <a:ext cx="15876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B2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8" name=""/>
                <p:cNvSpPr/>
                <p:nvPr/>
              </p:nvSpPr>
              <p:spPr>
                <a:xfrm>
                  <a:off x="5940360" y="4353120"/>
                  <a:ext cx="13788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...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9" name=""/>
              <p:cNvGrpSpPr/>
              <p:nvPr/>
            </p:nvGrpSpPr>
            <p:grpSpPr>
              <a:xfrm>
                <a:off x="4503600" y="4540320"/>
                <a:ext cx="1574640" cy="142920"/>
                <a:chOff x="4503600" y="4540320"/>
                <a:chExt cx="1574640" cy="142920"/>
              </a:xfrm>
            </p:grpSpPr>
            <p:sp>
              <p:nvSpPr>
                <p:cNvPr id="2430" name=""/>
                <p:cNvSpPr/>
                <p:nvPr/>
              </p:nvSpPr>
              <p:spPr>
                <a:xfrm>
                  <a:off x="4503600" y="4540320"/>
                  <a:ext cx="27612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D063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1" name=""/>
                <p:cNvSpPr/>
                <p:nvPr/>
              </p:nvSpPr>
              <p:spPr>
                <a:xfrm>
                  <a:off x="5225760" y="4540320"/>
                  <a:ext cx="13824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...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2" name=""/>
                <p:cNvSpPr/>
                <p:nvPr/>
              </p:nvSpPr>
              <p:spPr>
                <a:xfrm>
                  <a:off x="5364000" y="4540320"/>
                  <a:ext cx="41760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Toulous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3" name=""/>
                <p:cNvSpPr/>
                <p:nvPr/>
              </p:nvSpPr>
              <p:spPr>
                <a:xfrm>
                  <a:off x="4779720" y="4540320"/>
                  <a:ext cx="44604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Mercie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4" name=""/>
                <p:cNvSpPr/>
                <p:nvPr/>
              </p:nvSpPr>
              <p:spPr>
                <a:xfrm>
                  <a:off x="5781600" y="4540320"/>
                  <a:ext cx="15876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A1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>
                  <a:off x="5940360" y="4540320"/>
                  <a:ext cx="13788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...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6" name=""/>
              <p:cNvGrpSpPr/>
              <p:nvPr/>
            </p:nvGrpSpPr>
            <p:grpSpPr>
              <a:xfrm>
                <a:off x="4503600" y="3981600"/>
                <a:ext cx="1574640" cy="142920"/>
                <a:chOff x="4503600" y="3981600"/>
                <a:chExt cx="1574640" cy="142920"/>
              </a:xfrm>
            </p:grpSpPr>
            <p:sp>
              <p:nvSpPr>
                <p:cNvPr id="2437" name=""/>
                <p:cNvSpPr/>
                <p:nvPr/>
              </p:nvSpPr>
              <p:spPr>
                <a:xfrm>
                  <a:off x="4503600" y="3981600"/>
                  <a:ext cx="27612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F010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>
                  <a:off x="5225760" y="3981600"/>
                  <a:ext cx="13824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...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9" name=""/>
                <p:cNvSpPr/>
                <p:nvPr/>
              </p:nvSpPr>
              <p:spPr>
                <a:xfrm>
                  <a:off x="5364000" y="3981600"/>
                  <a:ext cx="41760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Poitiers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0" name=""/>
                <p:cNvSpPr/>
                <p:nvPr/>
              </p:nvSpPr>
              <p:spPr>
                <a:xfrm>
                  <a:off x="4779720" y="3981600"/>
                  <a:ext cx="44604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Toussai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1" name=""/>
                <p:cNvSpPr/>
                <p:nvPr/>
              </p:nvSpPr>
              <p:spPr>
                <a:xfrm>
                  <a:off x="5781600" y="3981600"/>
                  <a:ext cx="15876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C1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2" name=""/>
                <p:cNvSpPr/>
                <p:nvPr/>
              </p:nvSpPr>
              <p:spPr>
                <a:xfrm>
                  <a:off x="5940360" y="3981600"/>
                  <a:ext cx="13788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...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3" name=""/>
              <p:cNvGrpSpPr/>
              <p:nvPr/>
            </p:nvGrpSpPr>
            <p:grpSpPr>
              <a:xfrm>
                <a:off x="4503600" y="3794040"/>
                <a:ext cx="1574640" cy="142920"/>
                <a:chOff x="4503600" y="3794040"/>
                <a:chExt cx="1574640" cy="142920"/>
              </a:xfrm>
            </p:grpSpPr>
            <p:sp>
              <p:nvSpPr>
                <p:cNvPr id="2444" name=""/>
                <p:cNvSpPr/>
                <p:nvPr/>
              </p:nvSpPr>
              <p:spPr>
                <a:xfrm>
                  <a:off x="4503600" y="3794040"/>
                  <a:ext cx="27612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F011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5" name=""/>
                <p:cNvSpPr/>
                <p:nvPr/>
              </p:nvSpPr>
              <p:spPr>
                <a:xfrm>
                  <a:off x="5225760" y="3794040"/>
                  <a:ext cx="13824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...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6" name=""/>
                <p:cNvSpPr/>
                <p:nvPr/>
              </p:nvSpPr>
              <p:spPr>
                <a:xfrm>
                  <a:off x="5364000" y="3794040"/>
                  <a:ext cx="41760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Poitiers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7" name=""/>
                <p:cNvSpPr/>
                <p:nvPr/>
              </p:nvSpPr>
              <p:spPr>
                <a:xfrm>
                  <a:off x="4779720" y="3794040"/>
                  <a:ext cx="44604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Poncele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>
                  <a:off x="5781600" y="3794040"/>
                  <a:ext cx="15876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B2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9" name=""/>
                <p:cNvSpPr/>
                <p:nvPr/>
              </p:nvSpPr>
              <p:spPr>
                <a:xfrm>
                  <a:off x="5940360" y="3794040"/>
                  <a:ext cx="13788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...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0" name=""/>
              <p:cNvGrpSpPr/>
              <p:nvPr/>
            </p:nvGrpSpPr>
            <p:grpSpPr>
              <a:xfrm>
                <a:off x="4503600" y="2116080"/>
                <a:ext cx="1574640" cy="142920"/>
                <a:chOff x="4503600" y="2116080"/>
                <a:chExt cx="1574640" cy="142920"/>
              </a:xfrm>
            </p:grpSpPr>
            <p:sp>
              <p:nvSpPr>
                <p:cNvPr id="2368" name=""/>
                <p:cNvSpPr/>
                <p:nvPr/>
              </p:nvSpPr>
              <p:spPr>
                <a:xfrm>
                  <a:off x="4503600" y="2116080"/>
                  <a:ext cx="27612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F400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1" name=""/>
                <p:cNvSpPr/>
                <p:nvPr/>
              </p:nvSpPr>
              <p:spPr>
                <a:xfrm>
                  <a:off x="5225760" y="2116080"/>
                  <a:ext cx="13824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...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2" name=""/>
                <p:cNvSpPr/>
                <p:nvPr/>
              </p:nvSpPr>
              <p:spPr>
                <a:xfrm>
                  <a:off x="5364000" y="2116080"/>
                  <a:ext cx="41760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Bruxelles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>
                  <a:off x="4779720" y="2116080"/>
                  <a:ext cx="44604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Jacob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>
                  <a:off x="5781600" y="2116080"/>
                  <a:ext cx="15876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C2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5" name=""/>
                <p:cNvSpPr/>
                <p:nvPr/>
              </p:nvSpPr>
              <p:spPr>
                <a:xfrm>
                  <a:off x="5940360" y="2116080"/>
                  <a:ext cx="13788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...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6" name=""/>
              <p:cNvGrpSpPr/>
              <p:nvPr/>
            </p:nvGrpSpPr>
            <p:grpSpPr>
              <a:xfrm>
                <a:off x="4503600" y="2675160"/>
                <a:ext cx="1574640" cy="142920"/>
                <a:chOff x="4503600" y="2675160"/>
                <a:chExt cx="1574640" cy="142920"/>
              </a:xfrm>
            </p:grpSpPr>
            <p:sp>
              <p:nvSpPr>
                <p:cNvPr id="2372" name=""/>
                <p:cNvSpPr/>
                <p:nvPr/>
              </p:nvSpPr>
              <p:spPr>
                <a:xfrm>
                  <a:off x="4503600" y="2675160"/>
                  <a:ext cx="27612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K111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7" name=""/>
                <p:cNvSpPr/>
                <p:nvPr/>
              </p:nvSpPr>
              <p:spPr>
                <a:xfrm>
                  <a:off x="5225760" y="2675160"/>
                  <a:ext cx="13824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...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8" name=""/>
                <p:cNvSpPr/>
                <p:nvPr/>
              </p:nvSpPr>
              <p:spPr>
                <a:xfrm>
                  <a:off x="5364000" y="2675160"/>
                  <a:ext cx="41760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Lill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9" name=""/>
                <p:cNvSpPr/>
                <p:nvPr/>
              </p:nvSpPr>
              <p:spPr>
                <a:xfrm>
                  <a:off x="4779720" y="2675160"/>
                  <a:ext cx="44604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Vanbis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0" name=""/>
                <p:cNvSpPr/>
                <p:nvPr/>
              </p:nvSpPr>
              <p:spPr>
                <a:xfrm>
                  <a:off x="5781600" y="2675160"/>
                  <a:ext cx="15876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B1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1" name=""/>
                <p:cNvSpPr/>
                <p:nvPr/>
              </p:nvSpPr>
              <p:spPr>
                <a:xfrm>
                  <a:off x="5940360" y="2675160"/>
                  <a:ext cx="13788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...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2" name=""/>
              <p:cNvGrpSpPr/>
              <p:nvPr/>
            </p:nvGrpSpPr>
            <p:grpSpPr>
              <a:xfrm>
                <a:off x="4503600" y="4164120"/>
                <a:ext cx="1574640" cy="142920"/>
                <a:chOff x="4503600" y="4164120"/>
                <a:chExt cx="1574640" cy="142920"/>
              </a:xfrm>
            </p:grpSpPr>
            <p:sp>
              <p:nvSpPr>
                <p:cNvPr id="2463" name=""/>
                <p:cNvSpPr/>
                <p:nvPr/>
              </p:nvSpPr>
              <p:spPr>
                <a:xfrm>
                  <a:off x="4503600" y="4164120"/>
                  <a:ext cx="27612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K729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>
                  <a:off x="5225760" y="4164120"/>
                  <a:ext cx="13824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...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>
                  <a:off x="5364000" y="4164120"/>
                  <a:ext cx="41760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Toulous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6" name=""/>
                <p:cNvSpPr/>
                <p:nvPr/>
              </p:nvSpPr>
              <p:spPr>
                <a:xfrm>
                  <a:off x="4779720" y="4164120"/>
                  <a:ext cx="44604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Neuman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7" name=""/>
                <p:cNvSpPr/>
                <p:nvPr/>
              </p:nvSpPr>
              <p:spPr>
                <a:xfrm>
                  <a:off x="5781600" y="4164120"/>
                  <a:ext cx="15876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B3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>
                  <a:off x="5940360" y="4164120"/>
                  <a:ext cx="13788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...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9" name=""/>
              <p:cNvGrpSpPr/>
              <p:nvPr/>
            </p:nvGrpSpPr>
            <p:grpSpPr>
              <a:xfrm>
                <a:off x="4503600" y="3048120"/>
                <a:ext cx="1574640" cy="142920"/>
                <a:chOff x="4503600" y="3048120"/>
                <a:chExt cx="1574640" cy="142920"/>
              </a:xfrm>
            </p:grpSpPr>
            <p:sp>
              <p:nvSpPr>
                <p:cNvPr id="2470" name=""/>
                <p:cNvSpPr/>
                <p:nvPr/>
              </p:nvSpPr>
              <p:spPr>
                <a:xfrm>
                  <a:off x="4503600" y="3048120"/>
                  <a:ext cx="27612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L422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>
                  <a:off x="5225760" y="3048120"/>
                  <a:ext cx="13824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...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2" name=""/>
                <p:cNvSpPr/>
                <p:nvPr/>
              </p:nvSpPr>
              <p:spPr>
                <a:xfrm>
                  <a:off x="5364000" y="3048120"/>
                  <a:ext cx="41760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Namu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>
                  <a:off x="4779720" y="3048120"/>
                  <a:ext cx="44604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Frank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>
                  <a:off x="5781600" y="3048120"/>
                  <a:ext cx="15876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C1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5" name=""/>
                <p:cNvSpPr/>
                <p:nvPr/>
              </p:nvSpPr>
              <p:spPr>
                <a:xfrm>
                  <a:off x="5940360" y="3048120"/>
                  <a:ext cx="13788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...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6" name=""/>
              <p:cNvGrpSpPr/>
              <p:nvPr/>
            </p:nvGrpSpPr>
            <p:grpSpPr>
              <a:xfrm>
                <a:off x="4503600" y="3235320"/>
                <a:ext cx="1574640" cy="142920"/>
                <a:chOff x="4503600" y="3235320"/>
                <a:chExt cx="1574640" cy="142920"/>
              </a:xfrm>
            </p:grpSpPr>
            <p:sp>
              <p:nvSpPr>
                <p:cNvPr id="2477" name=""/>
                <p:cNvSpPr/>
                <p:nvPr/>
              </p:nvSpPr>
              <p:spPr>
                <a:xfrm>
                  <a:off x="4503600" y="3235320"/>
                  <a:ext cx="27612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S127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8" name=""/>
                <p:cNvSpPr/>
                <p:nvPr/>
              </p:nvSpPr>
              <p:spPr>
                <a:xfrm>
                  <a:off x="5225760" y="3235320"/>
                  <a:ext cx="13824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...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9" name=""/>
                <p:cNvSpPr/>
                <p:nvPr/>
              </p:nvSpPr>
              <p:spPr>
                <a:xfrm>
                  <a:off x="5781600" y="3235320"/>
                  <a:ext cx="15876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C1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0" name=""/>
                <p:cNvSpPr/>
                <p:nvPr/>
              </p:nvSpPr>
              <p:spPr>
                <a:xfrm>
                  <a:off x="5364000" y="3235320"/>
                  <a:ext cx="41760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Namu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1" name=""/>
                <p:cNvSpPr/>
                <p:nvPr/>
              </p:nvSpPr>
              <p:spPr>
                <a:xfrm>
                  <a:off x="4779720" y="3235320"/>
                  <a:ext cx="44604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Vanderka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2" name=""/>
                <p:cNvSpPr/>
                <p:nvPr/>
              </p:nvSpPr>
              <p:spPr>
                <a:xfrm>
                  <a:off x="5940360" y="3235320"/>
                  <a:ext cx="137880" cy="14292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...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483" name=""/>
              <p:cNvCxnSpPr>
                <a:stCxn id="2355" idx="0"/>
                <a:endCxn id="2416" idx="1"/>
              </p:cNvCxnSpPr>
              <p:nvPr/>
            </p:nvCxnSpPr>
            <p:spPr>
              <a:xfrm flipH="1" flipV="1" rot="5400000">
                <a:off x="3688200" y="2737080"/>
                <a:ext cx="616680" cy="101520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  <p:cxnSp>
            <p:nvCxnSpPr>
              <p:cNvPr id="2484" name=""/>
              <p:cNvCxnSpPr>
                <a:stCxn id="2358" idx="0"/>
                <a:endCxn id="2470" idx="1"/>
              </p:cNvCxnSpPr>
              <p:nvPr/>
            </p:nvCxnSpPr>
            <p:spPr>
              <a:xfrm flipH="1" flipV="1" rot="5400000">
                <a:off x="3850200" y="2899080"/>
                <a:ext cx="430920" cy="87696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  <p:cxnSp>
            <p:nvCxnSpPr>
              <p:cNvPr id="2485" name=""/>
              <p:cNvCxnSpPr>
                <a:stCxn id="2361" idx="0"/>
                <a:endCxn id="2477" idx="1"/>
              </p:cNvCxnSpPr>
              <p:nvPr/>
            </p:nvCxnSpPr>
            <p:spPr>
              <a:xfrm flipH="1" flipV="1" rot="5400000">
                <a:off x="4013640" y="3062880"/>
                <a:ext cx="243360" cy="73728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  <p:cxnSp>
            <p:nvCxnSpPr>
              <p:cNvPr id="2486" name=""/>
              <p:cNvCxnSpPr>
                <a:stCxn id="2346" idx="6"/>
                <a:endCxn id="2423" idx="1"/>
              </p:cNvCxnSpPr>
              <p:nvPr/>
            </p:nvCxnSpPr>
            <p:spPr>
              <a:xfrm>
                <a:off x="3785760" y="3966840"/>
                <a:ext cx="717840" cy="461160"/>
              </a:xfrm>
              <a:prstGeom prst="curvedConnector5">
                <a:avLst>
                  <a:gd name="adj1" fmla="val 49974"/>
                  <a:gd name="adj2" fmla="val 50000"/>
                  <a:gd name="adj3" fmla="val 49974"/>
                </a:avLst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  <p:cxnSp>
            <p:nvCxnSpPr>
              <p:cNvPr id="2487" name=""/>
              <p:cNvCxnSpPr>
                <a:stCxn id="2343" idx="4"/>
                <a:endCxn id="2437" idx="1"/>
              </p:cNvCxnSpPr>
              <p:nvPr/>
            </p:nvCxnSpPr>
            <p:spPr>
              <a:xfrm flipH="1" rot="16200000">
                <a:off x="4031280" y="3583440"/>
                <a:ext cx="69120" cy="87696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  <p:cxnSp>
            <p:nvCxnSpPr>
              <p:cNvPr id="2488" name=""/>
              <p:cNvCxnSpPr>
                <a:stCxn id="2340" idx="0"/>
                <a:endCxn id="2444" idx="1"/>
              </p:cNvCxnSpPr>
              <p:nvPr/>
            </p:nvCxnSpPr>
            <p:spPr>
              <a:xfrm flipH="1" flipV="1" rot="5400000">
                <a:off x="3958920" y="3399840"/>
                <a:ext cx="76680" cy="101340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  <p:cxnSp>
            <p:nvCxnSpPr>
              <p:cNvPr id="2489" name=""/>
              <p:cNvCxnSpPr>
                <a:stCxn id="2331" idx="4"/>
                <a:endCxn id="2463" idx="1"/>
              </p:cNvCxnSpPr>
              <p:nvPr/>
            </p:nvCxnSpPr>
            <p:spPr>
              <a:xfrm flipH="1" rot="16200000">
                <a:off x="4107600" y="3842280"/>
                <a:ext cx="56160" cy="73728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  <p:cxnSp>
            <p:nvCxnSpPr>
              <p:cNvPr id="2490" name=""/>
              <p:cNvCxnSpPr>
                <a:stCxn id="2325" idx="5"/>
                <a:endCxn id="2409" idx="1"/>
              </p:cNvCxnSpPr>
              <p:nvPr/>
            </p:nvCxnSpPr>
            <p:spPr>
              <a:xfrm flipH="1" rot="16200000">
                <a:off x="3690720" y="3989160"/>
                <a:ext cx="626040" cy="100080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  <p:cxnSp>
            <p:nvCxnSpPr>
              <p:cNvPr id="2491" name=""/>
              <p:cNvCxnSpPr>
                <a:stCxn id="2328" idx="4"/>
                <a:endCxn id="2430" idx="1"/>
              </p:cNvCxnSpPr>
              <p:nvPr/>
            </p:nvCxnSpPr>
            <p:spPr>
              <a:xfrm flipH="1" rot="16200000">
                <a:off x="3849480" y="3960360"/>
                <a:ext cx="432360" cy="87696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  <p:cxnSp>
            <p:nvCxnSpPr>
              <p:cNvPr id="2492" name=""/>
              <p:cNvCxnSpPr>
                <a:stCxn id="2322" idx="4"/>
                <a:endCxn id="2402" idx="1"/>
              </p:cNvCxnSpPr>
              <p:nvPr/>
            </p:nvCxnSpPr>
            <p:spPr>
              <a:xfrm flipH="1" rot="16200000">
                <a:off x="3524040" y="4009680"/>
                <a:ext cx="807120" cy="115344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  <p:cxnSp>
            <p:nvCxnSpPr>
              <p:cNvPr id="2493" name=""/>
              <p:cNvCxnSpPr>
                <a:stCxn id="2337" idx="0"/>
                <a:endCxn id="2389" idx="1"/>
              </p:cNvCxnSpPr>
              <p:nvPr/>
            </p:nvCxnSpPr>
            <p:spPr>
              <a:xfrm flipH="1" flipV="1" rot="5400000">
                <a:off x="3701520" y="3141360"/>
                <a:ext cx="451440" cy="115344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  <p:cxnSp>
            <p:nvCxnSpPr>
              <p:cNvPr id="2494" name=""/>
              <p:cNvCxnSpPr>
                <a:stCxn id="2352" idx="0"/>
                <a:endCxn id="2376" idx="1"/>
              </p:cNvCxnSpPr>
              <p:nvPr/>
            </p:nvCxnSpPr>
            <p:spPr>
              <a:xfrm flipH="1" flipV="1" rot="5400000">
                <a:off x="3432600" y="2481480"/>
                <a:ext cx="989280" cy="115344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</p:grpSp>
        <p:sp>
          <p:nvSpPr>
            <p:cNvPr id="2495" name=""/>
            <p:cNvSpPr/>
            <p:nvPr/>
          </p:nvSpPr>
          <p:spPr>
            <a:xfrm>
              <a:off x="3498480" y="6357960"/>
              <a:ext cx="2980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Index du dictionnaire des valeurs (</a:t>
              </a:r>
              <a:r>
                <a:rPr b="1" lang="fr-FR" sz="800" spc="-1" strike="noStrike">
                  <a:solidFill>
                    <a:srgbClr val="0000ff"/>
                  </a:solidFill>
                  <a:latin typeface="Arial"/>
                </a:rPr>
                <a:t>séq. indexé</a:t>
              </a: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 ou calculé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3498120" y="6075360"/>
              <a:ext cx="1360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Dictionnaire des valeu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 flipH="1" rot="16200000">
              <a:off x="3021480" y="5690160"/>
              <a:ext cx="552600" cy="433440"/>
            </a:xfrm>
            <a:custGeom>
              <a:avLst/>
              <a:gdLst/>
              <a:ahLst/>
              <a:rect l="l" t="t" r="r" b="b"/>
              <a:pathLst>
                <a:path w="216" h="200">
                  <a:moveTo>
                    <a:pt x="0" y="0"/>
                  </a:moveTo>
                  <a:lnTo>
                    <a:pt x="216" y="0"/>
                  </a:lnTo>
                  <a:lnTo>
                    <a:pt x="216" y="200"/>
                  </a:lnTo>
                </a:path>
              </a:pathLst>
            </a:custGeom>
            <a:noFill/>
            <a:ln w="25560">
              <a:solidFill>
                <a:srgbClr val="969696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 flipV="1" rot="5400000">
              <a:off x="2598480" y="5548680"/>
              <a:ext cx="838440" cy="1000080"/>
            </a:xfrm>
            <a:custGeom>
              <a:avLst/>
              <a:gdLst/>
              <a:ahLst/>
              <a:rect l="l" t="t" r="r" b="b"/>
              <a:pathLst>
                <a:path w="216" h="200">
                  <a:moveTo>
                    <a:pt x="0" y="0"/>
                  </a:moveTo>
                  <a:lnTo>
                    <a:pt x="216" y="0"/>
                  </a:lnTo>
                  <a:lnTo>
                    <a:pt x="216" y="200"/>
                  </a:lnTo>
                </a:path>
              </a:pathLst>
            </a:custGeom>
            <a:noFill/>
            <a:ln w="25560">
              <a:solidFill>
                <a:srgbClr val="969696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4833000" y="5529240"/>
              <a:ext cx="100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données de bas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 rot="5400000">
              <a:off x="5171760" y="4576680"/>
              <a:ext cx="266760" cy="15526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 rot="5400000">
              <a:off x="5162400" y="5210280"/>
              <a:ext cx="285840" cy="41904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3984480" y="5808600"/>
              <a:ext cx="2446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Accès aux enregistrements (liste de pointeurs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 flipH="1" rot="16200000">
              <a:off x="3641040" y="5556960"/>
              <a:ext cx="285840" cy="433440"/>
            </a:xfrm>
            <a:custGeom>
              <a:avLst/>
              <a:gdLst/>
              <a:ahLst/>
              <a:rect l="l" t="t" r="r" b="b"/>
              <a:pathLst>
                <a:path w="216" h="200">
                  <a:moveTo>
                    <a:pt x="0" y="0"/>
                  </a:moveTo>
                  <a:lnTo>
                    <a:pt x="216" y="0"/>
                  </a:lnTo>
                  <a:lnTo>
                    <a:pt x="216" y="200"/>
                  </a:lnTo>
                </a:path>
              </a:pathLst>
            </a:custGeom>
            <a:noFill/>
            <a:ln w="25560">
              <a:solidFill>
                <a:srgbClr val="969696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4" name=""/>
          <p:cNvSpPr/>
          <p:nvPr/>
        </p:nvSpPr>
        <p:spPr>
          <a:xfrm>
            <a:off x="2305080" y="1282680"/>
            <a:ext cx="56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tructure d'un index secondaire (non identifian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1066680" y="3448080"/>
            <a:ext cx="1028880" cy="314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ffff00"/>
                </a:solidFill>
                <a:latin typeface="Arial"/>
              </a:rPr>
              <a:t>Nv entré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8 Les index second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1038240" y="3543480"/>
            <a:ext cx="1314360" cy="4190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ffff00"/>
                </a:solidFill>
                <a:latin typeface="Arial"/>
              </a:rPr>
              <a:t>peut rempla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ffff00"/>
                </a:solidFill>
                <a:latin typeface="Arial"/>
              </a:rPr>
              <a:t>un index primai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3" name=""/>
          <p:cNvGrpSpPr/>
          <p:nvPr/>
        </p:nvGrpSpPr>
        <p:grpSpPr>
          <a:xfrm>
            <a:off x="2471760" y="1892160"/>
            <a:ext cx="3795480" cy="3429000"/>
            <a:chOff x="2471760" y="1892160"/>
            <a:chExt cx="3795480" cy="3429000"/>
          </a:xfrm>
        </p:grpSpPr>
        <p:grpSp>
          <p:nvGrpSpPr>
            <p:cNvPr id="2514" name=""/>
            <p:cNvGrpSpPr/>
            <p:nvPr/>
          </p:nvGrpSpPr>
          <p:grpSpPr>
            <a:xfrm>
              <a:off x="2471760" y="1892160"/>
              <a:ext cx="1334880" cy="3429000"/>
              <a:chOff x="2471760" y="1892160"/>
              <a:chExt cx="1334880" cy="3429000"/>
            </a:xfrm>
          </p:grpSpPr>
          <p:sp>
            <p:nvSpPr>
              <p:cNvPr id="2515" name=""/>
              <p:cNvSpPr/>
              <p:nvPr/>
            </p:nvSpPr>
            <p:spPr>
              <a:xfrm>
                <a:off x="2471760" y="2171520"/>
                <a:ext cx="1334880" cy="314964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2471760" y="1892160"/>
                <a:ext cx="1334880" cy="29196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7" name=""/>
            <p:cNvSpPr/>
            <p:nvPr/>
          </p:nvSpPr>
          <p:spPr>
            <a:xfrm>
              <a:off x="2686680" y="1931760"/>
              <a:ext cx="855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900" spc="-1" strike="noStrike">
                  <a:solidFill>
                    <a:srgbClr val="000000"/>
                  </a:solidFill>
                  <a:latin typeface="Arial"/>
                </a:rPr>
                <a:t>Index (NCLI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18" name=""/>
            <p:cNvGrpSpPr/>
            <p:nvPr/>
          </p:nvGrpSpPr>
          <p:grpSpPr>
            <a:xfrm>
              <a:off x="4333680" y="1892160"/>
              <a:ext cx="1933560" cy="3429000"/>
              <a:chOff x="4333680" y="1892160"/>
              <a:chExt cx="1933560" cy="3429000"/>
            </a:xfrm>
          </p:grpSpPr>
          <p:grpSp>
            <p:nvGrpSpPr>
              <p:cNvPr id="2519" name=""/>
              <p:cNvGrpSpPr/>
              <p:nvPr/>
            </p:nvGrpSpPr>
            <p:grpSpPr>
              <a:xfrm>
                <a:off x="4333680" y="1892160"/>
                <a:ext cx="1933560" cy="3429000"/>
                <a:chOff x="4333680" y="1892160"/>
                <a:chExt cx="1933560" cy="3429000"/>
              </a:xfrm>
            </p:grpSpPr>
            <p:sp>
              <p:nvSpPr>
                <p:cNvPr id="2520" name=""/>
                <p:cNvSpPr/>
                <p:nvPr/>
              </p:nvSpPr>
              <p:spPr>
                <a:xfrm>
                  <a:off x="4333680" y="2171520"/>
                  <a:ext cx="1933560" cy="314964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1" name=""/>
                <p:cNvSpPr/>
                <p:nvPr/>
              </p:nvSpPr>
              <p:spPr>
                <a:xfrm>
                  <a:off x="4333680" y="1892160"/>
                  <a:ext cx="1933560" cy="29232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2" name=""/>
                <p:cNvSpPr/>
                <p:nvPr/>
              </p:nvSpPr>
              <p:spPr>
                <a:xfrm>
                  <a:off x="4795920" y="1919160"/>
                  <a:ext cx="1101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000" spc="-1" strike="noStrike">
                      <a:solidFill>
                        <a:srgbClr val="000000"/>
                      </a:solidFill>
                      <a:latin typeface="Arial"/>
                    </a:rPr>
                    <a:t>Fichier de bas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3" name=""/>
              <p:cNvGrpSpPr/>
              <p:nvPr/>
            </p:nvGrpSpPr>
            <p:grpSpPr>
              <a:xfrm>
                <a:off x="4543200" y="2242800"/>
                <a:ext cx="1640160" cy="3014640"/>
                <a:chOff x="4543200" y="2242800"/>
                <a:chExt cx="1640160" cy="3014640"/>
              </a:xfrm>
            </p:grpSpPr>
            <p:sp>
              <p:nvSpPr>
                <p:cNvPr id="2524" name=""/>
                <p:cNvSpPr/>
                <p:nvPr/>
              </p:nvSpPr>
              <p:spPr>
                <a:xfrm>
                  <a:off x="4543200" y="2242800"/>
                  <a:ext cx="1640160" cy="3014640"/>
                </a:xfrm>
                <a:prstGeom prst="rect">
                  <a:avLst/>
                </a:prstGeom>
                <a:solidFill>
                  <a:srgbClr val="f0f0f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25" name=""/>
                <p:cNvGrpSpPr/>
                <p:nvPr/>
              </p:nvGrpSpPr>
              <p:grpSpPr>
                <a:xfrm>
                  <a:off x="4572000" y="2652480"/>
                  <a:ext cx="1574640" cy="142920"/>
                  <a:chOff x="4572000" y="2652480"/>
                  <a:chExt cx="1574640" cy="142920"/>
                </a:xfrm>
              </p:grpSpPr>
              <p:sp>
                <p:nvSpPr>
                  <p:cNvPr id="2526" name=""/>
                  <p:cNvSpPr/>
                  <p:nvPr/>
                </p:nvSpPr>
                <p:spPr>
                  <a:xfrm>
                    <a:off x="4572000" y="2652480"/>
                    <a:ext cx="27612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B062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7" name=""/>
                  <p:cNvSpPr/>
                  <p:nvPr/>
                </p:nvSpPr>
                <p:spPr>
                  <a:xfrm>
                    <a:off x="5294160" y="2652480"/>
                    <a:ext cx="1382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8" name=""/>
                  <p:cNvSpPr/>
                  <p:nvPr/>
                </p:nvSpPr>
                <p:spPr>
                  <a:xfrm>
                    <a:off x="5432400" y="2652480"/>
                    <a:ext cx="41760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Namur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9" name=""/>
                  <p:cNvSpPr/>
                  <p:nvPr/>
                </p:nvSpPr>
                <p:spPr>
                  <a:xfrm>
                    <a:off x="4848120" y="2652480"/>
                    <a:ext cx="4460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Goffin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0" name=""/>
                  <p:cNvSpPr/>
                  <p:nvPr/>
                </p:nvSpPr>
                <p:spPr>
                  <a:xfrm>
                    <a:off x="5850000" y="2652480"/>
                    <a:ext cx="15876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B2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1" name=""/>
                  <p:cNvSpPr/>
                  <p:nvPr/>
                </p:nvSpPr>
                <p:spPr>
                  <a:xfrm>
                    <a:off x="6008760" y="2652480"/>
                    <a:ext cx="1378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32" name=""/>
                <p:cNvGrpSpPr/>
                <p:nvPr/>
              </p:nvGrpSpPr>
              <p:grpSpPr>
                <a:xfrm>
                  <a:off x="4572000" y="3771720"/>
                  <a:ext cx="1574640" cy="142920"/>
                  <a:chOff x="4572000" y="3771720"/>
                  <a:chExt cx="1574640" cy="142920"/>
                </a:xfrm>
              </p:grpSpPr>
              <p:sp>
                <p:nvSpPr>
                  <p:cNvPr id="2533" name=""/>
                  <p:cNvSpPr/>
                  <p:nvPr/>
                </p:nvSpPr>
                <p:spPr>
                  <a:xfrm>
                    <a:off x="4572000" y="3771720"/>
                    <a:ext cx="27612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S712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4" name=""/>
                  <p:cNvSpPr/>
                  <p:nvPr/>
                </p:nvSpPr>
                <p:spPr>
                  <a:xfrm>
                    <a:off x="5294160" y="3771720"/>
                    <a:ext cx="1382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5" name=""/>
                  <p:cNvSpPr/>
                  <p:nvPr/>
                </p:nvSpPr>
                <p:spPr>
                  <a:xfrm>
                    <a:off x="5432400" y="3771720"/>
                    <a:ext cx="41760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Paris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6" name=""/>
                  <p:cNvSpPr/>
                  <p:nvPr/>
                </p:nvSpPr>
                <p:spPr>
                  <a:xfrm>
                    <a:off x="4848120" y="3771720"/>
                    <a:ext cx="4460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Guillaume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7" name=""/>
                  <p:cNvSpPr/>
                  <p:nvPr/>
                </p:nvSpPr>
                <p:spPr>
                  <a:xfrm>
                    <a:off x="5850000" y="3771720"/>
                    <a:ext cx="15876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B1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8" name=""/>
                  <p:cNvSpPr/>
                  <p:nvPr/>
                </p:nvSpPr>
                <p:spPr>
                  <a:xfrm>
                    <a:off x="6008760" y="3771720"/>
                    <a:ext cx="1378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39" name=""/>
                <p:cNvGrpSpPr/>
                <p:nvPr/>
              </p:nvGrpSpPr>
              <p:grpSpPr>
                <a:xfrm>
                  <a:off x="4572000" y="3584160"/>
                  <a:ext cx="1574640" cy="142920"/>
                  <a:chOff x="4572000" y="3584160"/>
                  <a:chExt cx="1574640" cy="142920"/>
                </a:xfrm>
              </p:grpSpPr>
              <p:sp>
                <p:nvSpPr>
                  <p:cNvPr id="2540" name=""/>
                  <p:cNvSpPr/>
                  <p:nvPr/>
                </p:nvSpPr>
                <p:spPr>
                  <a:xfrm>
                    <a:off x="4572000" y="3584160"/>
                    <a:ext cx="27612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B112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1" name=""/>
                  <p:cNvSpPr/>
                  <p:nvPr/>
                </p:nvSpPr>
                <p:spPr>
                  <a:xfrm>
                    <a:off x="5294160" y="3584160"/>
                    <a:ext cx="1382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2" name=""/>
                  <p:cNvSpPr/>
                  <p:nvPr/>
                </p:nvSpPr>
                <p:spPr>
                  <a:xfrm>
                    <a:off x="5432400" y="3584160"/>
                    <a:ext cx="41760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Poitiers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3" name=""/>
                  <p:cNvSpPr/>
                  <p:nvPr/>
                </p:nvSpPr>
                <p:spPr>
                  <a:xfrm>
                    <a:off x="4848120" y="3584160"/>
                    <a:ext cx="4460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Hansenne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4" name=""/>
                  <p:cNvSpPr/>
                  <p:nvPr/>
                </p:nvSpPr>
                <p:spPr>
                  <a:xfrm>
                    <a:off x="5850000" y="3584160"/>
                    <a:ext cx="15876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C1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5" name=""/>
                  <p:cNvSpPr/>
                  <p:nvPr/>
                </p:nvSpPr>
                <p:spPr>
                  <a:xfrm>
                    <a:off x="6008760" y="3584160"/>
                    <a:ext cx="1378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46" name=""/>
                <p:cNvGrpSpPr/>
                <p:nvPr/>
              </p:nvGrpSpPr>
              <p:grpSpPr>
                <a:xfrm>
                  <a:off x="4572000" y="2465280"/>
                  <a:ext cx="1574640" cy="142920"/>
                  <a:chOff x="4572000" y="2465280"/>
                  <a:chExt cx="1574640" cy="142920"/>
                </a:xfrm>
              </p:grpSpPr>
              <p:sp>
                <p:nvSpPr>
                  <p:cNvPr id="2547" name=""/>
                  <p:cNvSpPr/>
                  <p:nvPr/>
                </p:nvSpPr>
                <p:spPr>
                  <a:xfrm>
                    <a:off x="4572000" y="2465280"/>
                    <a:ext cx="27612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B332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8" name=""/>
                  <p:cNvSpPr/>
                  <p:nvPr/>
                </p:nvSpPr>
                <p:spPr>
                  <a:xfrm>
                    <a:off x="5294160" y="2465280"/>
                    <a:ext cx="1382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9" name=""/>
                  <p:cNvSpPr/>
                  <p:nvPr/>
                </p:nvSpPr>
                <p:spPr>
                  <a:xfrm>
                    <a:off x="5432400" y="2465280"/>
                    <a:ext cx="41760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Genève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0" name=""/>
                  <p:cNvSpPr/>
                  <p:nvPr/>
                </p:nvSpPr>
                <p:spPr>
                  <a:xfrm>
                    <a:off x="4848120" y="2465280"/>
                    <a:ext cx="4460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Monti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1" name=""/>
                  <p:cNvSpPr/>
                  <p:nvPr/>
                </p:nvSpPr>
                <p:spPr>
                  <a:xfrm>
                    <a:off x="5850000" y="2465280"/>
                    <a:ext cx="15876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B2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2" name=""/>
                  <p:cNvSpPr/>
                  <p:nvPr/>
                </p:nvSpPr>
                <p:spPr>
                  <a:xfrm>
                    <a:off x="6008760" y="2465280"/>
                    <a:ext cx="1378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53" name=""/>
                <p:cNvGrpSpPr/>
                <p:nvPr/>
              </p:nvGrpSpPr>
              <p:grpSpPr>
                <a:xfrm>
                  <a:off x="4572000" y="5078160"/>
                  <a:ext cx="1574640" cy="142920"/>
                  <a:chOff x="4572000" y="5078160"/>
                  <a:chExt cx="1574640" cy="142920"/>
                </a:xfrm>
              </p:grpSpPr>
              <p:sp>
                <p:nvSpPr>
                  <p:cNvPr id="2554" name=""/>
                  <p:cNvSpPr/>
                  <p:nvPr/>
                </p:nvSpPr>
                <p:spPr>
                  <a:xfrm>
                    <a:off x="4572000" y="5078160"/>
                    <a:ext cx="27612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B512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5" name=""/>
                  <p:cNvSpPr/>
                  <p:nvPr/>
                </p:nvSpPr>
                <p:spPr>
                  <a:xfrm>
                    <a:off x="5294160" y="5078160"/>
                    <a:ext cx="1382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6" name=""/>
                  <p:cNvSpPr/>
                  <p:nvPr/>
                </p:nvSpPr>
                <p:spPr>
                  <a:xfrm>
                    <a:off x="5432400" y="5078160"/>
                    <a:ext cx="41760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Toulouse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7" name=""/>
                  <p:cNvSpPr/>
                  <p:nvPr/>
                </p:nvSpPr>
                <p:spPr>
                  <a:xfrm>
                    <a:off x="4848120" y="5078160"/>
                    <a:ext cx="4460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Gillet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8" name=""/>
                  <p:cNvSpPr/>
                  <p:nvPr/>
                </p:nvSpPr>
                <p:spPr>
                  <a:xfrm>
                    <a:off x="5850000" y="5078160"/>
                    <a:ext cx="15876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B1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9" name=""/>
                  <p:cNvSpPr/>
                  <p:nvPr/>
                </p:nvSpPr>
                <p:spPr>
                  <a:xfrm>
                    <a:off x="6008760" y="5078160"/>
                    <a:ext cx="1378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60" name=""/>
                <p:cNvGrpSpPr/>
                <p:nvPr/>
              </p:nvGrpSpPr>
              <p:grpSpPr>
                <a:xfrm>
                  <a:off x="4572000" y="4890960"/>
                  <a:ext cx="1574640" cy="142920"/>
                  <a:chOff x="4572000" y="4890960"/>
                  <a:chExt cx="1574640" cy="142920"/>
                </a:xfrm>
              </p:grpSpPr>
              <p:sp>
                <p:nvSpPr>
                  <p:cNvPr id="2561" name=""/>
                  <p:cNvSpPr/>
                  <p:nvPr/>
                </p:nvSpPr>
                <p:spPr>
                  <a:xfrm>
                    <a:off x="4572000" y="4890960"/>
                    <a:ext cx="27612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C003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2" name=""/>
                  <p:cNvSpPr/>
                  <p:nvPr/>
                </p:nvSpPr>
                <p:spPr>
                  <a:xfrm>
                    <a:off x="5294160" y="4890960"/>
                    <a:ext cx="1382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3" name=""/>
                  <p:cNvSpPr/>
                  <p:nvPr/>
                </p:nvSpPr>
                <p:spPr>
                  <a:xfrm>
                    <a:off x="5432400" y="4890960"/>
                    <a:ext cx="41760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Toulouse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4" name=""/>
                  <p:cNvSpPr/>
                  <p:nvPr/>
                </p:nvSpPr>
                <p:spPr>
                  <a:xfrm>
                    <a:off x="4848120" y="4890960"/>
                    <a:ext cx="4460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Avron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5" name=""/>
                  <p:cNvSpPr/>
                  <p:nvPr/>
                </p:nvSpPr>
                <p:spPr>
                  <a:xfrm>
                    <a:off x="5850000" y="4890960"/>
                    <a:ext cx="15876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B1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6" name=""/>
                  <p:cNvSpPr/>
                  <p:nvPr/>
                </p:nvSpPr>
                <p:spPr>
                  <a:xfrm>
                    <a:off x="6008760" y="4890960"/>
                    <a:ext cx="1378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67" name=""/>
                <p:cNvGrpSpPr/>
                <p:nvPr/>
              </p:nvGrpSpPr>
              <p:grpSpPr>
                <a:xfrm>
                  <a:off x="4572000" y="3025440"/>
                  <a:ext cx="1574640" cy="142920"/>
                  <a:chOff x="4572000" y="3025440"/>
                  <a:chExt cx="1574640" cy="142920"/>
                </a:xfrm>
              </p:grpSpPr>
              <p:sp>
                <p:nvSpPr>
                  <p:cNvPr id="2568" name=""/>
                  <p:cNvSpPr/>
                  <p:nvPr/>
                </p:nvSpPr>
                <p:spPr>
                  <a:xfrm>
                    <a:off x="4572000" y="3025440"/>
                    <a:ext cx="27612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C123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9" name=""/>
                  <p:cNvSpPr/>
                  <p:nvPr/>
                </p:nvSpPr>
                <p:spPr>
                  <a:xfrm>
                    <a:off x="5294160" y="3025440"/>
                    <a:ext cx="1382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0" name=""/>
                  <p:cNvSpPr/>
                  <p:nvPr/>
                </p:nvSpPr>
                <p:spPr>
                  <a:xfrm>
                    <a:off x="5432400" y="3025440"/>
                    <a:ext cx="41760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Namur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1" name=""/>
                  <p:cNvSpPr/>
                  <p:nvPr/>
                </p:nvSpPr>
                <p:spPr>
                  <a:xfrm>
                    <a:off x="4848120" y="3025440"/>
                    <a:ext cx="4460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Mercier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2" name=""/>
                  <p:cNvSpPr/>
                  <p:nvPr/>
                </p:nvSpPr>
                <p:spPr>
                  <a:xfrm>
                    <a:off x="5850000" y="3025440"/>
                    <a:ext cx="15876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C1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3" name=""/>
                  <p:cNvSpPr/>
                  <p:nvPr/>
                </p:nvSpPr>
                <p:spPr>
                  <a:xfrm>
                    <a:off x="6008760" y="3025440"/>
                    <a:ext cx="1378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74" name=""/>
                <p:cNvGrpSpPr/>
                <p:nvPr/>
              </p:nvGrpSpPr>
              <p:grpSpPr>
                <a:xfrm>
                  <a:off x="4572000" y="4517640"/>
                  <a:ext cx="1574640" cy="142920"/>
                  <a:chOff x="4572000" y="4517640"/>
                  <a:chExt cx="1574640" cy="142920"/>
                </a:xfrm>
              </p:grpSpPr>
              <p:sp>
                <p:nvSpPr>
                  <p:cNvPr id="2575" name=""/>
                  <p:cNvSpPr/>
                  <p:nvPr/>
                </p:nvSpPr>
                <p:spPr>
                  <a:xfrm>
                    <a:off x="4572000" y="4517640"/>
                    <a:ext cx="27612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C400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6" name=""/>
                  <p:cNvSpPr/>
                  <p:nvPr/>
                </p:nvSpPr>
                <p:spPr>
                  <a:xfrm>
                    <a:off x="5294160" y="4517640"/>
                    <a:ext cx="1382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7" name=""/>
                  <p:cNvSpPr/>
                  <p:nvPr/>
                </p:nvSpPr>
                <p:spPr>
                  <a:xfrm>
                    <a:off x="5432400" y="4517640"/>
                    <a:ext cx="41760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Poitiers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8" name=""/>
                  <p:cNvSpPr/>
                  <p:nvPr/>
                </p:nvSpPr>
                <p:spPr>
                  <a:xfrm>
                    <a:off x="4848120" y="4517640"/>
                    <a:ext cx="4460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Férard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9" name=""/>
                  <p:cNvSpPr/>
                  <p:nvPr/>
                </p:nvSpPr>
                <p:spPr>
                  <a:xfrm>
                    <a:off x="5850000" y="4517640"/>
                    <a:ext cx="15876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B2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0" name=""/>
                  <p:cNvSpPr/>
                  <p:nvPr/>
                </p:nvSpPr>
                <p:spPr>
                  <a:xfrm>
                    <a:off x="6008760" y="4517640"/>
                    <a:ext cx="1378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81" name=""/>
                <p:cNvGrpSpPr/>
                <p:nvPr/>
              </p:nvGrpSpPr>
              <p:grpSpPr>
                <a:xfrm>
                  <a:off x="4572000" y="4703400"/>
                  <a:ext cx="1574640" cy="142920"/>
                  <a:chOff x="4572000" y="4703400"/>
                  <a:chExt cx="1574640" cy="142920"/>
                </a:xfrm>
              </p:grpSpPr>
              <p:sp>
                <p:nvSpPr>
                  <p:cNvPr id="2582" name=""/>
                  <p:cNvSpPr/>
                  <p:nvPr/>
                </p:nvSpPr>
                <p:spPr>
                  <a:xfrm>
                    <a:off x="4572000" y="4703400"/>
                    <a:ext cx="27612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D063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3" name=""/>
                  <p:cNvSpPr/>
                  <p:nvPr/>
                </p:nvSpPr>
                <p:spPr>
                  <a:xfrm>
                    <a:off x="5294160" y="4703400"/>
                    <a:ext cx="1382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4" name=""/>
                  <p:cNvSpPr/>
                  <p:nvPr/>
                </p:nvSpPr>
                <p:spPr>
                  <a:xfrm>
                    <a:off x="5432400" y="4703400"/>
                    <a:ext cx="41760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Toulouse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5" name=""/>
                  <p:cNvSpPr/>
                  <p:nvPr/>
                </p:nvSpPr>
                <p:spPr>
                  <a:xfrm>
                    <a:off x="4848120" y="4703400"/>
                    <a:ext cx="4460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Mercier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6" name=""/>
                  <p:cNvSpPr/>
                  <p:nvPr/>
                </p:nvSpPr>
                <p:spPr>
                  <a:xfrm>
                    <a:off x="5850000" y="4703400"/>
                    <a:ext cx="15876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A1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7" name=""/>
                  <p:cNvSpPr/>
                  <p:nvPr/>
                </p:nvSpPr>
                <p:spPr>
                  <a:xfrm>
                    <a:off x="6008760" y="4703400"/>
                    <a:ext cx="1378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88" name=""/>
                <p:cNvGrpSpPr/>
                <p:nvPr/>
              </p:nvGrpSpPr>
              <p:grpSpPr>
                <a:xfrm>
                  <a:off x="4572000" y="4144680"/>
                  <a:ext cx="1574640" cy="142920"/>
                  <a:chOff x="4572000" y="4144680"/>
                  <a:chExt cx="1574640" cy="142920"/>
                </a:xfrm>
              </p:grpSpPr>
              <p:sp>
                <p:nvSpPr>
                  <p:cNvPr id="2589" name=""/>
                  <p:cNvSpPr/>
                  <p:nvPr/>
                </p:nvSpPr>
                <p:spPr>
                  <a:xfrm>
                    <a:off x="4572000" y="4144680"/>
                    <a:ext cx="27612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F010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0" name=""/>
                  <p:cNvSpPr/>
                  <p:nvPr/>
                </p:nvSpPr>
                <p:spPr>
                  <a:xfrm>
                    <a:off x="5294160" y="4144680"/>
                    <a:ext cx="1382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1" name=""/>
                  <p:cNvSpPr/>
                  <p:nvPr/>
                </p:nvSpPr>
                <p:spPr>
                  <a:xfrm>
                    <a:off x="5432400" y="4144680"/>
                    <a:ext cx="41760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Poitiers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2" name=""/>
                  <p:cNvSpPr/>
                  <p:nvPr/>
                </p:nvSpPr>
                <p:spPr>
                  <a:xfrm>
                    <a:off x="4848120" y="4144680"/>
                    <a:ext cx="4460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Toussaint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3" name=""/>
                  <p:cNvSpPr/>
                  <p:nvPr/>
                </p:nvSpPr>
                <p:spPr>
                  <a:xfrm>
                    <a:off x="5850000" y="4144680"/>
                    <a:ext cx="15876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C1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4" name=""/>
                  <p:cNvSpPr/>
                  <p:nvPr/>
                </p:nvSpPr>
                <p:spPr>
                  <a:xfrm>
                    <a:off x="6008760" y="4144680"/>
                    <a:ext cx="1378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95" name=""/>
                <p:cNvGrpSpPr/>
                <p:nvPr/>
              </p:nvGrpSpPr>
              <p:grpSpPr>
                <a:xfrm>
                  <a:off x="4572000" y="3957480"/>
                  <a:ext cx="1574640" cy="142920"/>
                  <a:chOff x="4572000" y="3957480"/>
                  <a:chExt cx="1574640" cy="142920"/>
                </a:xfrm>
              </p:grpSpPr>
              <p:sp>
                <p:nvSpPr>
                  <p:cNvPr id="2596" name=""/>
                  <p:cNvSpPr/>
                  <p:nvPr/>
                </p:nvSpPr>
                <p:spPr>
                  <a:xfrm>
                    <a:off x="4572000" y="3957480"/>
                    <a:ext cx="27612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F011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7" name=""/>
                  <p:cNvSpPr/>
                  <p:nvPr/>
                </p:nvSpPr>
                <p:spPr>
                  <a:xfrm>
                    <a:off x="5294160" y="3957480"/>
                    <a:ext cx="1382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8" name=""/>
                  <p:cNvSpPr/>
                  <p:nvPr/>
                </p:nvSpPr>
                <p:spPr>
                  <a:xfrm>
                    <a:off x="5432400" y="3957480"/>
                    <a:ext cx="41760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Poitiers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9" name=""/>
                  <p:cNvSpPr/>
                  <p:nvPr/>
                </p:nvSpPr>
                <p:spPr>
                  <a:xfrm>
                    <a:off x="4848120" y="3957480"/>
                    <a:ext cx="4460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Poncelet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0" name=""/>
                  <p:cNvSpPr/>
                  <p:nvPr/>
                </p:nvSpPr>
                <p:spPr>
                  <a:xfrm>
                    <a:off x="5850000" y="3957480"/>
                    <a:ext cx="15876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B2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1" name=""/>
                  <p:cNvSpPr/>
                  <p:nvPr/>
                </p:nvSpPr>
                <p:spPr>
                  <a:xfrm>
                    <a:off x="6008760" y="3957480"/>
                    <a:ext cx="1378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02" name=""/>
                <p:cNvGrpSpPr/>
                <p:nvPr/>
              </p:nvGrpSpPr>
              <p:grpSpPr>
                <a:xfrm>
                  <a:off x="4572000" y="2279520"/>
                  <a:ext cx="1574640" cy="142920"/>
                  <a:chOff x="4572000" y="2279520"/>
                  <a:chExt cx="1574640" cy="142920"/>
                </a:xfrm>
              </p:grpSpPr>
              <p:sp>
                <p:nvSpPr>
                  <p:cNvPr id="2603" name=""/>
                  <p:cNvSpPr/>
                  <p:nvPr/>
                </p:nvSpPr>
                <p:spPr>
                  <a:xfrm>
                    <a:off x="4572000" y="2279520"/>
                    <a:ext cx="27612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F400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4" name=""/>
                  <p:cNvSpPr/>
                  <p:nvPr/>
                </p:nvSpPr>
                <p:spPr>
                  <a:xfrm>
                    <a:off x="5294160" y="2279520"/>
                    <a:ext cx="1382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5" name=""/>
                  <p:cNvSpPr/>
                  <p:nvPr/>
                </p:nvSpPr>
                <p:spPr>
                  <a:xfrm>
                    <a:off x="5432400" y="2279520"/>
                    <a:ext cx="41760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Bruxelles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6" name=""/>
                  <p:cNvSpPr/>
                  <p:nvPr/>
                </p:nvSpPr>
                <p:spPr>
                  <a:xfrm>
                    <a:off x="4848120" y="2279520"/>
                    <a:ext cx="4460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Jacob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7" name=""/>
                  <p:cNvSpPr/>
                  <p:nvPr/>
                </p:nvSpPr>
                <p:spPr>
                  <a:xfrm>
                    <a:off x="5850000" y="2279520"/>
                    <a:ext cx="15876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C2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8" name=""/>
                  <p:cNvSpPr/>
                  <p:nvPr/>
                </p:nvSpPr>
                <p:spPr>
                  <a:xfrm>
                    <a:off x="6008760" y="2279520"/>
                    <a:ext cx="1378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09" name=""/>
                <p:cNvGrpSpPr/>
                <p:nvPr/>
              </p:nvGrpSpPr>
              <p:grpSpPr>
                <a:xfrm>
                  <a:off x="4572000" y="2838240"/>
                  <a:ext cx="1574640" cy="142920"/>
                  <a:chOff x="4572000" y="2838240"/>
                  <a:chExt cx="1574640" cy="142920"/>
                </a:xfrm>
              </p:grpSpPr>
              <p:sp>
                <p:nvSpPr>
                  <p:cNvPr id="2610" name=""/>
                  <p:cNvSpPr/>
                  <p:nvPr/>
                </p:nvSpPr>
                <p:spPr>
                  <a:xfrm>
                    <a:off x="4572000" y="2838240"/>
                    <a:ext cx="27612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K111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1" name=""/>
                  <p:cNvSpPr/>
                  <p:nvPr/>
                </p:nvSpPr>
                <p:spPr>
                  <a:xfrm>
                    <a:off x="5294160" y="2838240"/>
                    <a:ext cx="1382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2" name=""/>
                  <p:cNvSpPr/>
                  <p:nvPr/>
                </p:nvSpPr>
                <p:spPr>
                  <a:xfrm>
                    <a:off x="5432400" y="2838240"/>
                    <a:ext cx="41760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Lille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3" name=""/>
                  <p:cNvSpPr/>
                  <p:nvPr/>
                </p:nvSpPr>
                <p:spPr>
                  <a:xfrm>
                    <a:off x="4848120" y="2838240"/>
                    <a:ext cx="4460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Vanbist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4" name=""/>
                  <p:cNvSpPr/>
                  <p:nvPr/>
                </p:nvSpPr>
                <p:spPr>
                  <a:xfrm>
                    <a:off x="5850000" y="2838240"/>
                    <a:ext cx="15876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B1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5" name=""/>
                  <p:cNvSpPr/>
                  <p:nvPr/>
                </p:nvSpPr>
                <p:spPr>
                  <a:xfrm>
                    <a:off x="6008760" y="2838240"/>
                    <a:ext cx="1378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16" name=""/>
                <p:cNvGrpSpPr/>
                <p:nvPr/>
              </p:nvGrpSpPr>
              <p:grpSpPr>
                <a:xfrm>
                  <a:off x="4572000" y="4330440"/>
                  <a:ext cx="1574640" cy="142920"/>
                  <a:chOff x="4572000" y="4330440"/>
                  <a:chExt cx="1574640" cy="142920"/>
                </a:xfrm>
              </p:grpSpPr>
              <p:sp>
                <p:nvSpPr>
                  <p:cNvPr id="2617" name=""/>
                  <p:cNvSpPr/>
                  <p:nvPr/>
                </p:nvSpPr>
                <p:spPr>
                  <a:xfrm>
                    <a:off x="4572000" y="4330440"/>
                    <a:ext cx="27612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K729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8" name=""/>
                  <p:cNvSpPr/>
                  <p:nvPr/>
                </p:nvSpPr>
                <p:spPr>
                  <a:xfrm>
                    <a:off x="5294160" y="4330440"/>
                    <a:ext cx="1382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9" name=""/>
                  <p:cNvSpPr/>
                  <p:nvPr/>
                </p:nvSpPr>
                <p:spPr>
                  <a:xfrm>
                    <a:off x="5432400" y="4330440"/>
                    <a:ext cx="41760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Toulouse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0" name=""/>
                  <p:cNvSpPr/>
                  <p:nvPr/>
                </p:nvSpPr>
                <p:spPr>
                  <a:xfrm>
                    <a:off x="4848120" y="4330440"/>
                    <a:ext cx="4460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Neuman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1" name=""/>
                  <p:cNvSpPr/>
                  <p:nvPr/>
                </p:nvSpPr>
                <p:spPr>
                  <a:xfrm>
                    <a:off x="5850000" y="4330440"/>
                    <a:ext cx="15876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B3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2" name=""/>
                  <p:cNvSpPr/>
                  <p:nvPr/>
                </p:nvSpPr>
                <p:spPr>
                  <a:xfrm>
                    <a:off x="6008760" y="4330440"/>
                    <a:ext cx="1378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23" name=""/>
                <p:cNvGrpSpPr/>
                <p:nvPr/>
              </p:nvGrpSpPr>
              <p:grpSpPr>
                <a:xfrm>
                  <a:off x="4572000" y="3211200"/>
                  <a:ext cx="1574640" cy="142920"/>
                  <a:chOff x="4572000" y="3211200"/>
                  <a:chExt cx="1574640" cy="142920"/>
                </a:xfrm>
              </p:grpSpPr>
              <p:sp>
                <p:nvSpPr>
                  <p:cNvPr id="2624" name=""/>
                  <p:cNvSpPr/>
                  <p:nvPr/>
                </p:nvSpPr>
                <p:spPr>
                  <a:xfrm>
                    <a:off x="4572000" y="3211200"/>
                    <a:ext cx="27612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L422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5" name=""/>
                  <p:cNvSpPr/>
                  <p:nvPr/>
                </p:nvSpPr>
                <p:spPr>
                  <a:xfrm>
                    <a:off x="5294160" y="3211200"/>
                    <a:ext cx="1382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6" name=""/>
                  <p:cNvSpPr/>
                  <p:nvPr/>
                </p:nvSpPr>
                <p:spPr>
                  <a:xfrm>
                    <a:off x="5432400" y="3211200"/>
                    <a:ext cx="41760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Namur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7" name=""/>
                  <p:cNvSpPr/>
                  <p:nvPr/>
                </p:nvSpPr>
                <p:spPr>
                  <a:xfrm>
                    <a:off x="4848120" y="3211200"/>
                    <a:ext cx="4460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Frank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8" name=""/>
                  <p:cNvSpPr/>
                  <p:nvPr/>
                </p:nvSpPr>
                <p:spPr>
                  <a:xfrm>
                    <a:off x="5850000" y="3211200"/>
                    <a:ext cx="15876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C1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9" name=""/>
                  <p:cNvSpPr/>
                  <p:nvPr/>
                </p:nvSpPr>
                <p:spPr>
                  <a:xfrm>
                    <a:off x="6008760" y="3211200"/>
                    <a:ext cx="1378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30" name=""/>
                <p:cNvGrpSpPr/>
                <p:nvPr/>
              </p:nvGrpSpPr>
              <p:grpSpPr>
                <a:xfrm>
                  <a:off x="4572000" y="3398760"/>
                  <a:ext cx="1574640" cy="142920"/>
                  <a:chOff x="4572000" y="3398760"/>
                  <a:chExt cx="1574640" cy="142920"/>
                </a:xfrm>
              </p:grpSpPr>
              <p:sp>
                <p:nvSpPr>
                  <p:cNvPr id="2631" name=""/>
                  <p:cNvSpPr/>
                  <p:nvPr/>
                </p:nvSpPr>
                <p:spPr>
                  <a:xfrm>
                    <a:off x="4572000" y="3398760"/>
                    <a:ext cx="27612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S127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2" name=""/>
                  <p:cNvSpPr/>
                  <p:nvPr/>
                </p:nvSpPr>
                <p:spPr>
                  <a:xfrm>
                    <a:off x="5294160" y="3398760"/>
                    <a:ext cx="1382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3" name=""/>
                  <p:cNvSpPr/>
                  <p:nvPr/>
                </p:nvSpPr>
                <p:spPr>
                  <a:xfrm>
                    <a:off x="5850000" y="3398760"/>
                    <a:ext cx="15876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C1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4" name=""/>
                  <p:cNvSpPr/>
                  <p:nvPr/>
                </p:nvSpPr>
                <p:spPr>
                  <a:xfrm>
                    <a:off x="5432400" y="3398760"/>
                    <a:ext cx="41760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Namur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5" name=""/>
                  <p:cNvSpPr/>
                  <p:nvPr/>
                </p:nvSpPr>
                <p:spPr>
                  <a:xfrm>
                    <a:off x="4848120" y="3398760"/>
                    <a:ext cx="4460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Vanderka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6" name=""/>
                  <p:cNvSpPr/>
                  <p:nvPr/>
                </p:nvSpPr>
                <p:spPr>
                  <a:xfrm>
                    <a:off x="6008760" y="3398760"/>
                    <a:ext cx="1378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637" name=""/>
            <p:cNvGrpSpPr/>
            <p:nvPr/>
          </p:nvGrpSpPr>
          <p:grpSpPr>
            <a:xfrm>
              <a:off x="3206520" y="2277720"/>
              <a:ext cx="414000" cy="2948040"/>
              <a:chOff x="3206520" y="2277720"/>
              <a:chExt cx="414000" cy="2948040"/>
            </a:xfrm>
          </p:grpSpPr>
          <p:sp>
            <p:nvSpPr>
              <p:cNvPr id="2638" name=""/>
              <p:cNvSpPr/>
              <p:nvPr/>
            </p:nvSpPr>
            <p:spPr>
              <a:xfrm>
                <a:off x="3206520" y="2277720"/>
                <a:ext cx="276120" cy="14796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B06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39" name=""/>
              <p:cNvGrpSpPr/>
              <p:nvPr/>
            </p:nvGrpSpPr>
            <p:grpSpPr>
              <a:xfrm>
                <a:off x="3482640" y="2277720"/>
                <a:ext cx="137880" cy="147960"/>
                <a:chOff x="3482640" y="2277720"/>
                <a:chExt cx="137880" cy="147960"/>
              </a:xfrm>
            </p:grpSpPr>
            <p:sp>
              <p:nvSpPr>
                <p:cNvPr id="2640" name=""/>
                <p:cNvSpPr/>
                <p:nvPr/>
              </p:nvSpPr>
              <p:spPr>
                <a:xfrm>
                  <a:off x="3482640" y="2277720"/>
                  <a:ext cx="137880" cy="14796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1" name=""/>
                <p:cNvSpPr/>
                <p:nvPr/>
              </p:nvSpPr>
              <p:spPr>
                <a:xfrm>
                  <a:off x="3530160" y="233064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42" name=""/>
              <p:cNvSpPr/>
              <p:nvPr/>
            </p:nvSpPr>
            <p:spPr>
              <a:xfrm>
                <a:off x="3206520" y="5078160"/>
                <a:ext cx="276120" cy="14760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S71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43" name=""/>
              <p:cNvGrpSpPr/>
              <p:nvPr/>
            </p:nvGrpSpPr>
            <p:grpSpPr>
              <a:xfrm>
                <a:off x="3482640" y="5078160"/>
                <a:ext cx="137880" cy="147600"/>
                <a:chOff x="3482640" y="5078160"/>
                <a:chExt cx="137880" cy="147600"/>
              </a:xfrm>
            </p:grpSpPr>
            <p:sp>
              <p:nvSpPr>
                <p:cNvPr id="2644" name=""/>
                <p:cNvSpPr/>
                <p:nvPr/>
              </p:nvSpPr>
              <p:spPr>
                <a:xfrm>
                  <a:off x="3482640" y="507816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5" name=""/>
                <p:cNvSpPr/>
                <p:nvPr/>
              </p:nvSpPr>
              <p:spPr>
                <a:xfrm>
                  <a:off x="3530160" y="513072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46" name=""/>
              <p:cNvSpPr/>
              <p:nvPr/>
            </p:nvSpPr>
            <p:spPr>
              <a:xfrm>
                <a:off x="3206520" y="2463480"/>
                <a:ext cx="276120" cy="14940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B11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47" name=""/>
              <p:cNvGrpSpPr/>
              <p:nvPr/>
            </p:nvGrpSpPr>
            <p:grpSpPr>
              <a:xfrm>
                <a:off x="3482640" y="2463480"/>
                <a:ext cx="137880" cy="149400"/>
                <a:chOff x="3482640" y="2463480"/>
                <a:chExt cx="137880" cy="149400"/>
              </a:xfrm>
            </p:grpSpPr>
            <p:sp>
              <p:nvSpPr>
                <p:cNvPr id="2648" name=""/>
                <p:cNvSpPr/>
                <p:nvPr/>
              </p:nvSpPr>
              <p:spPr>
                <a:xfrm>
                  <a:off x="3482640" y="2463480"/>
                  <a:ext cx="137880" cy="1494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9" name=""/>
                <p:cNvSpPr/>
                <p:nvPr/>
              </p:nvSpPr>
              <p:spPr>
                <a:xfrm>
                  <a:off x="3530160" y="2516760"/>
                  <a:ext cx="42840" cy="42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0" name=""/>
              <p:cNvSpPr/>
              <p:nvPr/>
            </p:nvSpPr>
            <p:spPr>
              <a:xfrm>
                <a:off x="3206520" y="2651040"/>
                <a:ext cx="276120" cy="14760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B33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51" name=""/>
              <p:cNvGrpSpPr/>
              <p:nvPr/>
            </p:nvGrpSpPr>
            <p:grpSpPr>
              <a:xfrm>
                <a:off x="3482640" y="2651040"/>
                <a:ext cx="137880" cy="147600"/>
                <a:chOff x="3482640" y="2651040"/>
                <a:chExt cx="137880" cy="147600"/>
              </a:xfrm>
            </p:grpSpPr>
            <p:sp>
              <p:nvSpPr>
                <p:cNvPr id="2652" name=""/>
                <p:cNvSpPr/>
                <p:nvPr/>
              </p:nvSpPr>
              <p:spPr>
                <a:xfrm>
                  <a:off x="3482640" y="265104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3" name=""/>
                <p:cNvSpPr/>
                <p:nvPr/>
              </p:nvSpPr>
              <p:spPr>
                <a:xfrm>
                  <a:off x="3530160" y="270360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4" name=""/>
              <p:cNvSpPr/>
              <p:nvPr/>
            </p:nvSpPr>
            <p:spPr>
              <a:xfrm>
                <a:off x="3206520" y="2836800"/>
                <a:ext cx="276120" cy="14760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B51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55" name=""/>
              <p:cNvGrpSpPr/>
              <p:nvPr/>
            </p:nvGrpSpPr>
            <p:grpSpPr>
              <a:xfrm>
                <a:off x="3482640" y="2836800"/>
                <a:ext cx="137880" cy="147600"/>
                <a:chOff x="3482640" y="2836800"/>
                <a:chExt cx="137880" cy="147600"/>
              </a:xfrm>
            </p:grpSpPr>
            <p:sp>
              <p:nvSpPr>
                <p:cNvPr id="2656" name=""/>
                <p:cNvSpPr/>
                <p:nvPr/>
              </p:nvSpPr>
              <p:spPr>
                <a:xfrm>
                  <a:off x="3482640" y="283680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7" name=""/>
                <p:cNvSpPr/>
                <p:nvPr/>
              </p:nvSpPr>
              <p:spPr>
                <a:xfrm>
                  <a:off x="3530160" y="288936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8" name=""/>
              <p:cNvSpPr/>
              <p:nvPr/>
            </p:nvSpPr>
            <p:spPr>
              <a:xfrm>
                <a:off x="3206520" y="3025440"/>
                <a:ext cx="276120" cy="14616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C00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59" name=""/>
              <p:cNvGrpSpPr/>
              <p:nvPr/>
            </p:nvGrpSpPr>
            <p:grpSpPr>
              <a:xfrm>
                <a:off x="3482640" y="3025440"/>
                <a:ext cx="137880" cy="146160"/>
                <a:chOff x="3482640" y="3025440"/>
                <a:chExt cx="137880" cy="146160"/>
              </a:xfrm>
            </p:grpSpPr>
            <p:sp>
              <p:nvSpPr>
                <p:cNvPr id="2660" name=""/>
                <p:cNvSpPr/>
                <p:nvPr/>
              </p:nvSpPr>
              <p:spPr>
                <a:xfrm>
                  <a:off x="3482640" y="3025440"/>
                  <a:ext cx="137880" cy="14616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1" name=""/>
                <p:cNvSpPr/>
                <p:nvPr/>
              </p:nvSpPr>
              <p:spPr>
                <a:xfrm>
                  <a:off x="3530160" y="3077640"/>
                  <a:ext cx="42840" cy="41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62" name=""/>
              <p:cNvSpPr/>
              <p:nvPr/>
            </p:nvSpPr>
            <p:spPr>
              <a:xfrm>
                <a:off x="3206520" y="3211200"/>
                <a:ext cx="276120" cy="14760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C12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63" name=""/>
              <p:cNvGrpSpPr/>
              <p:nvPr/>
            </p:nvGrpSpPr>
            <p:grpSpPr>
              <a:xfrm>
                <a:off x="3482640" y="3211200"/>
                <a:ext cx="137880" cy="147600"/>
                <a:chOff x="3482640" y="3211200"/>
                <a:chExt cx="137880" cy="147600"/>
              </a:xfrm>
            </p:grpSpPr>
            <p:sp>
              <p:nvSpPr>
                <p:cNvPr id="2664" name=""/>
                <p:cNvSpPr/>
                <p:nvPr/>
              </p:nvSpPr>
              <p:spPr>
                <a:xfrm>
                  <a:off x="3482640" y="321120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5" name=""/>
                <p:cNvSpPr/>
                <p:nvPr/>
              </p:nvSpPr>
              <p:spPr>
                <a:xfrm>
                  <a:off x="3530160" y="326376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66" name=""/>
              <p:cNvSpPr/>
              <p:nvPr/>
            </p:nvSpPr>
            <p:spPr>
              <a:xfrm>
                <a:off x="3206520" y="3396960"/>
                <a:ext cx="276120" cy="14940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C40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67" name=""/>
              <p:cNvGrpSpPr/>
              <p:nvPr/>
            </p:nvGrpSpPr>
            <p:grpSpPr>
              <a:xfrm>
                <a:off x="3482640" y="3396960"/>
                <a:ext cx="137880" cy="149400"/>
                <a:chOff x="3482640" y="3396960"/>
                <a:chExt cx="137880" cy="149400"/>
              </a:xfrm>
            </p:grpSpPr>
            <p:sp>
              <p:nvSpPr>
                <p:cNvPr id="2668" name=""/>
                <p:cNvSpPr/>
                <p:nvPr/>
              </p:nvSpPr>
              <p:spPr>
                <a:xfrm>
                  <a:off x="3482640" y="3396960"/>
                  <a:ext cx="137880" cy="1494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9" name=""/>
                <p:cNvSpPr/>
                <p:nvPr/>
              </p:nvSpPr>
              <p:spPr>
                <a:xfrm>
                  <a:off x="3530160" y="3450240"/>
                  <a:ext cx="42840" cy="42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70" name=""/>
              <p:cNvSpPr/>
              <p:nvPr/>
            </p:nvSpPr>
            <p:spPr>
              <a:xfrm>
                <a:off x="3206520" y="3584520"/>
                <a:ext cx="276120" cy="14760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D06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71" name=""/>
              <p:cNvGrpSpPr/>
              <p:nvPr/>
            </p:nvGrpSpPr>
            <p:grpSpPr>
              <a:xfrm>
                <a:off x="3482640" y="3584520"/>
                <a:ext cx="137880" cy="147600"/>
                <a:chOff x="3482640" y="3584520"/>
                <a:chExt cx="137880" cy="147600"/>
              </a:xfrm>
            </p:grpSpPr>
            <p:sp>
              <p:nvSpPr>
                <p:cNvPr id="2672" name=""/>
                <p:cNvSpPr/>
                <p:nvPr/>
              </p:nvSpPr>
              <p:spPr>
                <a:xfrm>
                  <a:off x="3482640" y="358452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3" name=""/>
                <p:cNvSpPr/>
                <p:nvPr/>
              </p:nvSpPr>
              <p:spPr>
                <a:xfrm>
                  <a:off x="3530160" y="363708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74" name=""/>
              <p:cNvSpPr/>
              <p:nvPr/>
            </p:nvSpPr>
            <p:spPr>
              <a:xfrm>
                <a:off x="3206520" y="3770280"/>
                <a:ext cx="276120" cy="14760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F01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75" name=""/>
              <p:cNvGrpSpPr/>
              <p:nvPr/>
            </p:nvGrpSpPr>
            <p:grpSpPr>
              <a:xfrm>
                <a:off x="3482640" y="3770280"/>
                <a:ext cx="137880" cy="147600"/>
                <a:chOff x="3482640" y="3770280"/>
                <a:chExt cx="137880" cy="147600"/>
              </a:xfrm>
            </p:grpSpPr>
            <p:sp>
              <p:nvSpPr>
                <p:cNvPr id="2676" name=""/>
                <p:cNvSpPr/>
                <p:nvPr/>
              </p:nvSpPr>
              <p:spPr>
                <a:xfrm>
                  <a:off x="3482640" y="377028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7" name=""/>
                <p:cNvSpPr/>
                <p:nvPr/>
              </p:nvSpPr>
              <p:spPr>
                <a:xfrm>
                  <a:off x="3530160" y="382284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78" name=""/>
              <p:cNvSpPr/>
              <p:nvPr/>
            </p:nvSpPr>
            <p:spPr>
              <a:xfrm>
                <a:off x="3206520" y="3956040"/>
                <a:ext cx="276120" cy="14760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F01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79" name=""/>
              <p:cNvGrpSpPr/>
              <p:nvPr/>
            </p:nvGrpSpPr>
            <p:grpSpPr>
              <a:xfrm>
                <a:off x="3482640" y="3956040"/>
                <a:ext cx="137880" cy="147600"/>
                <a:chOff x="3482640" y="3956040"/>
                <a:chExt cx="137880" cy="147600"/>
              </a:xfrm>
            </p:grpSpPr>
            <p:sp>
              <p:nvSpPr>
                <p:cNvPr id="2680" name=""/>
                <p:cNvSpPr/>
                <p:nvPr/>
              </p:nvSpPr>
              <p:spPr>
                <a:xfrm>
                  <a:off x="3482640" y="395604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1" name=""/>
                <p:cNvSpPr/>
                <p:nvPr/>
              </p:nvSpPr>
              <p:spPr>
                <a:xfrm>
                  <a:off x="3530160" y="400860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82" name=""/>
              <p:cNvSpPr/>
              <p:nvPr/>
            </p:nvSpPr>
            <p:spPr>
              <a:xfrm>
                <a:off x="3206520" y="4144680"/>
                <a:ext cx="276120" cy="14760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F40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83" name=""/>
              <p:cNvGrpSpPr/>
              <p:nvPr/>
            </p:nvGrpSpPr>
            <p:grpSpPr>
              <a:xfrm>
                <a:off x="3482640" y="4144680"/>
                <a:ext cx="137880" cy="147600"/>
                <a:chOff x="3482640" y="4144680"/>
                <a:chExt cx="137880" cy="147600"/>
              </a:xfrm>
            </p:grpSpPr>
            <p:sp>
              <p:nvSpPr>
                <p:cNvPr id="2684" name=""/>
                <p:cNvSpPr/>
                <p:nvPr/>
              </p:nvSpPr>
              <p:spPr>
                <a:xfrm>
                  <a:off x="3482640" y="414468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5" name=""/>
                <p:cNvSpPr/>
                <p:nvPr/>
              </p:nvSpPr>
              <p:spPr>
                <a:xfrm>
                  <a:off x="3530160" y="419724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86" name=""/>
              <p:cNvSpPr/>
              <p:nvPr/>
            </p:nvSpPr>
            <p:spPr>
              <a:xfrm>
                <a:off x="3206520" y="4330440"/>
                <a:ext cx="276120" cy="14616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K11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87" name=""/>
              <p:cNvGrpSpPr/>
              <p:nvPr/>
            </p:nvGrpSpPr>
            <p:grpSpPr>
              <a:xfrm>
                <a:off x="3482640" y="4330440"/>
                <a:ext cx="137880" cy="146160"/>
                <a:chOff x="3482640" y="4330440"/>
                <a:chExt cx="137880" cy="146160"/>
              </a:xfrm>
            </p:grpSpPr>
            <p:sp>
              <p:nvSpPr>
                <p:cNvPr id="2688" name=""/>
                <p:cNvSpPr/>
                <p:nvPr/>
              </p:nvSpPr>
              <p:spPr>
                <a:xfrm>
                  <a:off x="3482640" y="4330440"/>
                  <a:ext cx="137880" cy="14616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9" name=""/>
                <p:cNvSpPr/>
                <p:nvPr/>
              </p:nvSpPr>
              <p:spPr>
                <a:xfrm>
                  <a:off x="3530160" y="4382640"/>
                  <a:ext cx="42840" cy="41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90" name=""/>
              <p:cNvSpPr/>
              <p:nvPr/>
            </p:nvSpPr>
            <p:spPr>
              <a:xfrm>
                <a:off x="3206520" y="4516200"/>
                <a:ext cx="276120" cy="14940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K729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1" name=""/>
              <p:cNvGrpSpPr/>
              <p:nvPr/>
            </p:nvGrpSpPr>
            <p:grpSpPr>
              <a:xfrm>
                <a:off x="3482640" y="4516200"/>
                <a:ext cx="137880" cy="149400"/>
                <a:chOff x="3482640" y="4516200"/>
                <a:chExt cx="137880" cy="149400"/>
              </a:xfrm>
            </p:grpSpPr>
            <p:sp>
              <p:nvSpPr>
                <p:cNvPr id="2692" name=""/>
                <p:cNvSpPr/>
                <p:nvPr/>
              </p:nvSpPr>
              <p:spPr>
                <a:xfrm>
                  <a:off x="3482640" y="4516200"/>
                  <a:ext cx="137880" cy="1494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3" name=""/>
                <p:cNvSpPr/>
                <p:nvPr/>
              </p:nvSpPr>
              <p:spPr>
                <a:xfrm>
                  <a:off x="3530160" y="4569480"/>
                  <a:ext cx="42840" cy="42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94" name=""/>
              <p:cNvSpPr/>
              <p:nvPr/>
            </p:nvSpPr>
            <p:spPr>
              <a:xfrm>
                <a:off x="3206520" y="4703760"/>
                <a:ext cx="276120" cy="14760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L42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5" name=""/>
              <p:cNvGrpSpPr/>
              <p:nvPr/>
            </p:nvGrpSpPr>
            <p:grpSpPr>
              <a:xfrm>
                <a:off x="3482640" y="4703760"/>
                <a:ext cx="137880" cy="147600"/>
                <a:chOff x="3482640" y="4703760"/>
                <a:chExt cx="137880" cy="147600"/>
              </a:xfrm>
            </p:grpSpPr>
            <p:sp>
              <p:nvSpPr>
                <p:cNvPr id="2696" name=""/>
                <p:cNvSpPr/>
                <p:nvPr/>
              </p:nvSpPr>
              <p:spPr>
                <a:xfrm>
                  <a:off x="3482640" y="470376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7" name=""/>
                <p:cNvSpPr/>
                <p:nvPr/>
              </p:nvSpPr>
              <p:spPr>
                <a:xfrm>
                  <a:off x="3530160" y="475632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98" name=""/>
              <p:cNvSpPr/>
              <p:nvPr/>
            </p:nvSpPr>
            <p:spPr>
              <a:xfrm>
                <a:off x="3206520" y="4889160"/>
                <a:ext cx="276120" cy="14796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S127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9" name=""/>
              <p:cNvGrpSpPr/>
              <p:nvPr/>
            </p:nvGrpSpPr>
            <p:grpSpPr>
              <a:xfrm>
                <a:off x="3482640" y="4889160"/>
                <a:ext cx="137880" cy="147960"/>
                <a:chOff x="3482640" y="4889160"/>
                <a:chExt cx="137880" cy="147960"/>
              </a:xfrm>
            </p:grpSpPr>
            <p:sp>
              <p:nvSpPr>
                <p:cNvPr id="2700" name=""/>
                <p:cNvSpPr/>
                <p:nvPr/>
              </p:nvSpPr>
              <p:spPr>
                <a:xfrm>
                  <a:off x="3482640" y="4889160"/>
                  <a:ext cx="137880" cy="14796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1" name=""/>
                <p:cNvSpPr/>
                <p:nvPr/>
              </p:nvSpPr>
              <p:spPr>
                <a:xfrm>
                  <a:off x="3530160" y="494208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2702" name=""/>
            <p:cNvCxnSpPr>
              <a:stCxn id="2641" idx="6"/>
              <a:endCxn id="2526" idx="1"/>
            </p:cNvCxnSpPr>
            <p:nvPr/>
          </p:nvCxnSpPr>
          <p:spPr>
            <a:xfrm>
              <a:off x="3573360" y="2352600"/>
              <a:ext cx="999000" cy="375120"/>
            </a:xfrm>
            <a:prstGeom prst="curvedConnector5">
              <a:avLst>
                <a:gd name="adj1" fmla="val 49927"/>
                <a:gd name="adj2" fmla="val 49951"/>
                <a:gd name="adj3" fmla="val 49927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2703" name=""/>
            <p:cNvCxnSpPr>
              <a:stCxn id="2649" idx="6"/>
              <a:endCxn id="2540" idx="1"/>
            </p:cNvCxnSpPr>
            <p:nvPr/>
          </p:nvCxnSpPr>
          <p:spPr>
            <a:xfrm>
              <a:off x="3573360" y="2538000"/>
              <a:ext cx="999000" cy="1121760"/>
            </a:xfrm>
            <a:prstGeom prst="curvedConnector5">
              <a:avLst>
                <a:gd name="adj1" fmla="val 49927"/>
                <a:gd name="adj2" fmla="val 49983"/>
                <a:gd name="adj3" fmla="val 49927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2704" name=""/>
            <p:cNvCxnSpPr>
              <a:stCxn id="2653" idx="6"/>
              <a:endCxn id="2547" idx="1"/>
            </p:cNvCxnSpPr>
            <p:nvPr/>
          </p:nvCxnSpPr>
          <p:spPr>
            <a:xfrm flipV="1">
              <a:off x="3573360" y="2539440"/>
              <a:ext cx="999000" cy="186480"/>
            </a:xfrm>
            <a:prstGeom prst="curvedConnector5">
              <a:avLst>
                <a:gd name="adj1" fmla="val 49927"/>
                <a:gd name="adj2" fmla="val 49903"/>
                <a:gd name="adj3" fmla="val 49927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2705" name=""/>
            <p:cNvCxnSpPr>
              <a:stCxn id="2657" idx="6"/>
              <a:endCxn id="2554" idx="1"/>
            </p:cNvCxnSpPr>
            <p:nvPr/>
          </p:nvCxnSpPr>
          <p:spPr>
            <a:xfrm>
              <a:off x="3573360" y="2911320"/>
              <a:ext cx="999000" cy="2242080"/>
            </a:xfrm>
            <a:prstGeom prst="curvedConnector5">
              <a:avLst>
                <a:gd name="adj1" fmla="val 29884"/>
                <a:gd name="adj2" fmla="val 49991"/>
                <a:gd name="adj3" fmla="val 29884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2706" name=""/>
            <p:cNvCxnSpPr>
              <a:stCxn id="2661" idx="6"/>
              <a:endCxn id="2561" idx="1"/>
            </p:cNvCxnSpPr>
            <p:nvPr/>
          </p:nvCxnSpPr>
          <p:spPr>
            <a:xfrm>
              <a:off x="3573360" y="3098520"/>
              <a:ext cx="999000" cy="1867680"/>
            </a:xfrm>
            <a:prstGeom prst="curvedConnector5">
              <a:avLst>
                <a:gd name="adj1" fmla="val 36085"/>
                <a:gd name="adj2" fmla="val 49990"/>
                <a:gd name="adj3" fmla="val 36085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2707" name=""/>
            <p:cNvCxnSpPr>
              <a:stCxn id="2665" idx="6"/>
              <a:endCxn id="2568" idx="1"/>
            </p:cNvCxnSpPr>
            <p:nvPr/>
          </p:nvCxnSpPr>
          <p:spPr>
            <a:xfrm flipV="1">
              <a:off x="3573360" y="3099600"/>
              <a:ext cx="999000" cy="186480"/>
            </a:xfrm>
            <a:prstGeom prst="curvedConnector5">
              <a:avLst>
                <a:gd name="adj1" fmla="val 49927"/>
                <a:gd name="adj2" fmla="val 49903"/>
                <a:gd name="adj3" fmla="val 49927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2708" name=""/>
            <p:cNvCxnSpPr>
              <a:stCxn id="2669" idx="6"/>
              <a:endCxn id="2575" idx="1"/>
            </p:cNvCxnSpPr>
            <p:nvPr/>
          </p:nvCxnSpPr>
          <p:spPr>
            <a:xfrm>
              <a:off x="3573360" y="3471480"/>
              <a:ext cx="999000" cy="1121760"/>
            </a:xfrm>
            <a:prstGeom prst="curvedConnector5">
              <a:avLst>
                <a:gd name="adj1" fmla="val 45133"/>
                <a:gd name="adj2" fmla="val 49983"/>
                <a:gd name="adj3" fmla="val 45133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2709" name=""/>
            <p:cNvCxnSpPr>
              <a:stCxn id="2673" idx="6"/>
              <a:endCxn id="2582" idx="1"/>
            </p:cNvCxnSpPr>
            <p:nvPr/>
          </p:nvCxnSpPr>
          <p:spPr>
            <a:xfrm>
              <a:off x="3573360" y="3658680"/>
              <a:ext cx="999000" cy="1119960"/>
            </a:xfrm>
            <a:prstGeom prst="curvedConnector5">
              <a:avLst>
                <a:gd name="adj1" fmla="val 44664"/>
                <a:gd name="adj2" fmla="val 50000"/>
                <a:gd name="adj3" fmla="val 44664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2710" name=""/>
            <p:cNvCxnSpPr>
              <a:stCxn id="2677" idx="6"/>
              <a:endCxn id="2589" idx="1"/>
            </p:cNvCxnSpPr>
            <p:nvPr/>
          </p:nvCxnSpPr>
          <p:spPr>
            <a:xfrm>
              <a:off x="3573360" y="3844800"/>
              <a:ext cx="999000" cy="375120"/>
            </a:xfrm>
            <a:prstGeom prst="curvedConnector5">
              <a:avLst>
                <a:gd name="adj1" fmla="val 49927"/>
                <a:gd name="adj2" fmla="val 49951"/>
                <a:gd name="adj3" fmla="val 49927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2711" name=""/>
            <p:cNvCxnSpPr>
              <a:stCxn id="2681" idx="6"/>
              <a:endCxn id="2596" idx="1"/>
            </p:cNvCxnSpPr>
            <p:nvPr/>
          </p:nvCxnSpPr>
          <p:spPr>
            <a:xfrm>
              <a:off x="3573360" y="4030560"/>
              <a:ext cx="999000" cy="2160"/>
            </a:xfrm>
            <a:prstGeom prst="curvedConnector5">
              <a:avLst>
                <a:gd name="adj1" fmla="val 49927"/>
                <a:gd name="adj2" fmla="val 40000"/>
                <a:gd name="adj3" fmla="val 49927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2712" name=""/>
            <p:cNvCxnSpPr>
              <a:stCxn id="2685" idx="6"/>
              <a:endCxn id="2603" idx="1"/>
            </p:cNvCxnSpPr>
            <p:nvPr/>
          </p:nvCxnSpPr>
          <p:spPr>
            <a:xfrm flipV="1">
              <a:off x="3573360" y="2353320"/>
              <a:ext cx="999000" cy="1865880"/>
            </a:xfrm>
            <a:prstGeom prst="curvedConnector5">
              <a:avLst>
                <a:gd name="adj1" fmla="val 57065"/>
                <a:gd name="adj2" fmla="val 50000"/>
                <a:gd name="adj3" fmla="val 57065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2713" name=""/>
            <p:cNvCxnSpPr>
              <a:stCxn id="2689" idx="6"/>
              <a:endCxn id="2610" idx="1"/>
            </p:cNvCxnSpPr>
            <p:nvPr/>
          </p:nvCxnSpPr>
          <p:spPr>
            <a:xfrm flipV="1">
              <a:off x="3573360" y="2912040"/>
              <a:ext cx="999000" cy="1491480"/>
            </a:xfrm>
            <a:prstGeom prst="curvedConnector5">
              <a:avLst>
                <a:gd name="adj1" fmla="val 57065"/>
                <a:gd name="adj2" fmla="val 50000"/>
                <a:gd name="adj3" fmla="val 57065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2714" name=""/>
            <p:cNvCxnSpPr>
              <a:stCxn id="2693" idx="6"/>
              <a:endCxn id="2617" idx="1"/>
            </p:cNvCxnSpPr>
            <p:nvPr/>
          </p:nvCxnSpPr>
          <p:spPr>
            <a:xfrm flipV="1">
              <a:off x="3573360" y="4404600"/>
              <a:ext cx="999000" cy="186480"/>
            </a:xfrm>
            <a:prstGeom prst="curvedConnector5">
              <a:avLst>
                <a:gd name="adj1" fmla="val 49927"/>
                <a:gd name="adj2" fmla="val 49903"/>
                <a:gd name="adj3" fmla="val 49927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2715" name=""/>
            <p:cNvCxnSpPr>
              <a:stCxn id="2697" idx="6"/>
              <a:endCxn id="2624" idx="1"/>
            </p:cNvCxnSpPr>
            <p:nvPr/>
          </p:nvCxnSpPr>
          <p:spPr>
            <a:xfrm flipV="1">
              <a:off x="3573360" y="3285360"/>
              <a:ext cx="999000" cy="1493280"/>
            </a:xfrm>
            <a:prstGeom prst="curvedConnector5">
              <a:avLst>
                <a:gd name="adj1" fmla="val 56596"/>
                <a:gd name="adj2" fmla="val 49987"/>
                <a:gd name="adj3" fmla="val 56596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2716" name=""/>
            <p:cNvCxnSpPr>
              <a:stCxn id="2701" idx="6"/>
              <a:endCxn id="2631" idx="1"/>
            </p:cNvCxnSpPr>
            <p:nvPr/>
          </p:nvCxnSpPr>
          <p:spPr>
            <a:xfrm flipV="1">
              <a:off x="3573360" y="3472920"/>
              <a:ext cx="999000" cy="1491120"/>
            </a:xfrm>
            <a:prstGeom prst="curvedConnector5">
              <a:avLst>
                <a:gd name="adj1" fmla="val 60418"/>
                <a:gd name="adj2" fmla="val 49987"/>
                <a:gd name="adj3" fmla="val 60418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2717" name=""/>
            <p:cNvCxnSpPr>
              <a:stCxn id="2645" idx="6"/>
              <a:endCxn id="2533" idx="1"/>
            </p:cNvCxnSpPr>
            <p:nvPr/>
          </p:nvCxnSpPr>
          <p:spPr>
            <a:xfrm flipV="1">
              <a:off x="3573360" y="3845520"/>
              <a:ext cx="999000" cy="1307160"/>
            </a:xfrm>
            <a:prstGeom prst="curvedConnector5">
              <a:avLst>
                <a:gd name="adj1" fmla="val 61355"/>
                <a:gd name="adj2" fmla="val 50000"/>
                <a:gd name="adj3" fmla="val 61355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2718" name=""/>
            <p:cNvSpPr/>
            <p:nvPr/>
          </p:nvSpPr>
          <p:spPr>
            <a:xfrm rot="16200000">
              <a:off x="1368360" y="3501720"/>
              <a:ext cx="2914560" cy="520560"/>
            </a:xfrm>
            <a:prstGeom prst="triangle">
              <a:avLst>
                <a:gd name="adj" fmla="val 50088"/>
              </a:avLst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9" name=""/>
          <p:cNvSpPr/>
          <p:nvPr/>
        </p:nvSpPr>
        <p:spPr>
          <a:xfrm>
            <a:off x="2305080" y="1282680"/>
            <a:ext cx="56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tructure d'un index secondaire (identifian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1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8 Les index second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6" name=""/>
          <p:cNvGrpSpPr/>
          <p:nvPr/>
        </p:nvGrpSpPr>
        <p:grpSpPr>
          <a:xfrm>
            <a:off x="1785960" y="1954080"/>
            <a:ext cx="5778360" cy="3429000"/>
            <a:chOff x="1785960" y="1954080"/>
            <a:chExt cx="5778360" cy="3429000"/>
          </a:xfrm>
        </p:grpSpPr>
        <p:grpSp>
          <p:nvGrpSpPr>
            <p:cNvPr id="2727" name=""/>
            <p:cNvGrpSpPr/>
            <p:nvPr/>
          </p:nvGrpSpPr>
          <p:grpSpPr>
            <a:xfrm>
              <a:off x="5900760" y="2454120"/>
              <a:ext cx="1663560" cy="2004840"/>
              <a:chOff x="5900760" y="2454120"/>
              <a:chExt cx="1663560" cy="2004840"/>
            </a:xfrm>
          </p:grpSpPr>
          <p:sp>
            <p:nvSpPr>
              <p:cNvPr id="2728" name=""/>
              <p:cNvSpPr/>
              <p:nvPr/>
            </p:nvSpPr>
            <p:spPr>
              <a:xfrm>
                <a:off x="5900760" y="2733480"/>
                <a:ext cx="1663560" cy="172548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5900760" y="2454120"/>
                <a:ext cx="1663560" cy="29196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6203160" y="2493720"/>
                <a:ext cx="1160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900" spc="-1" strike="noStrike">
                    <a:solidFill>
                      <a:srgbClr val="000000"/>
                    </a:solidFill>
                    <a:latin typeface="Arial"/>
                  </a:rPr>
                  <a:t>Index (LOCALITE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 flipH="1" rot="5400000">
                <a:off x="6611760" y="3344040"/>
                <a:ext cx="1305000" cy="473040"/>
              </a:xfrm>
              <a:prstGeom prst="triangle">
                <a:avLst>
                  <a:gd name="adj" fmla="val 50088"/>
                </a:avLst>
              </a:prstGeom>
              <a:solidFill>
                <a:srgbClr val="c0c0c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32" name=""/>
              <p:cNvGrpSpPr/>
              <p:nvPr/>
            </p:nvGrpSpPr>
            <p:grpSpPr>
              <a:xfrm>
                <a:off x="6402240" y="2917440"/>
                <a:ext cx="555840" cy="147600"/>
                <a:chOff x="6402240" y="2917440"/>
                <a:chExt cx="555840" cy="147600"/>
              </a:xfrm>
            </p:grpSpPr>
            <p:sp>
              <p:nvSpPr>
                <p:cNvPr id="2733" name=""/>
                <p:cNvSpPr/>
                <p:nvPr/>
              </p:nvSpPr>
              <p:spPr>
                <a:xfrm>
                  <a:off x="6540480" y="2917440"/>
                  <a:ext cx="417600" cy="14760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Bruxelles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34" name=""/>
                <p:cNvGrpSpPr/>
                <p:nvPr/>
              </p:nvGrpSpPr>
              <p:grpSpPr>
                <a:xfrm>
                  <a:off x="6402240" y="2917440"/>
                  <a:ext cx="137880" cy="147600"/>
                  <a:chOff x="6402240" y="2917440"/>
                  <a:chExt cx="137880" cy="147600"/>
                </a:xfrm>
              </p:grpSpPr>
              <p:sp>
                <p:nvSpPr>
                  <p:cNvPr id="2735" name=""/>
                  <p:cNvSpPr/>
                  <p:nvPr/>
                </p:nvSpPr>
                <p:spPr>
                  <a:xfrm>
                    <a:off x="6402240" y="2917440"/>
                    <a:ext cx="137880" cy="14760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6" name=""/>
                  <p:cNvSpPr/>
                  <p:nvPr/>
                </p:nvSpPr>
                <p:spPr>
                  <a:xfrm>
                    <a:off x="6449760" y="2970000"/>
                    <a:ext cx="42840" cy="41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37" name=""/>
              <p:cNvGrpSpPr/>
              <p:nvPr/>
            </p:nvGrpSpPr>
            <p:grpSpPr>
              <a:xfrm>
                <a:off x="6402240" y="3111120"/>
                <a:ext cx="555840" cy="147600"/>
                <a:chOff x="6402240" y="3111120"/>
                <a:chExt cx="555840" cy="147600"/>
              </a:xfrm>
            </p:grpSpPr>
            <p:sp>
              <p:nvSpPr>
                <p:cNvPr id="2738" name=""/>
                <p:cNvSpPr/>
                <p:nvPr/>
              </p:nvSpPr>
              <p:spPr>
                <a:xfrm>
                  <a:off x="6540480" y="3111120"/>
                  <a:ext cx="417600" cy="14760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Genèv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39" name=""/>
                <p:cNvGrpSpPr/>
                <p:nvPr/>
              </p:nvGrpSpPr>
              <p:grpSpPr>
                <a:xfrm>
                  <a:off x="6402240" y="3111120"/>
                  <a:ext cx="137880" cy="147600"/>
                  <a:chOff x="6402240" y="3111120"/>
                  <a:chExt cx="137880" cy="147600"/>
                </a:xfrm>
              </p:grpSpPr>
              <p:sp>
                <p:nvSpPr>
                  <p:cNvPr id="2740" name=""/>
                  <p:cNvSpPr/>
                  <p:nvPr/>
                </p:nvSpPr>
                <p:spPr>
                  <a:xfrm>
                    <a:off x="6402240" y="3111120"/>
                    <a:ext cx="137880" cy="14760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1" name=""/>
                  <p:cNvSpPr/>
                  <p:nvPr/>
                </p:nvSpPr>
                <p:spPr>
                  <a:xfrm>
                    <a:off x="6449760" y="3163680"/>
                    <a:ext cx="42840" cy="41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42" name=""/>
              <p:cNvGrpSpPr/>
              <p:nvPr/>
            </p:nvGrpSpPr>
            <p:grpSpPr>
              <a:xfrm>
                <a:off x="6402240" y="3306600"/>
                <a:ext cx="555840" cy="147600"/>
                <a:chOff x="6402240" y="3306600"/>
                <a:chExt cx="555840" cy="147600"/>
              </a:xfrm>
            </p:grpSpPr>
            <p:sp>
              <p:nvSpPr>
                <p:cNvPr id="2743" name=""/>
                <p:cNvSpPr/>
                <p:nvPr/>
              </p:nvSpPr>
              <p:spPr>
                <a:xfrm>
                  <a:off x="6540480" y="3306600"/>
                  <a:ext cx="417600" cy="14760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Lill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44" name=""/>
                <p:cNvGrpSpPr/>
                <p:nvPr/>
              </p:nvGrpSpPr>
              <p:grpSpPr>
                <a:xfrm>
                  <a:off x="6402240" y="3306600"/>
                  <a:ext cx="137880" cy="147600"/>
                  <a:chOff x="6402240" y="3306600"/>
                  <a:chExt cx="137880" cy="147600"/>
                </a:xfrm>
              </p:grpSpPr>
              <p:sp>
                <p:nvSpPr>
                  <p:cNvPr id="2745" name=""/>
                  <p:cNvSpPr/>
                  <p:nvPr/>
                </p:nvSpPr>
                <p:spPr>
                  <a:xfrm>
                    <a:off x="6402240" y="3306600"/>
                    <a:ext cx="137880" cy="14760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6" name=""/>
                  <p:cNvSpPr/>
                  <p:nvPr/>
                </p:nvSpPr>
                <p:spPr>
                  <a:xfrm>
                    <a:off x="6449760" y="3359160"/>
                    <a:ext cx="42840" cy="41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47" name=""/>
              <p:cNvGrpSpPr/>
              <p:nvPr/>
            </p:nvGrpSpPr>
            <p:grpSpPr>
              <a:xfrm>
                <a:off x="6402240" y="3697200"/>
                <a:ext cx="555840" cy="147600"/>
                <a:chOff x="6402240" y="3697200"/>
                <a:chExt cx="555840" cy="147600"/>
              </a:xfrm>
            </p:grpSpPr>
            <p:sp>
              <p:nvSpPr>
                <p:cNvPr id="2748" name=""/>
                <p:cNvSpPr/>
                <p:nvPr/>
              </p:nvSpPr>
              <p:spPr>
                <a:xfrm>
                  <a:off x="6540480" y="3697200"/>
                  <a:ext cx="417600" cy="14760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Paris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49" name=""/>
                <p:cNvGrpSpPr/>
                <p:nvPr/>
              </p:nvGrpSpPr>
              <p:grpSpPr>
                <a:xfrm>
                  <a:off x="6402240" y="3697200"/>
                  <a:ext cx="137880" cy="147600"/>
                  <a:chOff x="6402240" y="3697200"/>
                  <a:chExt cx="137880" cy="147600"/>
                </a:xfrm>
              </p:grpSpPr>
              <p:sp>
                <p:nvSpPr>
                  <p:cNvPr id="2750" name=""/>
                  <p:cNvSpPr/>
                  <p:nvPr/>
                </p:nvSpPr>
                <p:spPr>
                  <a:xfrm>
                    <a:off x="6402240" y="3697200"/>
                    <a:ext cx="137880" cy="14760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1" name=""/>
                  <p:cNvSpPr/>
                  <p:nvPr/>
                </p:nvSpPr>
                <p:spPr>
                  <a:xfrm>
                    <a:off x="6449760" y="3749760"/>
                    <a:ext cx="42840" cy="41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52" name=""/>
              <p:cNvGrpSpPr/>
              <p:nvPr/>
            </p:nvGrpSpPr>
            <p:grpSpPr>
              <a:xfrm>
                <a:off x="5986440" y="4089240"/>
                <a:ext cx="971640" cy="147600"/>
                <a:chOff x="5986440" y="4089240"/>
                <a:chExt cx="971640" cy="147600"/>
              </a:xfrm>
            </p:grpSpPr>
            <p:sp>
              <p:nvSpPr>
                <p:cNvPr id="2753" name=""/>
                <p:cNvSpPr/>
                <p:nvPr/>
              </p:nvSpPr>
              <p:spPr>
                <a:xfrm>
                  <a:off x="6540480" y="4089240"/>
                  <a:ext cx="417600" cy="14760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Toulous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54" name=""/>
                <p:cNvGrpSpPr/>
                <p:nvPr/>
              </p:nvGrpSpPr>
              <p:grpSpPr>
                <a:xfrm>
                  <a:off x="5986440" y="4089240"/>
                  <a:ext cx="553680" cy="147600"/>
                  <a:chOff x="5986440" y="4089240"/>
                  <a:chExt cx="553680" cy="147600"/>
                </a:xfrm>
              </p:grpSpPr>
              <p:grpSp>
                <p:nvGrpSpPr>
                  <p:cNvPr id="2755" name=""/>
                  <p:cNvGrpSpPr/>
                  <p:nvPr/>
                </p:nvGrpSpPr>
                <p:grpSpPr>
                  <a:xfrm>
                    <a:off x="5986440" y="4089240"/>
                    <a:ext cx="137880" cy="147600"/>
                    <a:chOff x="5986440" y="4089240"/>
                    <a:chExt cx="137880" cy="147600"/>
                  </a:xfrm>
                </p:grpSpPr>
                <p:sp>
                  <p:nvSpPr>
                    <p:cNvPr id="2756" name=""/>
                    <p:cNvSpPr/>
                    <p:nvPr/>
                  </p:nvSpPr>
                  <p:spPr>
                    <a:xfrm>
                      <a:off x="5986440" y="408924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7" name=""/>
                    <p:cNvSpPr/>
                    <p:nvPr/>
                  </p:nvSpPr>
                  <p:spPr>
                    <a:xfrm>
                      <a:off x="6033960" y="414180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58" name=""/>
                  <p:cNvGrpSpPr/>
                  <p:nvPr/>
                </p:nvGrpSpPr>
                <p:grpSpPr>
                  <a:xfrm>
                    <a:off x="6124680" y="4089240"/>
                    <a:ext cx="137880" cy="147600"/>
                    <a:chOff x="6124680" y="4089240"/>
                    <a:chExt cx="137880" cy="147600"/>
                  </a:xfrm>
                </p:grpSpPr>
                <p:sp>
                  <p:nvSpPr>
                    <p:cNvPr id="2759" name=""/>
                    <p:cNvSpPr/>
                    <p:nvPr/>
                  </p:nvSpPr>
                  <p:spPr>
                    <a:xfrm>
                      <a:off x="6124680" y="408924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0" name=""/>
                    <p:cNvSpPr/>
                    <p:nvPr/>
                  </p:nvSpPr>
                  <p:spPr>
                    <a:xfrm>
                      <a:off x="6172200" y="414180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1" name=""/>
                  <p:cNvGrpSpPr/>
                  <p:nvPr/>
                </p:nvGrpSpPr>
                <p:grpSpPr>
                  <a:xfrm>
                    <a:off x="6262560" y="4089240"/>
                    <a:ext cx="137880" cy="147600"/>
                    <a:chOff x="6262560" y="4089240"/>
                    <a:chExt cx="137880" cy="147600"/>
                  </a:xfrm>
                </p:grpSpPr>
                <p:sp>
                  <p:nvSpPr>
                    <p:cNvPr id="2762" name=""/>
                    <p:cNvSpPr/>
                    <p:nvPr/>
                  </p:nvSpPr>
                  <p:spPr>
                    <a:xfrm>
                      <a:off x="6262560" y="408924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3" name=""/>
                    <p:cNvSpPr/>
                    <p:nvPr/>
                  </p:nvSpPr>
                  <p:spPr>
                    <a:xfrm>
                      <a:off x="6310080" y="414180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4" name=""/>
                  <p:cNvGrpSpPr/>
                  <p:nvPr/>
                </p:nvGrpSpPr>
                <p:grpSpPr>
                  <a:xfrm>
                    <a:off x="6402240" y="4089240"/>
                    <a:ext cx="137880" cy="147600"/>
                    <a:chOff x="6402240" y="4089240"/>
                    <a:chExt cx="137880" cy="147600"/>
                  </a:xfrm>
                </p:grpSpPr>
                <p:sp>
                  <p:nvSpPr>
                    <p:cNvPr id="2765" name=""/>
                    <p:cNvSpPr/>
                    <p:nvPr/>
                  </p:nvSpPr>
                  <p:spPr>
                    <a:xfrm>
                      <a:off x="6402240" y="408924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6" name=""/>
                    <p:cNvSpPr/>
                    <p:nvPr/>
                  </p:nvSpPr>
                  <p:spPr>
                    <a:xfrm>
                      <a:off x="6449760" y="414180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767" name=""/>
              <p:cNvGrpSpPr/>
              <p:nvPr/>
            </p:nvGrpSpPr>
            <p:grpSpPr>
              <a:xfrm>
                <a:off x="5987880" y="3892320"/>
                <a:ext cx="970200" cy="147600"/>
                <a:chOff x="5987880" y="3892320"/>
                <a:chExt cx="970200" cy="147600"/>
              </a:xfrm>
            </p:grpSpPr>
            <p:sp>
              <p:nvSpPr>
                <p:cNvPr id="2768" name=""/>
                <p:cNvSpPr/>
                <p:nvPr/>
              </p:nvSpPr>
              <p:spPr>
                <a:xfrm>
                  <a:off x="6540480" y="3892320"/>
                  <a:ext cx="417600" cy="14760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Poitiers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69" name=""/>
                <p:cNvGrpSpPr/>
                <p:nvPr/>
              </p:nvGrpSpPr>
              <p:grpSpPr>
                <a:xfrm>
                  <a:off x="5987880" y="3892320"/>
                  <a:ext cx="552240" cy="147600"/>
                  <a:chOff x="5987880" y="3892320"/>
                  <a:chExt cx="552240" cy="147600"/>
                </a:xfrm>
              </p:grpSpPr>
              <p:grpSp>
                <p:nvGrpSpPr>
                  <p:cNvPr id="2770" name=""/>
                  <p:cNvGrpSpPr/>
                  <p:nvPr/>
                </p:nvGrpSpPr>
                <p:grpSpPr>
                  <a:xfrm>
                    <a:off x="5987880" y="3892320"/>
                    <a:ext cx="137880" cy="147600"/>
                    <a:chOff x="5987880" y="3892320"/>
                    <a:chExt cx="137880" cy="147600"/>
                  </a:xfrm>
                </p:grpSpPr>
                <p:sp>
                  <p:nvSpPr>
                    <p:cNvPr id="2771" name=""/>
                    <p:cNvSpPr/>
                    <p:nvPr/>
                  </p:nvSpPr>
                  <p:spPr>
                    <a:xfrm>
                      <a:off x="5987880" y="389232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2" name=""/>
                    <p:cNvSpPr/>
                    <p:nvPr/>
                  </p:nvSpPr>
                  <p:spPr>
                    <a:xfrm>
                      <a:off x="6035400" y="394488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73" name=""/>
                  <p:cNvGrpSpPr/>
                  <p:nvPr/>
                </p:nvGrpSpPr>
                <p:grpSpPr>
                  <a:xfrm>
                    <a:off x="6127560" y="3892320"/>
                    <a:ext cx="137880" cy="147600"/>
                    <a:chOff x="6127560" y="3892320"/>
                    <a:chExt cx="137880" cy="147600"/>
                  </a:xfrm>
                </p:grpSpPr>
                <p:sp>
                  <p:nvSpPr>
                    <p:cNvPr id="2774" name=""/>
                    <p:cNvSpPr/>
                    <p:nvPr/>
                  </p:nvSpPr>
                  <p:spPr>
                    <a:xfrm>
                      <a:off x="6127560" y="389232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5" name=""/>
                    <p:cNvSpPr/>
                    <p:nvPr/>
                  </p:nvSpPr>
                  <p:spPr>
                    <a:xfrm>
                      <a:off x="6175080" y="394488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76" name=""/>
                  <p:cNvGrpSpPr/>
                  <p:nvPr/>
                </p:nvGrpSpPr>
                <p:grpSpPr>
                  <a:xfrm>
                    <a:off x="6264000" y="3892320"/>
                    <a:ext cx="137880" cy="147600"/>
                    <a:chOff x="6264000" y="3892320"/>
                    <a:chExt cx="137880" cy="147600"/>
                  </a:xfrm>
                </p:grpSpPr>
                <p:sp>
                  <p:nvSpPr>
                    <p:cNvPr id="2777" name=""/>
                    <p:cNvSpPr/>
                    <p:nvPr/>
                  </p:nvSpPr>
                  <p:spPr>
                    <a:xfrm>
                      <a:off x="6264000" y="389232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8" name=""/>
                    <p:cNvSpPr/>
                    <p:nvPr/>
                  </p:nvSpPr>
                  <p:spPr>
                    <a:xfrm>
                      <a:off x="6311520" y="394488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79" name=""/>
                  <p:cNvGrpSpPr/>
                  <p:nvPr/>
                </p:nvGrpSpPr>
                <p:grpSpPr>
                  <a:xfrm>
                    <a:off x="6402240" y="3892320"/>
                    <a:ext cx="137880" cy="147600"/>
                    <a:chOff x="6402240" y="3892320"/>
                    <a:chExt cx="137880" cy="147600"/>
                  </a:xfrm>
                </p:grpSpPr>
                <p:sp>
                  <p:nvSpPr>
                    <p:cNvPr id="2780" name=""/>
                    <p:cNvSpPr/>
                    <p:nvPr/>
                  </p:nvSpPr>
                  <p:spPr>
                    <a:xfrm>
                      <a:off x="6402240" y="389232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1" name=""/>
                    <p:cNvSpPr/>
                    <p:nvPr/>
                  </p:nvSpPr>
                  <p:spPr>
                    <a:xfrm>
                      <a:off x="6449760" y="394488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782" name=""/>
              <p:cNvGrpSpPr/>
              <p:nvPr/>
            </p:nvGrpSpPr>
            <p:grpSpPr>
              <a:xfrm>
                <a:off x="5986440" y="3501720"/>
                <a:ext cx="971640" cy="147600"/>
                <a:chOff x="5986440" y="3501720"/>
                <a:chExt cx="971640" cy="147600"/>
              </a:xfrm>
            </p:grpSpPr>
            <p:sp>
              <p:nvSpPr>
                <p:cNvPr id="2783" name=""/>
                <p:cNvSpPr/>
                <p:nvPr/>
              </p:nvSpPr>
              <p:spPr>
                <a:xfrm>
                  <a:off x="6540480" y="3501720"/>
                  <a:ext cx="417600" cy="14760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Namu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84" name=""/>
                <p:cNvGrpSpPr/>
                <p:nvPr/>
              </p:nvGrpSpPr>
              <p:grpSpPr>
                <a:xfrm>
                  <a:off x="5986440" y="3501720"/>
                  <a:ext cx="553680" cy="147600"/>
                  <a:chOff x="5986440" y="3501720"/>
                  <a:chExt cx="553680" cy="147600"/>
                </a:xfrm>
              </p:grpSpPr>
              <p:grpSp>
                <p:nvGrpSpPr>
                  <p:cNvPr id="2785" name=""/>
                  <p:cNvGrpSpPr/>
                  <p:nvPr/>
                </p:nvGrpSpPr>
                <p:grpSpPr>
                  <a:xfrm>
                    <a:off x="5986440" y="3501720"/>
                    <a:ext cx="137880" cy="147600"/>
                    <a:chOff x="5986440" y="3501720"/>
                    <a:chExt cx="137880" cy="147600"/>
                  </a:xfrm>
                </p:grpSpPr>
                <p:sp>
                  <p:nvSpPr>
                    <p:cNvPr id="2786" name=""/>
                    <p:cNvSpPr/>
                    <p:nvPr/>
                  </p:nvSpPr>
                  <p:spPr>
                    <a:xfrm>
                      <a:off x="5986440" y="350172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7" name=""/>
                    <p:cNvSpPr/>
                    <p:nvPr/>
                  </p:nvSpPr>
                  <p:spPr>
                    <a:xfrm>
                      <a:off x="6033960" y="355428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88" name=""/>
                  <p:cNvGrpSpPr/>
                  <p:nvPr/>
                </p:nvGrpSpPr>
                <p:grpSpPr>
                  <a:xfrm>
                    <a:off x="6124680" y="3501720"/>
                    <a:ext cx="137880" cy="147600"/>
                    <a:chOff x="6124680" y="3501720"/>
                    <a:chExt cx="137880" cy="147600"/>
                  </a:xfrm>
                </p:grpSpPr>
                <p:sp>
                  <p:nvSpPr>
                    <p:cNvPr id="2789" name=""/>
                    <p:cNvSpPr/>
                    <p:nvPr/>
                  </p:nvSpPr>
                  <p:spPr>
                    <a:xfrm>
                      <a:off x="6124680" y="350172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0" name=""/>
                    <p:cNvSpPr/>
                    <p:nvPr/>
                  </p:nvSpPr>
                  <p:spPr>
                    <a:xfrm>
                      <a:off x="6172200" y="355428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91" name=""/>
                  <p:cNvGrpSpPr/>
                  <p:nvPr/>
                </p:nvGrpSpPr>
                <p:grpSpPr>
                  <a:xfrm>
                    <a:off x="6262560" y="3501720"/>
                    <a:ext cx="137880" cy="147600"/>
                    <a:chOff x="6262560" y="3501720"/>
                    <a:chExt cx="137880" cy="147600"/>
                  </a:xfrm>
                </p:grpSpPr>
                <p:sp>
                  <p:nvSpPr>
                    <p:cNvPr id="2792" name=""/>
                    <p:cNvSpPr/>
                    <p:nvPr/>
                  </p:nvSpPr>
                  <p:spPr>
                    <a:xfrm>
                      <a:off x="6262560" y="350172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3" name=""/>
                    <p:cNvSpPr/>
                    <p:nvPr/>
                  </p:nvSpPr>
                  <p:spPr>
                    <a:xfrm>
                      <a:off x="6310080" y="355428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94" name=""/>
                  <p:cNvGrpSpPr/>
                  <p:nvPr/>
                </p:nvGrpSpPr>
                <p:grpSpPr>
                  <a:xfrm>
                    <a:off x="6402240" y="3501720"/>
                    <a:ext cx="137880" cy="147600"/>
                    <a:chOff x="6402240" y="3501720"/>
                    <a:chExt cx="137880" cy="147600"/>
                  </a:xfrm>
                </p:grpSpPr>
                <p:sp>
                  <p:nvSpPr>
                    <p:cNvPr id="2795" name=""/>
                    <p:cNvSpPr/>
                    <p:nvPr/>
                  </p:nvSpPr>
                  <p:spPr>
                    <a:xfrm>
                      <a:off x="6402240" y="350172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6" name=""/>
                    <p:cNvSpPr/>
                    <p:nvPr/>
                  </p:nvSpPr>
                  <p:spPr>
                    <a:xfrm>
                      <a:off x="6449760" y="355428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2797" name=""/>
            <p:cNvGrpSpPr/>
            <p:nvPr/>
          </p:nvGrpSpPr>
          <p:grpSpPr>
            <a:xfrm>
              <a:off x="1785960" y="1954080"/>
              <a:ext cx="1334880" cy="3429000"/>
              <a:chOff x="1785960" y="1954080"/>
              <a:chExt cx="1334880" cy="3429000"/>
            </a:xfrm>
          </p:grpSpPr>
          <p:sp>
            <p:nvSpPr>
              <p:cNvPr id="2798" name=""/>
              <p:cNvSpPr/>
              <p:nvPr/>
            </p:nvSpPr>
            <p:spPr>
              <a:xfrm>
                <a:off x="1785960" y="2233440"/>
                <a:ext cx="1334880" cy="314964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1785960" y="1954080"/>
                <a:ext cx="1334880" cy="29196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0" name=""/>
            <p:cNvSpPr/>
            <p:nvPr/>
          </p:nvSpPr>
          <p:spPr>
            <a:xfrm>
              <a:off x="2000880" y="1994040"/>
              <a:ext cx="855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900" spc="-1" strike="noStrike">
                  <a:solidFill>
                    <a:srgbClr val="000000"/>
                  </a:solidFill>
                  <a:latin typeface="Arial"/>
                </a:rPr>
                <a:t>Index (NCLI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1" name=""/>
            <p:cNvGrpSpPr/>
            <p:nvPr/>
          </p:nvGrpSpPr>
          <p:grpSpPr>
            <a:xfrm>
              <a:off x="3695760" y="1954080"/>
              <a:ext cx="1933560" cy="3429000"/>
              <a:chOff x="3695760" y="1954080"/>
              <a:chExt cx="1933560" cy="3429000"/>
            </a:xfrm>
          </p:grpSpPr>
          <p:grpSp>
            <p:nvGrpSpPr>
              <p:cNvPr id="2802" name=""/>
              <p:cNvGrpSpPr/>
              <p:nvPr/>
            </p:nvGrpSpPr>
            <p:grpSpPr>
              <a:xfrm>
                <a:off x="3695760" y="1954080"/>
                <a:ext cx="1933560" cy="3429000"/>
                <a:chOff x="3695760" y="1954080"/>
                <a:chExt cx="1933560" cy="3429000"/>
              </a:xfrm>
            </p:grpSpPr>
            <p:sp>
              <p:nvSpPr>
                <p:cNvPr id="2803" name=""/>
                <p:cNvSpPr/>
                <p:nvPr/>
              </p:nvSpPr>
              <p:spPr>
                <a:xfrm>
                  <a:off x="3695760" y="2233440"/>
                  <a:ext cx="1933560" cy="314964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4" name=""/>
                <p:cNvSpPr/>
                <p:nvPr/>
              </p:nvSpPr>
              <p:spPr>
                <a:xfrm>
                  <a:off x="3695760" y="1954080"/>
                  <a:ext cx="1933560" cy="29232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5" name=""/>
                <p:cNvSpPr/>
                <p:nvPr/>
              </p:nvSpPr>
              <p:spPr>
                <a:xfrm>
                  <a:off x="4158000" y="1981080"/>
                  <a:ext cx="1101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000" spc="-1" strike="noStrike">
                      <a:solidFill>
                        <a:srgbClr val="000000"/>
                      </a:solidFill>
                      <a:latin typeface="Arial"/>
                    </a:rPr>
                    <a:t>Fichier de bas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6" name=""/>
              <p:cNvGrpSpPr/>
              <p:nvPr/>
            </p:nvGrpSpPr>
            <p:grpSpPr>
              <a:xfrm>
                <a:off x="3857760" y="2304720"/>
                <a:ext cx="1639800" cy="3014640"/>
                <a:chOff x="3857760" y="2304720"/>
                <a:chExt cx="1639800" cy="3014640"/>
              </a:xfrm>
            </p:grpSpPr>
            <p:sp>
              <p:nvSpPr>
                <p:cNvPr id="2807" name=""/>
                <p:cNvSpPr/>
                <p:nvPr/>
              </p:nvSpPr>
              <p:spPr>
                <a:xfrm>
                  <a:off x="3857760" y="2304720"/>
                  <a:ext cx="1639800" cy="3014640"/>
                </a:xfrm>
                <a:prstGeom prst="rect">
                  <a:avLst/>
                </a:prstGeom>
                <a:solidFill>
                  <a:srgbClr val="f0f0f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08" name=""/>
                <p:cNvGrpSpPr/>
                <p:nvPr/>
              </p:nvGrpSpPr>
              <p:grpSpPr>
                <a:xfrm>
                  <a:off x="3886200" y="2714400"/>
                  <a:ext cx="1573920" cy="142920"/>
                  <a:chOff x="3886200" y="2714400"/>
                  <a:chExt cx="1573920" cy="142920"/>
                </a:xfrm>
              </p:grpSpPr>
              <p:sp>
                <p:nvSpPr>
                  <p:cNvPr id="2809" name=""/>
                  <p:cNvSpPr/>
                  <p:nvPr/>
                </p:nvSpPr>
                <p:spPr>
                  <a:xfrm>
                    <a:off x="3886200" y="2714400"/>
                    <a:ext cx="27576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B062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0" name=""/>
                  <p:cNvSpPr/>
                  <p:nvPr/>
                </p:nvSpPr>
                <p:spPr>
                  <a:xfrm>
                    <a:off x="4608000" y="2714400"/>
                    <a:ext cx="1378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1" name=""/>
                  <p:cNvSpPr/>
                  <p:nvPr/>
                </p:nvSpPr>
                <p:spPr>
                  <a:xfrm>
                    <a:off x="4746240" y="2714400"/>
                    <a:ext cx="4172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Namur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2" name=""/>
                  <p:cNvSpPr/>
                  <p:nvPr/>
                </p:nvSpPr>
                <p:spPr>
                  <a:xfrm>
                    <a:off x="4161960" y="2714400"/>
                    <a:ext cx="4456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Goffin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3" name=""/>
                  <p:cNvSpPr/>
                  <p:nvPr/>
                </p:nvSpPr>
                <p:spPr>
                  <a:xfrm>
                    <a:off x="5163840" y="2714400"/>
                    <a:ext cx="15840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B2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4" name=""/>
                  <p:cNvSpPr/>
                  <p:nvPr/>
                </p:nvSpPr>
                <p:spPr>
                  <a:xfrm>
                    <a:off x="5322600" y="2714400"/>
                    <a:ext cx="13752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15" name=""/>
                <p:cNvGrpSpPr/>
                <p:nvPr/>
              </p:nvGrpSpPr>
              <p:grpSpPr>
                <a:xfrm>
                  <a:off x="3886200" y="3833640"/>
                  <a:ext cx="1573920" cy="142920"/>
                  <a:chOff x="3886200" y="3833640"/>
                  <a:chExt cx="1573920" cy="142920"/>
                </a:xfrm>
              </p:grpSpPr>
              <p:sp>
                <p:nvSpPr>
                  <p:cNvPr id="2816" name=""/>
                  <p:cNvSpPr/>
                  <p:nvPr/>
                </p:nvSpPr>
                <p:spPr>
                  <a:xfrm>
                    <a:off x="3886200" y="3833640"/>
                    <a:ext cx="27576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S712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7" name=""/>
                  <p:cNvSpPr/>
                  <p:nvPr/>
                </p:nvSpPr>
                <p:spPr>
                  <a:xfrm>
                    <a:off x="4608000" y="3833640"/>
                    <a:ext cx="1378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8" name=""/>
                  <p:cNvSpPr/>
                  <p:nvPr/>
                </p:nvSpPr>
                <p:spPr>
                  <a:xfrm>
                    <a:off x="4746240" y="3833640"/>
                    <a:ext cx="4172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Paris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9" name=""/>
                  <p:cNvSpPr/>
                  <p:nvPr/>
                </p:nvSpPr>
                <p:spPr>
                  <a:xfrm>
                    <a:off x="4161960" y="3833640"/>
                    <a:ext cx="4456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Guillaume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0" name=""/>
                  <p:cNvSpPr/>
                  <p:nvPr/>
                </p:nvSpPr>
                <p:spPr>
                  <a:xfrm>
                    <a:off x="5163840" y="3833640"/>
                    <a:ext cx="15840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B1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1" name=""/>
                  <p:cNvSpPr/>
                  <p:nvPr/>
                </p:nvSpPr>
                <p:spPr>
                  <a:xfrm>
                    <a:off x="5322600" y="3833640"/>
                    <a:ext cx="13752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22" name=""/>
                <p:cNvGrpSpPr/>
                <p:nvPr/>
              </p:nvGrpSpPr>
              <p:grpSpPr>
                <a:xfrm>
                  <a:off x="3886200" y="3646080"/>
                  <a:ext cx="1573920" cy="142920"/>
                  <a:chOff x="3886200" y="3646080"/>
                  <a:chExt cx="1573920" cy="142920"/>
                </a:xfrm>
              </p:grpSpPr>
              <p:sp>
                <p:nvSpPr>
                  <p:cNvPr id="2823" name=""/>
                  <p:cNvSpPr/>
                  <p:nvPr/>
                </p:nvSpPr>
                <p:spPr>
                  <a:xfrm>
                    <a:off x="3886200" y="3646080"/>
                    <a:ext cx="27576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B112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4" name=""/>
                  <p:cNvSpPr/>
                  <p:nvPr/>
                </p:nvSpPr>
                <p:spPr>
                  <a:xfrm>
                    <a:off x="4608000" y="3646080"/>
                    <a:ext cx="1378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5" name=""/>
                  <p:cNvSpPr/>
                  <p:nvPr/>
                </p:nvSpPr>
                <p:spPr>
                  <a:xfrm>
                    <a:off x="4746240" y="3646080"/>
                    <a:ext cx="4172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Poitiers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6" name=""/>
                  <p:cNvSpPr/>
                  <p:nvPr/>
                </p:nvSpPr>
                <p:spPr>
                  <a:xfrm>
                    <a:off x="4161960" y="3646080"/>
                    <a:ext cx="4456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Hansenne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7" name=""/>
                  <p:cNvSpPr/>
                  <p:nvPr/>
                </p:nvSpPr>
                <p:spPr>
                  <a:xfrm>
                    <a:off x="5163840" y="3646080"/>
                    <a:ext cx="15840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C1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8" name=""/>
                  <p:cNvSpPr/>
                  <p:nvPr/>
                </p:nvSpPr>
                <p:spPr>
                  <a:xfrm>
                    <a:off x="5322600" y="3646080"/>
                    <a:ext cx="13752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29" name=""/>
                <p:cNvGrpSpPr/>
                <p:nvPr/>
              </p:nvGrpSpPr>
              <p:grpSpPr>
                <a:xfrm>
                  <a:off x="3886200" y="2527200"/>
                  <a:ext cx="1573920" cy="142920"/>
                  <a:chOff x="3886200" y="2527200"/>
                  <a:chExt cx="1573920" cy="142920"/>
                </a:xfrm>
              </p:grpSpPr>
              <p:sp>
                <p:nvSpPr>
                  <p:cNvPr id="2830" name=""/>
                  <p:cNvSpPr/>
                  <p:nvPr/>
                </p:nvSpPr>
                <p:spPr>
                  <a:xfrm>
                    <a:off x="3886200" y="2527200"/>
                    <a:ext cx="27576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B332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1" name=""/>
                  <p:cNvSpPr/>
                  <p:nvPr/>
                </p:nvSpPr>
                <p:spPr>
                  <a:xfrm>
                    <a:off x="4608000" y="2527200"/>
                    <a:ext cx="1378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2" name=""/>
                  <p:cNvSpPr/>
                  <p:nvPr/>
                </p:nvSpPr>
                <p:spPr>
                  <a:xfrm>
                    <a:off x="4746240" y="2527200"/>
                    <a:ext cx="4172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Genève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3" name=""/>
                  <p:cNvSpPr/>
                  <p:nvPr/>
                </p:nvSpPr>
                <p:spPr>
                  <a:xfrm>
                    <a:off x="4161960" y="2527200"/>
                    <a:ext cx="4456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Monti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4" name=""/>
                  <p:cNvSpPr/>
                  <p:nvPr/>
                </p:nvSpPr>
                <p:spPr>
                  <a:xfrm>
                    <a:off x="5163840" y="2527200"/>
                    <a:ext cx="15840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B2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5" name=""/>
                  <p:cNvSpPr/>
                  <p:nvPr/>
                </p:nvSpPr>
                <p:spPr>
                  <a:xfrm>
                    <a:off x="5322600" y="2527200"/>
                    <a:ext cx="13752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36" name=""/>
                <p:cNvGrpSpPr/>
                <p:nvPr/>
              </p:nvGrpSpPr>
              <p:grpSpPr>
                <a:xfrm>
                  <a:off x="3886200" y="5140080"/>
                  <a:ext cx="1573920" cy="142920"/>
                  <a:chOff x="3886200" y="5140080"/>
                  <a:chExt cx="1573920" cy="142920"/>
                </a:xfrm>
              </p:grpSpPr>
              <p:sp>
                <p:nvSpPr>
                  <p:cNvPr id="2837" name=""/>
                  <p:cNvSpPr/>
                  <p:nvPr/>
                </p:nvSpPr>
                <p:spPr>
                  <a:xfrm>
                    <a:off x="3886200" y="5140080"/>
                    <a:ext cx="27576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B512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8" name=""/>
                  <p:cNvSpPr/>
                  <p:nvPr/>
                </p:nvSpPr>
                <p:spPr>
                  <a:xfrm>
                    <a:off x="4608000" y="5140080"/>
                    <a:ext cx="1378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9" name=""/>
                  <p:cNvSpPr/>
                  <p:nvPr/>
                </p:nvSpPr>
                <p:spPr>
                  <a:xfrm>
                    <a:off x="4746240" y="5140080"/>
                    <a:ext cx="4172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Toulouse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0" name=""/>
                  <p:cNvSpPr/>
                  <p:nvPr/>
                </p:nvSpPr>
                <p:spPr>
                  <a:xfrm>
                    <a:off x="4161960" y="5140080"/>
                    <a:ext cx="4456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Gillet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1" name=""/>
                  <p:cNvSpPr/>
                  <p:nvPr/>
                </p:nvSpPr>
                <p:spPr>
                  <a:xfrm>
                    <a:off x="5163840" y="5140080"/>
                    <a:ext cx="15840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B1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2" name=""/>
                  <p:cNvSpPr/>
                  <p:nvPr/>
                </p:nvSpPr>
                <p:spPr>
                  <a:xfrm>
                    <a:off x="5322600" y="5140080"/>
                    <a:ext cx="13752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43" name=""/>
                <p:cNvGrpSpPr/>
                <p:nvPr/>
              </p:nvGrpSpPr>
              <p:grpSpPr>
                <a:xfrm>
                  <a:off x="3886200" y="4952880"/>
                  <a:ext cx="1573920" cy="142920"/>
                  <a:chOff x="3886200" y="4952880"/>
                  <a:chExt cx="1573920" cy="142920"/>
                </a:xfrm>
              </p:grpSpPr>
              <p:sp>
                <p:nvSpPr>
                  <p:cNvPr id="2844" name=""/>
                  <p:cNvSpPr/>
                  <p:nvPr/>
                </p:nvSpPr>
                <p:spPr>
                  <a:xfrm>
                    <a:off x="3886200" y="4952880"/>
                    <a:ext cx="27576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C003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5" name=""/>
                  <p:cNvSpPr/>
                  <p:nvPr/>
                </p:nvSpPr>
                <p:spPr>
                  <a:xfrm>
                    <a:off x="4608000" y="4952880"/>
                    <a:ext cx="1378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6" name=""/>
                  <p:cNvSpPr/>
                  <p:nvPr/>
                </p:nvSpPr>
                <p:spPr>
                  <a:xfrm>
                    <a:off x="4746240" y="4952880"/>
                    <a:ext cx="4172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Toulouse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7" name=""/>
                  <p:cNvSpPr/>
                  <p:nvPr/>
                </p:nvSpPr>
                <p:spPr>
                  <a:xfrm>
                    <a:off x="4161960" y="4952880"/>
                    <a:ext cx="4456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Avron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8" name=""/>
                  <p:cNvSpPr/>
                  <p:nvPr/>
                </p:nvSpPr>
                <p:spPr>
                  <a:xfrm>
                    <a:off x="5163840" y="4952880"/>
                    <a:ext cx="15840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B1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9" name=""/>
                  <p:cNvSpPr/>
                  <p:nvPr/>
                </p:nvSpPr>
                <p:spPr>
                  <a:xfrm>
                    <a:off x="5322600" y="4952880"/>
                    <a:ext cx="13752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0" name=""/>
                <p:cNvGrpSpPr/>
                <p:nvPr/>
              </p:nvGrpSpPr>
              <p:grpSpPr>
                <a:xfrm>
                  <a:off x="3886200" y="3087360"/>
                  <a:ext cx="1573920" cy="142920"/>
                  <a:chOff x="3886200" y="3087360"/>
                  <a:chExt cx="1573920" cy="142920"/>
                </a:xfrm>
              </p:grpSpPr>
              <p:sp>
                <p:nvSpPr>
                  <p:cNvPr id="2851" name=""/>
                  <p:cNvSpPr/>
                  <p:nvPr/>
                </p:nvSpPr>
                <p:spPr>
                  <a:xfrm>
                    <a:off x="3886200" y="3087360"/>
                    <a:ext cx="27576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C123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2" name=""/>
                  <p:cNvSpPr/>
                  <p:nvPr/>
                </p:nvSpPr>
                <p:spPr>
                  <a:xfrm>
                    <a:off x="4608000" y="3087360"/>
                    <a:ext cx="1378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3" name=""/>
                  <p:cNvSpPr/>
                  <p:nvPr/>
                </p:nvSpPr>
                <p:spPr>
                  <a:xfrm>
                    <a:off x="4746240" y="3087360"/>
                    <a:ext cx="4172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Namur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4" name=""/>
                  <p:cNvSpPr/>
                  <p:nvPr/>
                </p:nvSpPr>
                <p:spPr>
                  <a:xfrm>
                    <a:off x="4161960" y="3087360"/>
                    <a:ext cx="4456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Mercier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5" name=""/>
                  <p:cNvSpPr/>
                  <p:nvPr/>
                </p:nvSpPr>
                <p:spPr>
                  <a:xfrm>
                    <a:off x="5163840" y="3087360"/>
                    <a:ext cx="15840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C1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6" name=""/>
                  <p:cNvSpPr/>
                  <p:nvPr/>
                </p:nvSpPr>
                <p:spPr>
                  <a:xfrm>
                    <a:off x="5322600" y="3087360"/>
                    <a:ext cx="13752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7" name=""/>
                <p:cNvGrpSpPr/>
                <p:nvPr/>
              </p:nvGrpSpPr>
              <p:grpSpPr>
                <a:xfrm>
                  <a:off x="3886200" y="4579560"/>
                  <a:ext cx="1573920" cy="142920"/>
                  <a:chOff x="3886200" y="4579560"/>
                  <a:chExt cx="1573920" cy="142920"/>
                </a:xfrm>
              </p:grpSpPr>
              <p:sp>
                <p:nvSpPr>
                  <p:cNvPr id="2858" name=""/>
                  <p:cNvSpPr/>
                  <p:nvPr/>
                </p:nvSpPr>
                <p:spPr>
                  <a:xfrm>
                    <a:off x="3886200" y="4579560"/>
                    <a:ext cx="27576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C400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9" name=""/>
                  <p:cNvSpPr/>
                  <p:nvPr/>
                </p:nvSpPr>
                <p:spPr>
                  <a:xfrm>
                    <a:off x="4608000" y="4579560"/>
                    <a:ext cx="1378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0" name=""/>
                  <p:cNvSpPr/>
                  <p:nvPr/>
                </p:nvSpPr>
                <p:spPr>
                  <a:xfrm>
                    <a:off x="4746240" y="4579560"/>
                    <a:ext cx="4172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Poitiers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1" name=""/>
                  <p:cNvSpPr/>
                  <p:nvPr/>
                </p:nvSpPr>
                <p:spPr>
                  <a:xfrm>
                    <a:off x="4161960" y="4579560"/>
                    <a:ext cx="4456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Férard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2" name=""/>
                  <p:cNvSpPr/>
                  <p:nvPr/>
                </p:nvSpPr>
                <p:spPr>
                  <a:xfrm>
                    <a:off x="5163840" y="4579560"/>
                    <a:ext cx="15840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B2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3" name=""/>
                  <p:cNvSpPr/>
                  <p:nvPr/>
                </p:nvSpPr>
                <p:spPr>
                  <a:xfrm>
                    <a:off x="5322600" y="4579560"/>
                    <a:ext cx="13752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64" name=""/>
                <p:cNvGrpSpPr/>
                <p:nvPr/>
              </p:nvGrpSpPr>
              <p:grpSpPr>
                <a:xfrm>
                  <a:off x="3886200" y="4765320"/>
                  <a:ext cx="1573920" cy="142920"/>
                  <a:chOff x="3886200" y="4765320"/>
                  <a:chExt cx="1573920" cy="142920"/>
                </a:xfrm>
              </p:grpSpPr>
              <p:sp>
                <p:nvSpPr>
                  <p:cNvPr id="2865" name=""/>
                  <p:cNvSpPr/>
                  <p:nvPr/>
                </p:nvSpPr>
                <p:spPr>
                  <a:xfrm>
                    <a:off x="3886200" y="4765320"/>
                    <a:ext cx="27576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D063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6" name=""/>
                  <p:cNvSpPr/>
                  <p:nvPr/>
                </p:nvSpPr>
                <p:spPr>
                  <a:xfrm>
                    <a:off x="4608000" y="4765320"/>
                    <a:ext cx="1378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7" name=""/>
                  <p:cNvSpPr/>
                  <p:nvPr/>
                </p:nvSpPr>
                <p:spPr>
                  <a:xfrm>
                    <a:off x="4746240" y="4765320"/>
                    <a:ext cx="4172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Toulouse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8" name=""/>
                  <p:cNvSpPr/>
                  <p:nvPr/>
                </p:nvSpPr>
                <p:spPr>
                  <a:xfrm>
                    <a:off x="4161960" y="4765320"/>
                    <a:ext cx="4456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Mercier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9" name=""/>
                  <p:cNvSpPr/>
                  <p:nvPr/>
                </p:nvSpPr>
                <p:spPr>
                  <a:xfrm>
                    <a:off x="5163840" y="4765320"/>
                    <a:ext cx="15840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A1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0" name=""/>
                  <p:cNvSpPr/>
                  <p:nvPr/>
                </p:nvSpPr>
                <p:spPr>
                  <a:xfrm>
                    <a:off x="5322600" y="4765320"/>
                    <a:ext cx="13752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71" name=""/>
                <p:cNvGrpSpPr/>
                <p:nvPr/>
              </p:nvGrpSpPr>
              <p:grpSpPr>
                <a:xfrm>
                  <a:off x="3886200" y="4206600"/>
                  <a:ext cx="1573920" cy="142920"/>
                  <a:chOff x="3886200" y="4206600"/>
                  <a:chExt cx="1573920" cy="142920"/>
                </a:xfrm>
              </p:grpSpPr>
              <p:sp>
                <p:nvSpPr>
                  <p:cNvPr id="2872" name=""/>
                  <p:cNvSpPr/>
                  <p:nvPr/>
                </p:nvSpPr>
                <p:spPr>
                  <a:xfrm>
                    <a:off x="3886200" y="4206600"/>
                    <a:ext cx="27576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F010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3" name=""/>
                  <p:cNvSpPr/>
                  <p:nvPr/>
                </p:nvSpPr>
                <p:spPr>
                  <a:xfrm>
                    <a:off x="4608000" y="4206600"/>
                    <a:ext cx="1378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4" name=""/>
                  <p:cNvSpPr/>
                  <p:nvPr/>
                </p:nvSpPr>
                <p:spPr>
                  <a:xfrm>
                    <a:off x="4746240" y="4206600"/>
                    <a:ext cx="4172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Poitiers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5" name=""/>
                  <p:cNvSpPr/>
                  <p:nvPr/>
                </p:nvSpPr>
                <p:spPr>
                  <a:xfrm>
                    <a:off x="4161960" y="4206600"/>
                    <a:ext cx="4456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Toussaint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6" name=""/>
                  <p:cNvSpPr/>
                  <p:nvPr/>
                </p:nvSpPr>
                <p:spPr>
                  <a:xfrm>
                    <a:off x="5163840" y="4206600"/>
                    <a:ext cx="15840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C1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7" name=""/>
                  <p:cNvSpPr/>
                  <p:nvPr/>
                </p:nvSpPr>
                <p:spPr>
                  <a:xfrm>
                    <a:off x="5322600" y="4206600"/>
                    <a:ext cx="13752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78" name=""/>
                <p:cNvGrpSpPr/>
                <p:nvPr/>
              </p:nvGrpSpPr>
              <p:grpSpPr>
                <a:xfrm>
                  <a:off x="3886200" y="4019400"/>
                  <a:ext cx="1573920" cy="142920"/>
                  <a:chOff x="3886200" y="4019400"/>
                  <a:chExt cx="1573920" cy="142920"/>
                </a:xfrm>
              </p:grpSpPr>
              <p:sp>
                <p:nvSpPr>
                  <p:cNvPr id="2879" name=""/>
                  <p:cNvSpPr/>
                  <p:nvPr/>
                </p:nvSpPr>
                <p:spPr>
                  <a:xfrm>
                    <a:off x="3886200" y="4019400"/>
                    <a:ext cx="27576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F011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0" name=""/>
                  <p:cNvSpPr/>
                  <p:nvPr/>
                </p:nvSpPr>
                <p:spPr>
                  <a:xfrm>
                    <a:off x="4608000" y="4019400"/>
                    <a:ext cx="1378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1" name=""/>
                  <p:cNvSpPr/>
                  <p:nvPr/>
                </p:nvSpPr>
                <p:spPr>
                  <a:xfrm>
                    <a:off x="4746240" y="4019400"/>
                    <a:ext cx="4172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Poitiers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2" name=""/>
                  <p:cNvSpPr/>
                  <p:nvPr/>
                </p:nvSpPr>
                <p:spPr>
                  <a:xfrm>
                    <a:off x="4161960" y="4019400"/>
                    <a:ext cx="4456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Poncelet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3" name=""/>
                  <p:cNvSpPr/>
                  <p:nvPr/>
                </p:nvSpPr>
                <p:spPr>
                  <a:xfrm>
                    <a:off x="5163840" y="4019400"/>
                    <a:ext cx="15840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B2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4" name=""/>
                  <p:cNvSpPr/>
                  <p:nvPr/>
                </p:nvSpPr>
                <p:spPr>
                  <a:xfrm>
                    <a:off x="5322600" y="4019400"/>
                    <a:ext cx="13752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85" name=""/>
                <p:cNvGrpSpPr/>
                <p:nvPr/>
              </p:nvGrpSpPr>
              <p:grpSpPr>
                <a:xfrm>
                  <a:off x="3886200" y="2341440"/>
                  <a:ext cx="1573920" cy="142920"/>
                  <a:chOff x="3886200" y="2341440"/>
                  <a:chExt cx="1573920" cy="142920"/>
                </a:xfrm>
              </p:grpSpPr>
              <p:sp>
                <p:nvSpPr>
                  <p:cNvPr id="2886" name=""/>
                  <p:cNvSpPr/>
                  <p:nvPr/>
                </p:nvSpPr>
                <p:spPr>
                  <a:xfrm>
                    <a:off x="3886200" y="2341440"/>
                    <a:ext cx="27576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F400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7" name=""/>
                  <p:cNvSpPr/>
                  <p:nvPr/>
                </p:nvSpPr>
                <p:spPr>
                  <a:xfrm>
                    <a:off x="4608000" y="2341440"/>
                    <a:ext cx="1378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8" name=""/>
                  <p:cNvSpPr/>
                  <p:nvPr/>
                </p:nvSpPr>
                <p:spPr>
                  <a:xfrm>
                    <a:off x="4746240" y="2341440"/>
                    <a:ext cx="4172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Bruxelles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9" name=""/>
                  <p:cNvSpPr/>
                  <p:nvPr/>
                </p:nvSpPr>
                <p:spPr>
                  <a:xfrm>
                    <a:off x="4161960" y="2341440"/>
                    <a:ext cx="4456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Jacob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0" name=""/>
                  <p:cNvSpPr/>
                  <p:nvPr/>
                </p:nvSpPr>
                <p:spPr>
                  <a:xfrm>
                    <a:off x="5163840" y="2341440"/>
                    <a:ext cx="15840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C2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1" name=""/>
                  <p:cNvSpPr/>
                  <p:nvPr/>
                </p:nvSpPr>
                <p:spPr>
                  <a:xfrm>
                    <a:off x="5322600" y="2341440"/>
                    <a:ext cx="13752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92" name=""/>
                <p:cNvGrpSpPr/>
                <p:nvPr/>
              </p:nvGrpSpPr>
              <p:grpSpPr>
                <a:xfrm>
                  <a:off x="3886200" y="2900160"/>
                  <a:ext cx="1573920" cy="142920"/>
                  <a:chOff x="3886200" y="2900160"/>
                  <a:chExt cx="1573920" cy="142920"/>
                </a:xfrm>
              </p:grpSpPr>
              <p:sp>
                <p:nvSpPr>
                  <p:cNvPr id="2893" name=""/>
                  <p:cNvSpPr/>
                  <p:nvPr/>
                </p:nvSpPr>
                <p:spPr>
                  <a:xfrm>
                    <a:off x="3886200" y="2900160"/>
                    <a:ext cx="27576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K111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4" name=""/>
                  <p:cNvSpPr/>
                  <p:nvPr/>
                </p:nvSpPr>
                <p:spPr>
                  <a:xfrm>
                    <a:off x="4608000" y="2900160"/>
                    <a:ext cx="1378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5" name=""/>
                  <p:cNvSpPr/>
                  <p:nvPr/>
                </p:nvSpPr>
                <p:spPr>
                  <a:xfrm>
                    <a:off x="4746240" y="2900160"/>
                    <a:ext cx="4172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Lille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6" name=""/>
                  <p:cNvSpPr/>
                  <p:nvPr/>
                </p:nvSpPr>
                <p:spPr>
                  <a:xfrm>
                    <a:off x="4161960" y="2900160"/>
                    <a:ext cx="4456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Vanbist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7" name=""/>
                  <p:cNvSpPr/>
                  <p:nvPr/>
                </p:nvSpPr>
                <p:spPr>
                  <a:xfrm>
                    <a:off x="5163840" y="2900160"/>
                    <a:ext cx="15840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B1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8" name=""/>
                  <p:cNvSpPr/>
                  <p:nvPr/>
                </p:nvSpPr>
                <p:spPr>
                  <a:xfrm>
                    <a:off x="5322600" y="2900160"/>
                    <a:ext cx="13752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99" name=""/>
                <p:cNvGrpSpPr/>
                <p:nvPr/>
              </p:nvGrpSpPr>
              <p:grpSpPr>
                <a:xfrm>
                  <a:off x="3886200" y="4392360"/>
                  <a:ext cx="1573920" cy="142920"/>
                  <a:chOff x="3886200" y="4392360"/>
                  <a:chExt cx="1573920" cy="142920"/>
                </a:xfrm>
              </p:grpSpPr>
              <p:sp>
                <p:nvSpPr>
                  <p:cNvPr id="2900" name=""/>
                  <p:cNvSpPr/>
                  <p:nvPr/>
                </p:nvSpPr>
                <p:spPr>
                  <a:xfrm>
                    <a:off x="3886200" y="4392360"/>
                    <a:ext cx="27576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K729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1" name=""/>
                  <p:cNvSpPr/>
                  <p:nvPr/>
                </p:nvSpPr>
                <p:spPr>
                  <a:xfrm>
                    <a:off x="4608000" y="4392360"/>
                    <a:ext cx="1378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2" name=""/>
                  <p:cNvSpPr/>
                  <p:nvPr/>
                </p:nvSpPr>
                <p:spPr>
                  <a:xfrm>
                    <a:off x="4746240" y="4392360"/>
                    <a:ext cx="4172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Toulouse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3" name=""/>
                  <p:cNvSpPr/>
                  <p:nvPr/>
                </p:nvSpPr>
                <p:spPr>
                  <a:xfrm>
                    <a:off x="4161960" y="4392360"/>
                    <a:ext cx="4456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Neuman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4" name=""/>
                  <p:cNvSpPr/>
                  <p:nvPr/>
                </p:nvSpPr>
                <p:spPr>
                  <a:xfrm>
                    <a:off x="5163840" y="4392360"/>
                    <a:ext cx="15840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B3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5" name=""/>
                  <p:cNvSpPr/>
                  <p:nvPr/>
                </p:nvSpPr>
                <p:spPr>
                  <a:xfrm>
                    <a:off x="5322600" y="4392360"/>
                    <a:ext cx="13752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06" name=""/>
                <p:cNvGrpSpPr/>
                <p:nvPr/>
              </p:nvGrpSpPr>
              <p:grpSpPr>
                <a:xfrm>
                  <a:off x="3886200" y="3273120"/>
                  <a:ext cx="1573920" cy="142920"/>
                  <a:chOff x="3886200" y="3273120"/>
                  <a:chExt cx="1573920" cy="142920"/>
                </a:xfrm>
              </p:grpSpPr>
              <p:sp>
                <p:nvSpPr>
                  <p:cNvPr id="2907" name=""/>
                  <p:cNvSpPr/>
                  <p:nvPr/>
                </p:nvSpPr>
                <p:spPr>
                  <a:xfrm>
                    <a:off x="3886200" y="3273120"/>
                    <a:ext cx="27576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L422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8" name=""/>
                  <p:cNvSpPr/>
                  <p:nvPr/>
                </p:nvSpPr>
                <p:spPr>
                  <a:xfrm>
                    <a:off x="4608000" y="3273120"/>
                    <a:ext cx="1378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9" name=""/>
                  <p:cNvSpPr/>
                  <p:nvPr/>
                </p:nvSpPr>
                <p:spPr>
                  <a:xfrm>
                    <a:off x="4746240" y="3273120"/>
                    <a:ext cx="4172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Namur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0" name=""/>
                  <p:cNvSpPr/>
                  <p:nvPr/>
                </p:nvSpPr>
                <p:spPr>
                  <a:xfrm>
                    <a:off x="4161960" y="3273120"/>
                    <a:ext cx="4456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Frank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1" name=""/>
                  <p:cNvSpPr/>
                  <p:nvPr/>
                </p:nvSpPr>
                <p:spPr>
                  <a:xfrm>
                    <a:off x="5163840" y="3273120"/>
                    <a:ext cx="15840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C1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2" name=""/>
                  <p:cNvSpPr/>
                  <p:nvPr/>
                </p:nvSpPr>
                <p:spPr>
                  <a:xfrm>
                    <a:off x="5322600" y="3273120"/>
                    <a:ext cx="13752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13" name=""/>
                <p:cNvGrpSpPr/>
                <p:nvPr/>
              </p:nvGrpSpPr>
              <p:grpSpPr>
                <a:xfrm>
                  <a:off x="3886200" y="3460680"/>
                  <a:ext cx="1573920" cy="142920"/>
                  <a:chOff x="3886200" y="3460680"/>
                  <a:chExt cx="1573920" cy="142920"/>
                </a:xfrm>
              </p:grpSpPr>
              <p:sp>
                <p:nvSpPr>
                  <p:cNvPr id="2914" name=""/>
                  <p:cNvSpPr/>
                  <p:nvPr/>
                </p:nvSpPr>
                <p:spPr>
                  <a:xfrm>
                    <a:off x="3886200" y="3460680"/>
                    <a:ext cx="27576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S127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5" name=""/>
                  <p:cNvSpPr/>
                  <p:nvPr/>
                </p:nvSpPr>
                <p:spPr>
                  <a:xfrm>
                    <a:off x="4608000" y="3460680"/>
                    <a:ext cx="1378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6" name=""/>
                  <p:cNvSpPr/>
                  <p:nvPr/>
                </p:nvSpPr>
                <p:spPr>
                  <a:xfrm>
                    <a:off x="5163840" y="3460680"/>
                    <a:ext cx="15840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C1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7" name=""/>
                  <p:cNvSpPr/>
                  <p:nvPr/>
                </p:nvSpPr>
                <p:spPr>
                  <a:xfrm>
                    <a:off x="4746240" y="3460680"/>
                    <a:ext cx="41724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Namur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8" name=""/>
                  <p:cNvSpPr/>
                  <p:nvPr/>
                </p:nvSpPr>
                <p:spPr>
                  <a:xfrm>
                    <a:off x="4161960" y="3460680"/>
                    <a:ext cx="44568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Vanderka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9" name=""/>
                  <p:cNvSpPr/>
                  <p:nvPr/>
                </p:nvSpPr>
                <p:spPr>
                  <a:xfrm>
                    <a:off x="5322600" y="3460680"/>
                    <a:ext cx="137520" cy="142920"/>
                  </a:xfrm>
                  <a:prstGeom prst="rect">
                    <a:avLst/>
                  </a:prstGeom>
                  <a:solidFill>
                    <a:srgbClr val="dddddd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Arial"/>
                      </a:rPr>
                      <a:t>...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920" name=""/>
            <p:cNvGrpSpPr/>
            <p:nvPr/>
          </p:nvGrpSpPr>
          <p:grpSpPr>
            <a:xfrm>
              <a:off x="2521080" y="2340000"/>
              <a:ext cx="413640" cy="2948040"/>
              <a:chOff x="2521080" y="2340000"/>
              <a:chExt cx="413640" cy="2948040"/>
            </a:xfrm>
          </p:grpSpPr>
          <p:sp>
            <p:nvSpPr>
              <p:cNvPr id="2921" name=""/>
              <p:cNvSpPr/>
              <p:nvPr/>
            </p:nvSpPr>
            <p:spPr>
              <a:xfrm>
                <a:off x="2521080" y="2340000"/>
                <a:ext cx="275760" cy="14796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B06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22" name=""/>
              <p:cNvGrpSpPr/>
              <p:nvPr/>
            </p:nvGrpSpPr>
            <p:grpSpPr>
              <a:xfrm>
                <a:off x="2796840" y="2340000"/>
                <a:ext cx="137880" cy="147960"/>
                <a:chOff x="2796840" y="2340000"/>
                <a:chExt cx="137880" cy="147960"/>
              </a:xfrm>
            </p:grpSpPr>
            <p:sp>
              <p:nvSpPr>
                <p:cNvPr id="2923" name=""/>
                <p:cNvSpPr/>
                <p:nvPr/>
              </p:nvSpPr>
              <p:spPr>
                <a:xfrm>
                  <a:off x="2796840" y="2340000"/>
                  <a:ext cx="137880" cy="14796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4" name=""/>
                <p:cNvSpPr/>
                <p:nvPr/>
              </p:nvSpPr>
              <p:spPr>
                <a:xfrm>
                  <a:off x="2844360" y="239292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25" name=""/>
              <p:cNvSpPr/>
              <p:nvPr/>
            </p:nvSpPr>
            <p:spPr>
              <a:xfrm>
                <a:off x="2521080" y="5140440"/>
                <a:ext cx="275760" cy="14760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S71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26" name=""/>
              <p:cNvGrpSpPr/>
              <p:nvPr/>
            </p:nvGrpSpPr>
            <p:grpSpPr>
              <a:xfrm>
                <a:off x="2796840" y="5140440"/>
                <a:ext cx="137880" cy="147600"/>
                <a:chOff x="2796840" y="5140440"/>
                <a:chExt cx="137880" cy="147600"/>
              </a:xfrm>
            </p:grpSpPr>
            <p:sp>
              <p:nvSpPr>
                <p:cNvPr id="2927" name=""/>
                <p:cNvSpPr/>
                <p:nvPr/>
              </p:nvSpPr>
              <p:spPr>
                <a:xfrm>
                  <a:off x="2796840" y="514044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8" name=""/>
                <p:cNvSpPr/>
                <p:nvPr/>
              </p:nvSpPr>
              <p:spPr>
                <a:xfrm>
                  <a:off x="2844360" y="519300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29" name=""/>
              <p:cNvSpPr/>
              <p:nvPr/>
            </p:nvSpPr>
            <p:spPr>
              <a:xfrm>
                <a:off x="2521080" y="2525760"/>
                <a:ext cx="275760" cy="14940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B11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30" name=""/>
              <p:cNvGrpSpPr/>
              <p:nvPr/>
            </p:nvGrpSpPr>
            <p:grpSpPr>
              <a:xfrm>
                <a:off x="2796840" y="2525760"/>
                <a:ext cx="137880" cy="149400"/>
                <a:chOff x="2796840" y="2525760"/>
                <a:chExt cx="137880" cy="149400"/>
              </a:xfrm>
            </p:grpSpPr>
            <p:sp>
              <p:nvSpPr>
                <p:cNvPr id="2931" name=""/>
                <p:cNvSpPr/>
                <p:nvPr/>
              </p:nvSpPr>
              <p:spPr>
                <a:xfrm>
                  <a:off x="2796840" y="2525760"/>
                  <a:ext cx="137880" cy="1494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2" name=""/>
                <p:cNvSpPr/>
                <p:nvPr/>
              </p:nvSpPr>
              <p:spPr>
                <a:xfrm>
                  <a:off x="2844360" y="2579040"/>
                  <a:ext cx="42840" cy="42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3" name=""/>
              <p:cNvSpPr/>
              <p:nvPr/>
            </p:nvSpPr>
            <p:spPr>
              <a:xfrm>
                <a:off x="2521080" y="2713320"/>
                <a:ext cx="275760" cy="14760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B33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34" name=""/>
              <p:cNvGrpSpPr/>
              <p:nvPr/>
            </p:nvGrpSpPr>
            <p:grpSpPr>
              <a:xfrm>
                <a:off x="2796840" y="2713320"/>
                <a:ext cx="137880" cy="147600"/>
                <a:chOff x="2796840" y="2713320"/>
                <a:chExt cx="137880" cy="147600"/>
              </a:xfrm>
            </p:grpSpPr>
            <p:sp>
              <p:nvSpPr>
                <p:cNvPr id="2935" name=""/>
                <p:cNvSpPr/>
                <p:nvPr/>
              </p:nvSpPr>
              <p:spPr>
                <a:xfrm>
                  <a:off x="2796840" y="271332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6" name=""/>
                <p:cNvSpPr/>
                <p:nvPr/>
              </p:nvSpPr>
              <p:spPr>
                <a:xfrm>
                  <a:off x="2844360" y="276588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7" name=""/>
              <p:cNvSpPr/>
              <p:nvPr/>
            </p:nvSpPr>
            <p:spPr>
              <a:xfrm>
                <a:off x="2521080" y="2899080"/>
                <a:ext cx="275760" cy="14760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B51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38" name=""/>
              <p:cNvGrpSpPr/>
              <p:nvPr/>
            </p:nvGrpSpPr>
            <p:grpSpPr>
              <a:xfrm>
                <a:off x="2796840" y="2899080"/>
                <a:ext cx="137880" cy="147600"/>
                <a:chOff x="2796840" y="2899080"/>
                <a:chExt cx="137880" cy="147600"/>
              </a:xfrm>
            </p:grpSpPr>
            <p:sp>
              <p:nvSpPr>
                <p:cNvPr id="2939" name=""/>
                <p:cNvSpPr/>
                <p:nvPr/>
              </p:nvSpPr>
              <p:spPr>
                <a:xfrm>
                  <a:off x="2796840" y="289908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0" name=""/>
                <p:cNvSpPr/>
                <p:nvPr/>
              </p:nvSpPr>
              <p:spPr>
                <a:xfrm>
                  <a:off x="2844360" y="295164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41" name=""/>
              <p:cNvSpPr/>
              <p:nvPr/>
            </p:nvSpPr>
            <p:spPr>
              <a:xfrm>
                <a:off x="2521080" y="3087720"/>
                <a:ext cx="275760" cy="14616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C00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42" name=""/>
              <p:cNvGrpSpPr/>
              <p:nvPr/>
            </p:nvGrpSpPr>
            <p:grpSpPr>
              <a:xfrm>
                <a:off x="2796840" y="3087720"/>
                <a:ext cx="137880" cy="146160"/>
                <a:chOff x="2796840" y="3087720"/>
                <a:chExt cx="137880" cy="146160"/>
              </a:xfrm>
            </p:grpSpPr>
            <p:sp>
              <p:nvSpPr>
                <p:cNvPr id="2943" name=""/>
                <p:cNvSpPr/>
                <p:nvPr/>
              </p:nvSpPr>
              <p:spPr>
                <a:xfrm>
                  <a:off x="2796840" y="3087720"/>
                  <a:ext cx="137880" cy="14616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4" name=""/>
                <p:cNvSpPr/>
                <p:nvPr/>
              </p:nvSpPr>
              <p:spPr>
                <a:xfrm>
                  <a:off x="2844360" y="3139920"/>
                  <a:ext cx="42840" cy="41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45" name=""/>
              <p:cNvSpPr/>
              <p:nvPr/>
            </p:nvSpPr>
            <p:spPr>
              <a:xfrm>
                <a:off x="2521080" y="3273480"/>
                <a:ext cx="275760" cy="14760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C12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46" name=""/>
              <p:cNvGrpSpPr/>
              <p:nvPr/>
            </p:nvGrpSpPr>
            <p:grpSpPr>
              <a:xfrm>
                <a:off x="2796840" y="3273480"/>
                <a:ext cx="137880" cy="147600"/>
                <a:chOff x="2796840" y="3273480"/>
                <a:chExt cx="137880" cy="147600"/>
              </a:xfrm>
            </p:grpSpPr>
            <p:sp>
              <p:nvSpPr>
                <p:cNvPr id="2947" name=""/>
                <p:cNvSpPr/>
                <p:nvPr/>
              </p:nvSpPr>
              <p:spPr>
                <a:xfrm>
                  <a:off x="2796840" y="327348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8" name=""/>
                <p:cNvSpPr/>
                <p:nvPr/>
              </p:nvSpPr>
              <p:spPr>
                <a:xfrm>
                  <a:off x="2844360" y="332604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49" name=""/>
              <p:cNvSpPr/>
              <p:nvPr/>
            </p:nvSpPr>
            <p:spPr>
              <a:xfrm>
                <a:off x="2521080" y="3459240"/>
                <a:ext cx="275760" cy="14940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C40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50" name=""/>
              <p:cNvGrpSpPr/>
              <p:nvPr/>
            </p:nvGrpSpPr>
            <p:grpSpPr>
              <a:xfrm>
                <a:off x="2796840" y="3459240"/>
                <a:ext cx="137880" cy="149400"/>
                <a:chOff x="2796840" y="3459240"/>
                <a:chExt cx="137880" cy="149400"/>
              </a:xfrm>
            </p:grpSpPr>
            <p:sp>
              <p:nvSpPr>
                <p:cNvPr id="2951" name=""/>
                <p:cNvSpPr/>
                <p:nvPr/>
              </p:nvSpPr>
              <p:spPr>
                <a:xfrm>
                  <a:off x="2796840" y="3459240"/>
                  <a:ext cx="137880" cy="1494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2" name=""/>
                <p:cNvSpPr/>
                <p:nvPr/>
              </p:nvSpPr>
              <p:spPr>
                <a:xfrm>
                  <a:off x="2844360" y="3512520"/>
                  <a:ext cx="42840" cy="42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53" name=""/>
              <p:cNvSpPr/>
              <p:nvPr/>
            </p:nvSpPr>
            <p:spPr>
              <a:xfrm>
                <a:off x="2521080" y="3646800"/>
                <a:ext cx="275760" cy="14760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D06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54" name=""/>
              <p:cNvGrpSpPr/>
              <p:nvPr/>
            </p:nvGrpSpPr>
            <p:grpSpPr>
              <a:xfrm>
                <a:off x="2796840" y="3646800"/>
                <a:ext cx="137880" cy="147600"/>
                <a:chOff x="2796840" y="3646800"/>
                <a:chExt cx="137880" cy="147600"/>
              </a:xfrm>
            </p:grpSpPr>
            <p:sp>
              <p:nvSpPr>
                <p:cNvPr id="2955" name=""/>
                <p:cNvSpPr/>
                <p:nvPr/>
              </p:nvSpPr>
              <p:spPr>
                <a:xfrm>
                  <a:off x="2796840" y="364680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6" name=""/>
                <p:cNvSpPr/>
                <p:nvPr/>
              </p:nvSpPr>
              <p:spPr>
                <a:xfrm>
                  <a:off x="2844360" y="369936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57" name=""/>
              <p:cNvSpPr/>
              <p:nvPr/>
            </p:nvSpPr>
            <p:spPr>
              <a:xfrm>
                <a:off x="2521080" y="3832560"/>
                <a:ext cx="275760" cy="14760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F01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58" name=""/>
              <p:cNvGrpSpPr/>
              <p:nvPr/>
            </p:nvGrpSpPr>
            <p:grpSpPr>
              <a:xfrm>
                <a:off x="2796840" y="3832560"/>
                <a:ext cx="137880" cy="147600"/>
                <a:chOff x="2796840" y="3832560"/>
                <a:chExt cx="137880" cy="147600"/>
              </a:xfrm>
            </p:grpSpPr>
            <p:sp>
              <p:nvSpPr>
                <p:cNvPr id="2959" name=""/>
                <p:cNvSpPr/>
                <p:nvPr/>
              </p:nvSpPr>
              <p:spPr>
                <a:xfrm>
                  <a:off x="2796840" y="383256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0" name=""/>
                <p:cNvSpPr/>
                <p:nvPr/>
              </p:nvSpPr>
              <p:spPr>
                <a:xfrm>
                  <a:off x="2844360" y="388512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1" name=""/>
              <p:cNvSpPr/>
              <p:nvPr/>
            </p:nvSpPr>
            <p:spPr>
              <a:xfrm>
                <a:off x="2521080" y="4018320"/>
                <a:ext cx="275760" cy="14760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F01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62" name=""/>
              <p:cNvGrpSpPr/>
              <p:nvPr/>
            </p:nvGrpSpPr>
            <p:grpSpPr>
              <a:xfrm>
                <a:off x="2796840" y="4018320"/>
                <a:ext cx="137880" cy="147600"/>
                <a:chOff x="2796840" y="4018320"/>
                <a:chExt cx="137880" cy="147600"/>
              </a:xfrm>
            </p:grpSpPr>
            <p:sp>
              <p:nvSpPr>
                <p:cNvPr id="2963" name=""/>
                <p:cNvSpPr/>
                <p:nvPr/>
              </p:nvSpPr>
              <p:spPr>
                <a:xfrm>
                  <a:off x="2796840" y="401832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4" name=""/>
                <p:cNvSpPr/>
                <p:nvPr/>
              </p:nvSpPr>
              <p:spPr>
                <a:xfrm>
                  <a:off x="2844360" y="407088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5" name=""/>
              <p:cNvSpPr/>
              <p:nvPr/>
            </p:nvSpPr>
            <p:spPr>
              <a:xfrm>
                <a:off x="2521080" y="4206960"/>
                <a:ext cx="275760" cy="14760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F40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66" name=""/>
              <p:cNvGrpSpPr/>
              <p:nvPr/>
            </p:nvGrpSpPr>
            <p:grpSpPr>
              <a:xfrm>
                <a:off x="2796840" y="4206960"/>
                <a:ext cx="137880" cy="147600"/>
                <a:chOff x="2796840" y="4206960"/>
                <a:chExt cx="137880" cy="147600"/>
              </a:xfrm>
            </p:grpSpPr>
            <p:sp>
              <p:nvSpPr>
                <p:cNvPr id="2967" name=""/>
                <p:cNvSpPr/>
                <p:nvPr/>
              </p:nvSpPr>
              <p:spPr>
                <a:xfrm>
                  <a:off x="2796840" y="420696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8" name=""/>
                <p:cNvSpPr/>
                <p:nvPr/>
              </p:nvSpPr>
              <p:spPr>
                <a:xfrm>
                  <a:off x="2844360" y="425952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9" name=""/>
              <p:cNvSpPr/>
              <p:nvPr/>
            </p:nvSpPr>
            <p:spPr>
              <a:xfrm>
                <a:off x="2521080" y="4392720"/>
                <a:ext cx="275760" cy="14616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K11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70" name=""/>
              <p:cNvGrpSpPr/>
              <p:nvPr/>
            </p:nvGrpSpPr>
            <p:grpSpPr>
              <a:xfrm>
                <a:off x="2796840" y="4392720"/>
                <a:ext cx="137880" cy="146160"/>
                <a:chOff x="2796840" y="4392720"/>
                <a:chExt cx="137880" cy="146160"/>
              </a:xfrm>
            </p:grpSpPr>
            <p:sp>
              <p:nvSpPr>
                <p:cNvPr id="2971" name=""/>
                <p:cNvSpPr/>
                <p:nvPr/>
              </p:nvSpPr>
              <p:spPr>
                <a:xfrm>
                  <a:off x="2796840" y="4392720"/>
                  <a:ext cx="137880" cy="14616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2" name=""/>
                <p:cNvSpPr/>
                <p:nvPr/>
              </p:nvSpPr>
              <p:spPr>
                <a:xfrm>
                  <a:off x="2844360" y="4444920"/>
                  <a:ext cx="42840" cy="41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3" name=""/>
              <p:cNvSpPr/>
              <p:nvPr/>
            </p:nvSpPr>
            <p:spPr>
              <a:xfrm>
                <a:off x="2521080" y="4578480"/>
                <a:ext cx="275760" cy="14940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K729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74" name=""/>
              <p:cNvGrpSpPr/>
              <p:nvPr/>
            </p:nvGrpSpPr>
            <p:grpSpPr>
              <a:xfrm>
                <a:off x="2796840" y="4578480"/>
                <a:ext cx="137880" cy="149400"/>
                <a:chOff x="2796840" y="4578480"/>
                <a:chExt cx="137880" cy="149400"/>
              </a:xfrm>
            </p:grpSpPr>
            <p:sp>
              <p:nvSpPr>
                <p:cNvPr id="2975" name=""/>
                <p:cNvSpPr/>
                <p:nvPr/>
              </p:nvSpPr>
              <p:spPr>
                <a:xfrm>
                  <a:off x="2796840" y="4578480"/>
                  <a:ext cx="137880" cy="1494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6" name=""/>
                <p:cNvSpPr/>
                <p:nvPr/>
              </p:nvSpPr>
              <p:spPr>
                <a:xfrm>
                  <a:off x="2844360" y="4631760"/>
                  <a:ext cx="42840" cy="42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7" name=""/>
              <p:cNvSpPr/>
              <p:nvPr/>
            </p:nvSpPr>
            <p:spPr>
              <a:xfrm>
                <a:off x="2521080" y="4766040"/>
                <a:ext cx="275760" cy="14760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L42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78" name=""/>
              <p:cNvGrpSpPr/>
              <p:nvPr/>
            </p:nvGrpSpPr>
            <p:grpSpPr>
              <a:xfrm>
                <a:off x="2796840" y="4766040"/>
                <a:ext cx="137880" cy="147600"/>
                <a:chOff x="2796840" y="4766040"/>
                <a:chExt cx="137880" cy="147600"/>
              </a:xfrm>
            </p:grpSpPr>
            <p:sp>
              <p:nvSpPr>
                <p:cNvPr id="2979" name=""/>
                <p:cNvSpPr/>
                <p:nvPr/>
              </p:nvSpPr>
              <p:spPr>
                <a:xfrm>
                  <a:off x="2796840" y="476604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0" name=""/>
                <p:cNvSpPr/>
                <p:nvPr/>
              </p:nvSpPr>
              <p:spPr>
                <a:xfrm>
                  <a:off x="2844360" y="481860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81" name=""/>
              <p:cNvSpPr/>
              <p:nvPr/>
            </p:nvSpPr>
            <p:spPr>
              <a:xfrm>
                <a:off x="2521080" y="4951440"/>
                <a:ext cx="275760" cy="14796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Arial"/>
                  </a:rPr>
                  <a:t>S127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82" name=""/>
              <p:cNvGrpSpPr/>
              <p:nvPr/>
            </p:nvGrpSpPr>
            <p:grpSpPr>
              <a:xfrm>
                <a:off x="2796840" y="4951440"/>
                <a:ext cx="137880" cy="147960"/>
                <a:chOff x="2796840" y="4951440"/>
                <a:chExt cx="137880" cy="147960"/>
              </a:xfrm>
            </p:grpSpPr>
            <p:sp>
              <p:nvSpPr>
                <p:cNvPr id="2983" name=""/>
                <p:cNvSpPr/>
                <p:nvPr/>
              </p:nvSpPr>
              <p:spPr>
                <a:xfrm>
                  <a:off x="2796840" y="4951440"/>
                  <a:ext cx="137880" cy="14796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4" name=""/>
                <p:cNvSpPr/>
                <p:nvPr/>
              </p:nvSpPr>
              <p:spPr>
                <a:xfrm>
                  <a:off x="2844360" y="500436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2985" name=""/>
            <p:cNvCxnSpPr>
              <a:stCxn id="2924" idx="6"/>
              <a:endCxn id="2809" idx="1"/>
            </p:cNvCxnSpPr>
            <p:nvPr/>
          </p:nvCxnSpPr>
          <p:spPr>
            <a:xfrm>
              <a:off x="2887560" y="2414160"/>
              <a:ext cx="999000" cy="375480"/>
            </a:xfrm>
            <a:prstGeom prst="curvedConnector5">
              <a:avLst>
                <a:gd name="adj1" fmla="val 49927"/>
                <a:gd name="adj2" fmla="val 50000"/>
                <a:gd name="adj3" fmla="val 49927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2986" name=""/>
            <p:cNvCxnSpPr>
              <a:stCxn id="2932" idx="6"/>
              <a:endCxn id="2823" idx="1"/>
            </p:cNvCxnSpPr>
            <p:nvPr/>
          </p:nvCxnSpPr>
          <p:spPr>
            <a:xfrm>
              <a:off x="2887560" y="2599920"/>
              <a:ext cx="999000" cy="1121400"/>
            </a:xfrm>
            <a:prstGeom prst="curvedConnector5">
              <a:avLst>
                <a:gd name="adj1" fmla="val 41348"/>
                <a:gd name="adj2" fmla="val 50000"/>
                <a:gd name="adj3" fmla="val 41348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2987" name=""/>
            <p:cNvCxnSpPr>
              <a:stCxn id="2936" idx="6"/>
              <a:endCxn id="2830" idx="1"/>
            </p:cNvCxnSpPr>
            <p:nvPr/>
          </p:nvCxnSpPr>
          <p:spPr>
            <a:xfrm flipV="1">
              <a:off x="2887560" y="2601360"/>
              <a:ext cx="999000" cy="186480"/>
            </a:xfrm>
            <a:prstGeom prst="curvedConnector5">
              <a:avLst>
                <a:gd name="adj1" fmla="val 49927"/>
                <a:gd name="adj2" fmla="val 49903"/>
                <a:gd name="adj3" fmla="val 49927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2988" name=""/>
            <p:cNvCxnSpPr>
              <a:stCxn id="2940" idx="6"/>
              <a:endCxn id="2837" idx="1"/>
            </p:cNvCxnSpPr>
            <p:nvPr/>
          </p:nvCxnSpPr>
          <p:spPr>
            <a:xfrm>
              <a:off x="2887560" y="2972880"/>
              <a:ext cx="999000" cy="2242440"/>
            </a:xfrm>
            <a:prstGeom prst="curvedConnector5">
              <a:avLst>
                <a:gd name="adj1" fmla="val 37995"/>
                <a:gd name="adj2" fmla="val 50000"/>
                <a:gd name="adj3" fmla="val 37995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2989" name=""/>
            <p:cNvCxnSpPr>
              <a:stCxn id="2944" idx="6"/>
              <a:endCxn id="2844" idx="1"/>
            </p:cNvCxnSpPr>
            <p:nvPr/>
          </p:nvCxnSpPr>
          <p:spPr>
            <a:xfrm>
              <a:off x="2887560" y="3160800"/>
              <a:ext cx="999000" cy="1867680"/>
            </a:xfrm>
            <a:prstGeom prst="curvedConnector5">
              <a:avLst>
                <a:gd name="adj1" fmla="val 42754"/>
                <a:gd name="adj2" fmla="val 49990"/>
                <a:gd name="adj3" fmla="val 42754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2990" name=""/>
            <p:cNvCxnSpPr>
              <a:stCxn id="2948" idx="6"/>
              <a:endCxn id="2851" idx="1"/>
            </p:cNvCxnSpPr>
            <p:nvPr/>
          </p:nvCxnSpPr>
          <p:spPr>
            <a:xfrm flipV="1">
              <a:off x="2887560" y="3161880"/>
              <a:ext cx="999000" cy="186480"/>
            </a:xfrm>
            <a:prstGeom prst="curvedConnector5">
              <a:avLst>
                <a:gd name="adj1" fmla="val 49927"/>
                <a:gd name="adj2" fmla="val 49903"/>
                <a:gd name="adj3" fmla="val 49927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2991" name=""/>
            <p:cNvCxnSpPr>
              <a:stCxn id="2952" idx="6"/>
              <a:endCxn id="2858" idx="1"/>
            </p:cNvCxnSpPr>
            <p:nvPr/>
          </p:nvCxnSpPr>
          <p:spPr>
            <a:xfrm>
              <a:off x="2887560" y="3533400"/>
              <a:ext cx="999000" cy="1121400"/>
            </a:xfrm>
            <a:prstGeom prst="curvedConnector5">
              <a:avLst>
                <a:gd name="adj1" fmla="val 58976"/>
                <a:gd name="adj2" fmla="val 50000"/>
                <a:gd name="adj3" fmla="val 58976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2992" name=""/>
            <p:cNvCxnSpPr>
              <a:stCxn id="2956" idx="6"/>
              <a:endCxn id="2865" idx="1"/>
            </p:cNvCxnSpPr>
            <p:nvPr/>
          </p:nvCxnSpPr>
          <p:spPr>
            <a:xfrm>
              <a:off x="2887560" y="3720600"/>
              <a:ext cx="999000" cy="1119960"/>
            </a:xfrm>
            <a:prstGeom prst="curvedConnector5">
              <a:avLst>
                <a:gd name="adj1" fmla="val 54217"/>
                <a:gd name="adj2" fmla="val 50000"/>
                <a:gd name="adj3" fmla="val 54217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2993" name=""/>
            <p:cNvCxnSpPr>
              <a:stCxn id="2960" idx="6"/>
              <a:endCxn id="2872" idx="1"/>
            </p:cNvCxnSpPr>
            <p:nvPr/>
          </p:nvCxnSpPr>
          <p:spPr>
            <a:xfrm>
              <a:off x="2887560" y="3906360"/>
              <a:ext cx="999000" cy="375480"/>
            </a:xfrm>
            <a:prstGeom prst="curvedConnector5">
              <a:avLst>
                <a:gd name="adj1" fmla="val 46575"/>
                <a:gd name="adj2" fmla="val 50000"/>
                <a:gd name="adj3" fmla="val 46575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2994" name=""/>
            <p:cNvCxnSpPr>
              <a:stCxn id="2964" idx="6"/>
              <a:endCxn id="2879" idx="1"/>
            </p:cNvCxnSpPr>
            <p:nvPr/>
          </p:nvCxnSpPr>
          <p:spPr>
            <a:xfrm>
              <a:off x="2887560" y="4092120"/>
              <a:ext cx="999000" cy="2520"/>
            </a:xfrm>
            <a:prstGeom prst="curvedConnector5">
              <a:avLst>
                <a:gd name="adj1" fmla="val 49927"/>
                <a:gd name="adj2" fmla="val 50000"/>
                <a:gd name="adj3" fmla="val 49927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2995" name=""/>
            <p:cNvCxnSpPr>
              <a:stCxn id="2968" idx="6"/>
              <a:endCxn id="2886" idx="1"/>
            </p:cNvCxnSpPr>
            <p:nvPr/>
          </p:nvCxnSpPr>
          <p:spPr>
            <a:xfrm flipV="1">
              <a:off x="2887560" y="2415600"/>
              <a:ext cx="999000" cy="1865880"/>
            </a:xfrm>
            <a:prstGeom prst="curvedConnector5">
              <a:avLst>
                <a:gd name="adj1" fmla="val 49927"/>
                <a:gd name="adj2" fmla="val 50000"/>
                <a:gd name="adj3" fmla="val 49927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2996" name=""/>
            <p:cNvCxnSpPr>
              <a:stCxn id="2972" idx="6"/>
              <a:endCxn id="2893" idx="1"/>
            </p:cNvCxnSpPr>
            <p:nvPr/>
          </p:nvCxnSpPr>
          <p:spPr>
            <a:xfrm flipV="1">
              <a:off x="2887560" y="2974320"/>
              <a:ext cx="999000" cy="1491480"/>
            </a:xfrm>
            <a:prstGeom prst="curvedConnector5">
              <a:avLst>
                <a:gd name="adj1" fmla="val 49927"/>
                <a:gd name="adj2" fmla="val 50000"/>
                <a:gd name="adj3" fmla="val 49927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2997" name=""/>
            <p:cNvCxnSpPr>
              <a:stCxn id="2976" idx="6"/>
              <a:endCxn id="2900" idx="1"/>
            </p:cNvCxnSpPr>
            <p:nvPr/>
          </p:nvCxnSpPr>
          <p:spPr>
            <a:xfrm flipV="1">
              <a:off x="2887560" y="4466880"/>
              <a:ext cx="999000" cy="186480"/>
            </a:xfrm>
            <a:prstGeom prst="curvedConnector5">
              <a:avLst>
                <a:gd name="adj1" fmla="val 49927"/>
                <a:gd name="adj2" fmla="val 49903"/>
                <a:gd name="adj3" fmla="val 49927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2998" name=""/>
            <p:cNvCxnSpPr>
              <a:stCxn id="2980" idx="6"/>
              <a:endCxn id="2907" idx="1"/>
            </p:cNvCxnSpPr>
            <p:nvPr/>
          </p:nvCxnSpPr>
          <p:spPr>
            <a:xfrm flipV="1">
              <a:off x="2887560" y="3347280"/>
              <a:ext cx="999000" cy="1492920"/>
            </a:xfrm>
            <a:prstGeom prst="curvedConnector5">
              <a:avLst>
                <a:gd name="adj1" fmla="val 54217"/>
                <a:gd name="adj2" fmla="val 50000"/>
                <a:gd name="adj3" fmla="val 54217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2999" name=""/>
            <p:cNvCxnSpPr>
              <a:stCxn id="2984" idx="6"/>
              <a:endCxn id="2914" idx="1"/>
            </p:cNvCxnSpPr>
            <p:nvPr/>
          </p:nvCxnSpPr>
          <p:spPr>
            <a:xfrm flipV="1">
              <a:off x="2887560" y="3534480"/>
              <a:ext cx="999000" cy="1491480"/>
            </a:xfrm>
            <a:prstGeom prst="curvedConnector5">
              <a:avLst>
                <a:gd name="adj1" fmla="val 56596"/>
                <a:gd name="adj2" fmla="val 50000"/>
                <a:gd name="adj3" fmla="val 56596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000" name=""/>
            <p:cNvCxnSpPr>
              <a:stCxn id="2928" idx="6"/>
              <a:endCxn id="2816" idx="1"/>
            </p:cNvCxnSpPr>
            <p:nvPr/>
          </p:nvCxnSpPr>
          <p:spPr>
            <a:xfrm flipV="1">
              <a:off x="2887560" y="3907800"/>
              <a:ext cx="999000" cy="1307160"/>
            </a:xfrm>
            <a:prstGeom prst="curvedConnector5">
              <a:avLst>
                <a:gd name="adj1" fmla="val 61355"/>
                <a:gd name="adj2" fmla="val 50000"/>
                <a:gd name="adj3" fmla="val 61355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3001" name=""/>
            <p:cNvSpPr/>
            <p:nvPr/>
          </p:nvSpPr>
          <p:spPr>
            <a:xfrm rot="16200000">
              <a:off x="682560" y="3564000"/>
              <a:ext cx="2914560" cy="520560"/>
            </a:xfrm>
            <a:prstGeom prst="triangle">
              <a:avLst>
                <a:gd name="adj" fmla="val 50088"/>
              </a:avLst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02" name=""/>
            <p:cNvCxnSpPr>
              <a:stCxn id="2736" idx="0"/>
              <a:endCxn id="2891" idx="3"/>
            </p:cNvCxnSpPr>
            <p:nvPr/>
          </p:nvCxnSpPr>
          <p:spPr>
            <a:xfrm flipV="1" rot="16200000">
              <a:off x="5688720" y="2187000"/>
              <a:ext cx="554760" cy="10119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003" name=""/>
            <p:cNvCxnSpPr>
              <a:stCxn id="2741" idx="0"/>
              <a:endCxn id="2835" idx="3"/>
            </p:cNvCxnSpPr>
            <p:nvPr/>
          </p:nvCxnSpPr>
          <p:spPr>
            <a:xfrm flipV="1" rot="16200000">
              <a:off x="5684760" y="2376720"/>
              <a:ext cx="563040" cy="10119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004" name=""/>
            <p:cNvCxnSpPr>
              <a:stCxn id="2746" idx="0"/>
              <a:endCxn id="2898" idx="3"/>
            </p:cNvCxnSpPr>
            <p:nvPr/>
          </p:nvCxnSpPr>
          <p:spPr>
            <a:xfrm flipV="1" rot="16200000">
              <a:off x="5773680" y="2660760"/>
              <a:ext cx="384840" cy="10119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005" name=""/>
            <p:cNvCxnSpPr>
              <a:stCxn id="2751" idx="2"/>
              <a:endCxn id="2821" idx="3"/>
            </p:cNvCxnSpPr>
            <p:nvPr/>
          </p:nvCxnSpPr>
          <p:spPr>
            <a:xfrm flipV="1" rot="10800000">
              <a:off x="5460120" y="3771360"/>
              <a:ext cx="990000" cy="137520"/>
            </a:xfrm>
            <a:prstGeom prst="curvedConnector5">
              <a:avLst>
                <a:gd name="adj1" fmla="val 49909"/>
                <a:gd name="adj2" fmla="val 49868"/>
                <a:gd name="adj3" fmla="val 49909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006" name=""/>
            <p:cNvCxnSpPr>
              <a:stCxn id="2790" idx="0"/>
              <a:endCxn id="2912" idx="3"/>
            </p:cNvCxnSpPr>
            <p:nvPr/>
          </p:nvCxnSpPr>
          <p:spPr>
            <a:xfrm flipV="1" rot="16200000">
              <a:off x="5724000" y="3083400"/>
              <a:ext cx="207000" cy="7344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007" name=""/>
            <p:cNvCxnSpPr>
              <a:stCxn id="2793" idx="0"/>
              <a:endCxn id="2856" idx="3"/>
            </p:cNvCxnSpPr>
            <p:nvPr/>
          </p:nvCxnSpPr>
          <p:spPr>
            <a:xfrm flipV="1" rot="16200000">
              <a:off x="5699880" y="2921760"/>
              <a:ext cx="392760" cy="8722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008" name=""/>
            <p:cNvCxnSpPr>
              <a:stCxn id="2796" idx="0"/>
              <a:endCxn id="2814" idx="3"/>
            </p:cNvCxnSpPr>
            <p:nvPr/>
          </p:nvCxnSpPr>
          <p:spPr>
            <a:xfrm flipV="1" rot="16200000">
              <a:off x="5583240" y="2665440"/>
              <a:ext cx="765720" cy="10119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009" name=""/>
            <p:cNvCxnSpPr>
              <a:stCxn id="2781" idx="4"/>
              <a:endCxn id="2877" idx="3"/>
            </p:cNvCxnSpPr>
            <p:nvPr/>
          </p:nvCxnSpPr>
          <p:spPr>
            <a:xfrm rot="5400000">
              <a:off x="5818680" y="3628800"/>
              <a:ext cx="294480" cy="10119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010" name=""/>
            <p:cNvCxnSpPr>
              <a:stCxn id="2778" idx="4"/>
              <a:endCxn id="2863" idx="3"/>
            </p:cNvCxnSpPr>
            <p:nvPr/>
          </p:nvCxnSpPr>
          <p:spPr>
            <a:xfrm rot="5400000">
              <a:off x="5563440" y="3884400"/>
              <a:ext cx="667440" cy="874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011" name=""/>
            <p:cNvCxnSpPr>
              <a:stCxn id="2775" idx="0"/>
              <a:endCxn id="2828" idx="3"/>
            </p:cNvCxnSpPr>
            <p:nvPr/>
          </p:nvCxnSpPr>
          <p:spPr>
            <a:xfrm flipV="1" rot="16200000">
              <a:off x="5716800" y="3463920"/>
              <a:ext cx="224640" cy="7372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012" name=""/>
            <p:cNvCxnSpPr>
              <a:stCxn id="2766" idx="4"/>
              <a:endCxn id="2842" idx="3"/>
            </p:cNvCxnSpPr>
            <p:nvPr/>
          </p:nvCxnSpPr>
          <p:spPr>
            <a:xfrm rot="5400000">
              <a:off x="5450400" y="4194000"/>
              <a:ext cx="1031040" cy="10119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013" name=""/>
            <p:cNvCxnSpPr>
              <a:stCxn id="2760" idx="5"/>
              <a:endCxn id="2870" idx="3"/>
            </p:cNvCxnSpPr>
            <p:nvPr/>
          </p:nvCxnSpPr>
          <p:spPr>
            <a:xfrm rot="5400000">
              <a:off x="5502960" y="4134960"/>
              <a:ext cx="662760" cy="7484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014" name=""/>
            <p:cNvCxnSpPr>
              <a:stCxn id="2763" idx="4"/>
              <a:endCxn id="2849" idx="3"/>
            </p:cNvCxnSpPr>
            <p:nvPr/>
          </p:nvCxnSpPr>
          <p:spPr>
            <a:xfrm rot="5400000">
              <a:off x="5474160" y="4170240"/>
              <a:ext cx="843840" cy="8722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015" name=""/>
            <p:cNvCxnSpPr>
              <a:stCxn id="2757" idx="4"/>
              <a:endCxn id="2905" idx="3"/>
            </p:cNvCxnSpPr>
            <p:nvPr/>
          </p:nvCxnSpPr>
          <p:spPr>
            <a:xfrm rot="5400000">
              <a:off x="5616720" y="4028040"/>
              <a:ext cx="283320" cy="5961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016" name=""/>
            <p:cNvCxnSpPr>
              <a:stCxn id="2772" idx="2"/>
              <a:endCxn id="2884" idx="3"/>
            </p:cNvCxnSpPr>
            <p:nvPr/>
          </p:nvCxnSpPr>
          <p:spPr>
            <a:xfrm flipV="1" rot="10800000">
              <a:off x="5460120" y="3966120"/>
              <a:ext cx="575640" cy="1278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017" name=""/>
            <p:cNvCxnSpPr>
              <a:stCxn id="2787" idx="0"/>
              <a:endCxn id="2919" idx="3"/>
            </p:cNvCxnSpPr>
            <p:nvPr/>
          </p:nvCxnSpPr>
          <p:spPr>
            <a:xfrm flipV="1" rot="16200000">
              <a:off x="5748480" y="3246120"/>
              <a:ext cx="19800" cy="5961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</p:grpSp>
      <p:sp>
        <p:nvSpPr>
          <p:cNvPr id="3018" name=""/>
          <p:cNvSpPr/>
          <p:nvPr/>
        </p:nvSpPr>
        <p:spPr>
          <a:xfrm>
            <a:off x="1380960" y="1311120"/>
            <a:ext cx="641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n fichier peut posséder plusieurs index secondai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0" name=""/>
          <p:cNvSpPr/>
          <p:nvPr/>
        </p:nvSpPr>
        <p:spPr>
          <a:xfrm>
            <a:off x="5295960" y="2400480"/>
            <a:ext cx="3600360" cy="1933560"/>
          </a:xfrm>
          <a:prstGeom prst="roundRect">
            <a:avLst>
              <a:gd name="adj" fmla="val 7801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1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2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3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8 Les index second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4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6" name=""/>
          <p:cNvSpPr/>
          <p:nvPr/>
        </p:nvSpPr>
        <p:spPr>
          <a:xfrm>
            <a:off x="1809720" y="1596960"/>
            <a:ext cx="56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eprésentation pratique des listes de pointeu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7" name=""/>
          <p:cNvGrpSpPr/>
          <p:nvPr/>
        </p:nvGrpSpPr>
        <p:grpSpPr>
          <a:xfrm>
            <a:off x="501480" y="3963960"/>
            <a:ext cx="3083760" cy="449280"/>
            <a:chOff x="501480" y="3963960"/>
            <a:chExt cx="3083760" cy="449280"/>
          </a:xfrm>
        </p:grpSpPr>
        <p:cxnSp>
          <p:nvCxnSpPr>
            <p:cNvPr id="3028" name=""/>
            <p:cNvCxnSpPr/>
            <p:nvPr/>
          </p:nvCxnSpPr>
          <p:spPr>
            <a:xfrm flipH="1" rot="16200000">
              <a:off x="932040" y="4106520"/>
              <a:ext cx="361080" cy="253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029" name=""/>
            <p:cNvCxnSpPr/>
            <p:nvPr/>
          </p:nvCxnSpPr>
          <p:spPr>
            <a:xfrm flipH="1" rot="16200000">
              <a:off x="1070280" y="4106520"/>
              <a:ext cx="361080" cy="253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grpSp>
          <p:nvGrpSpPr>
            <p:cNvPr id="3030" name=""/>
            <p:cNvGrpSpPr/>
            <p:nvPr/>
          </p:nvGrpSpPr>
          <p:grpSpPr>
            <a:xfrm>
              <a:off x="501480" y="3963960"/>
              <a:ext cx="2900160" cy="147600"/>
              <a:chOff x="501480" y="3963960"/>
              <a:chExt cx="2900160" cy="147600"/>
            </a:xfrm>
          </p:grpSpPr>
          <p:grpSp>
            <p:nvGrpSpPr>
              <p:cNvPr id="3031" name=""/>
              <p:cNvGrpSpPr/>
              <p:nvPr/>
            </p:nvGrpSpPr>
            <p:grpSpPr>
              <a:xfrm>
                <a:off x="501480" y="3963960"/>
                <a:ext cx="555120" cy="147600"/>
                <a:chOff x="501480" y="3963960"/>
                <a:chExt cx="555120" cy="147600"/>
              </a:xfrm>
            </p:grpSpPr>
            <p:sp>
              <p:nvSpPr>
                <p:cNvPr id="3032" name=""/>
                <p:cNvSpPr/>
                <p:nvPr/>
              </p:nvSpPr>
              <p:spPr>
                <a:xfrm>
                  <a:off x="501480" y="3963960"/>
                  <a:ext cx="417240" cy="14760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Toulous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33" name=""/>
                <p:cNvGrpSpPr/>
                <p:nvPr/>
              </p:nvGrpSpPr>
              <p:grpSpPr>
                <a:xfrm>
                  <a:off x="918720" y="3963960"/>
                  <a:ext cx="137880" cy="147600"/>
                  <a:chOff x="918720" y="3963960"/>
                  <a:chExt cx="137880" cy="147600"/>
                </a:xfrm>
              </p:grpSpPr>
              <p:sp>
                <p:nvSpPr>
                  <p:cNvPr id="3034" name=""/>
                  <p:cNvSpPr/>
                  <p:nvPr/>
                </p:nvSpPr>
                <p:spPr>
                  <a:xfrm>
                    <a:off x="918720" y="3963960"/>
                    <a:ext cx="137880" cy="14760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5" name=""/>
                  <p:cNvSpPr/>
                  <p:nvPr/>
                </p:nvSpPr>
                <p:spPr>
                  <a:xfrm>
                    <a:off x="966240" y="4016520"/>
                    <a:ext cx="42840" cy="41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36" name=""/>
              <p:cNvGrpSpPr/>
              <p:nvPr/>
            </p:nvGrpSpPr>
            <p:grpSpPr>
              <a:xfrm>
                <a:off x="1056960" y="3963960"/>
                <a:ext cx="137880" cy="147600"/>
                <a:chOff x="1056960" y="3963960"/>
                <a:chExt cx="137880" cy="147600"/>
              </a:xfrm>
            </p:grpSpPr>
            <p:sp>
              <p:nvSpPr>
                <p:cNvPr id="3037" name=""/>
                <p:cNvSpPr/>
                <p:nvPr/>
              </p:nvSpPr>
              <p:spPr>
                <a:xfrm>
                  <a:off x="1056960" y="396396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8" name=""/>
                <p:cNvSpPr/>
                <p:nvPr/>
              </p:nvSpPr>
              <p:spPr>
                <a:xfrm>
                  <a:off x="1104480" y="401652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9" name=""/>
              <p:cNvGrpSpPr/>
              <p:nvPr/>
            </p:nvGrpSpPr>
            <p:grpSpPr>
              <a:xfrm>
                <a:off x="1195200" y="3963960"/>
                <a:ext cx="137880" cy="147600"/>
                <a:chOff x="1195200" y="3963960"/>
                <a:chExt cx="137880" cy="147600"/>
              </a:xfrm>
            </p:grpSpPr>
            <p:sp>
              <p:nvSpPr>
                <p:cNvPr id="3040" name=""/>
                <p:cNvSpPr/>
                <p:nvPr/>
              </p:nvSpPr>
              <p:spPr>
                <a:xfrm>
                  <a:off x="1195200" y="396396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1" name=""/>
                <p:cNvSpPr/>
                <p:nvPr/>
              </p:nvSpPr>
              <p:spPr>
                <a:xfrm>
                  <a:off x="1242720" y="401652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2" name=""/>
              <p:cNvGrpSpPr/>
              <p:nvPr/>
            </p:nvGrpSpPr>
            <p:grpSpPr>
              <a:xfrm>
                <a:off x="1333440" y="3963960"/>
                <a:ext cx="137880" cy="147600"/>
                <a:chOff x="1333440" y="3963960"/>
                <a:chExt cx="137880" cy="147600"/>
              </a:xfrm>
            </p:grpSpPr>
            <p:sp>
              <p:nvSpPr>
                <p:cNvPr id="3043" name=""/>
                <p:cNvSpPr/>
                <p:nvPr/>
              </p:nvSpPr>
              <p:spPr>
                <a:xfrm>
                  <a:off x="1333440" y="396396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4" name=""/>
                <p:cNvSpPr/>
                <p:nvPr/>
              </p:nvSpPr>
              <p:spPr>
                <a:xfrm>
                  <a:off x="1380960" y="401652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5" name=""/>
              <p:cNvGrpSpPr/>
              <p:nvPr/>
            </p:nvGrpSpPr>
            <p:grpSpPr>
              <a:xfrm>
                <a:off x="1471320" y="3963960"/>
                <a:ext cx="137880" cy="147600"/>
                <a:chOff x="1471320" y="3963960"/>
                <a:chExt cx="137880" cy="147600"/>
              </a:xfrm>
            </p:grpSpPr>
            <p:sp>
              <p:nvSpPr>
                <p:cNvPr id="3046" name=""/>
                <p:cNvSpPr/>
                <p:nvPr/>
              </p:nvSpPr>
              <p:spPr>
                <a:xfrm>
                  <a:off x="1471320" y="396396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7" name=""/>
                <p:cNvSpPr/>
                <p:nvPr/>
              </p:nvSpPr>
              <p:spPr>
                <a:xfrm>
                  <a:off x="1518840" y="401652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8" name=""/>
              <p:cNvGrpSpPr/>
              <p:nvPr/>
            </p:nvGrpSpPr>
            <p:grpSpPr>
              <a:xfrm>
                <a:off x="1609560" y="3963960"/>
                <a:ext cx="137880" cy="147600"/>
                <a:chOff x="1609560" y="3963960"/>
                <a:chExt cx="137880" cy="147600"/>
              </a:xfrm>
            </p:grpSpPr>
            <p:sp>
              <p:nvSpPr>
                <p:cNvPr id="3049" name=""/>
                <p:cNvSpPr/>
                <p:nvPr/>
              </p:nvSpPr>
              <p:spPr>
                <a:xfrm>
                  <a:off x="1609560" y="396396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0" name=""/>
                <p:cNvSpPr/>
                <p:nvPr/>
              </p:nvSpPr>
              <p:spPr>
                <a:xfrm>
                  <a:off x="1657080" y="401652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1" name=""/>
              <p:cNvGrpSpPr/>
              <p:nvPr/>
            </p:nvGrpSpPr>
            <p:grpSpPr>
              <a:xfrm>
                <a:off x="1747800" y="3963960"/>
                <a:ext cx="137880" cy="147600"/>
                <a:chOff x="1747800" y="3963960"/>
                <a:chExt cx="137880" cy="147600"/>
              </a:xfrm>
            </p:grpSpPr>
            <p:sp>
              <p:nvSpPr>
                <p:cNvPr id="3052" name=""/>
                <p:cNvSpPr/>
                <p:nvPr/>
              </p:nvSpPr>
              <p:spPr>
                <a:xfrm>
                  <a:off x="1747800" y="396396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3" name=""/>
                <p:cNvSpPr/>
                <p:nvPr/>
              </p:nvSpPr>
              <p:spPr>
                <a:xfrm>
                  <a:off x="1795320" y="401652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4" name=""/>
              <p:cNvGrpSpPr/>
              <p:nvPr/>
            </p:nvGrpSpPr>
            <p:grpSpPr>
              <a:xfrm>
                <a:off x="1885680" y="3963960"/>
                <a:ext cx="137880" cy="147600"/>
                <a:chOff x="1885680" y="3963960"/>
                <a:chExt cx="137880" cy="147600"/>
              </a:xfrm>
            </p:grpSpPr>
            <p:sp>
              <p:nvSpPr>
                <p:cNvPr id="3055" name=""/>
                <p:cNvSpPr/>
                <p:nvPr/>
              </p:nvSpPr>
              <p:spPr>
                <a:xfrm>
                  <a:off x="1885680" y="396396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6" name=""/>
                <p:cNvSpPr/>
                <p:nvPr/>
              </p:nvSpPr>
              <p:spPr>
                <a:xfrm>
                  <a:off x="1933200" y="401652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7" name=""/>
              <p:cNvGrpSpPr/>
              <p:nvPr/>
            </p:nvGrpSpPr>
            <p:grpSpPr>
              <a:xfrm>
                <a:off x="2023920" y="3963960"/>
                <a:ext cx="137880" cy="147600"/>
                <a:chOff x="2023920" y="3963960"/>
                <a:chExt cx="137880" cy="147600"/>
              </a:xfrm>
            </p:grpSpPr>
            <p:sp>
              <p:nvSpPr>
                <p:cNvPr id="3058" name=""/>
                <p:cNvSpPr/>
                <p:nvPr/>
              </p:nvSpPr>
              <p:spPr>
                <a:xfrm>
                  <a:off x="2023920" y="396396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9" name=""/>
                <p:cNvSpPr/>
                <p:nvPr/>
              </p:nvSpPr>
              <p:spPr>
                <a:xfrm>
                  <a:off x="2071440" y="401652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0" name=""/>
              <p:cNvGrpSpPr/>
              <p:nvPr/>
            </p:nvGrpSpPr>
            <p:grpSpPr>
              <a:xfrm>
                <a:off x="2160360" y="3963960"/>
                <a:ext cx="137880" cy="147600"/>
                <a:chOff x="2160360" y="3963960"/>
                <a:chExt cx="137880" cy="147600"/>
              </a:xfrm>
            </p:grpSpPr>
            <p:sp>
              <p:nvSpPr>
                <p:cNvPr id="3061" name=""/>
                <p:cNvSpPr/>
                <p:nvPr/>
              </p:nvSpPr>
              <p:spPr>
                <a:xfrm>
                  <a:off x="2160360" y="396396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2" name=""/>
                <p:cNvSpPr/>
                <p:nvPr/>
              </p:nvSpPr>
              <p:spPr>
                <a:xfrm>
                  <a:off x="2207880" y="401652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3" name=""/>
              <p:cNvGrpSpPr/>
              <p:nvPr/>
            </p:nvGrpSpPr>
            <p:grpSpPr>
              <a:xfrm>
                <a:off x="2298600" y="3963960"/>
                <a:ext cx="137880" cy="147600"/>
                <a:chOff x="2298600" y="3963960"/>
                <a:chExt cx="137880" cy="147600"/>
              </a:xfrm>
            </p:grpSpPr>
            <p:sp>
              <p:nvSpPr>
                <p:cNvPr id="3064" name=""/>
                <p:cNvSpPr/>
                <p:nvPr/>
              </p:nvSpPr>
              <p:spPr>
                <a:xfrm>
                  <a:off x="2298600" y="396396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5" name=""/>
                <p:cNvSpPr/>
                <p:nvPr/>
              </p:nvSpPr>
              <p:spPr>
                <a:xfrm>
                  <a:off x="2346120" y="401652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6" name=""/>
              <p:cNvGrpSpPr/>
              <p:nvPr/>
            </p:nvGrpSpPr>
            <p:grpSpPr>
              <a:xfrm>
                <a:off x="2436480" y="3963960"/>
                <a:ext cx="137880" cy="147600"/>
                <a:chOff x="2436480" y="3963960"/>
                <a:chExt cx="137880" cy="147600"/>
              </a:xfrm>
            </p:grpSpPr>
            <p:sp>
              <p:nvSpPr>
                <p:cNvPr id="3067" name=""/>
                <p:cNvSpPr/>
                <p:nvPr/>
              </p:nvSpPr>
              <p:spPr>
                <a:xfrm>
                  <a:off x="2436480" y="396396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8" name=""/>
                <p:cNvSpPr/>
                <p:nvPr/>
              </p:nvSpPr>
              <p:spPr>
                <a:xfrm>
                  <a:off x="2484000" y="401652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9" name=""/>
              <p:cNvGrpSpPr/>
              <p:nvPr/>
            </p:nvGrpSpPr>
            <p:grpSpPr>
              <a:xfrm>
                <a:off x="2574720" y="3963960"/>
                <a:ext cx="137880" cy="147600"/>
                <a:chOff x="2574720" y="3963960"/>
                <a:chExt cx="137880" cy="147600"/>
              </a:xfrm>
            </p:grpSpPr>
            <p:sp>
              <p:nvSpPr>
                <p:cNvPr id="3070" name=""/>
                <p:cNvSpPr/>
                <p:nvPr/>
              </p:nvSpPr>
              <p:spPr>
                <a:xfrm>
                  <a:off x="2574720" y="396396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1" name=""/>
                <p:cNvSpPr/>
                <p:nvPr/>
              </p:nvSpPr>
              <p:spPr>
                <a:xfrm>
                  <a:off x="2622240" y="401652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2" name=""/>
              <p:cNvGrpSpPr/>
              <p:nvPr/>
            </p:nvGrpSpPr>
            <p:grpSpPr>
              <a:xfrm>
                <a:off x="2712960" y="3963960"/>
                <a:ext cx="137880" cy="147600"/>
                <a:chOff x="2712960" y="3963960"/>
                <a:chExt cx="137880" cy="147600"/>
              </a:xfrm>
            </p:grpSpPr>
            <p:sp>
              <p:nvSpPr>
                <p:cNvPr id="3073" name=""/>
                <p:cNvSpPr/>
                <p:nvPr/>
              </p:nvSpPr>
              <p:spPr>
                <a:xfrm>
                  <a:off x="2712960" y="396396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4" name=""/>
                <p:cNvSpPr/>
                <p:nvPr/>
              </p:nvSpPr>
              <p:spPr>
                <a:xfrm>
                  <a:off x="2760480" y="401652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5" name=""/>
              <p:cNvGrpSpPr/>
              <p:nvPr/>
            </p:nvGrpSpPr>
            <p:grpSpPr>
              <a:xfrm>
                <a:off x="2850840" y="3963960"/>
                <a:ext cx="137880" cy="147600"/>
                <a:chOff x="2850840" y="3963960"/>
                <a:chExt cx="137880" cy="147600"/>
              </a:xfrm>
            </p:grpSpPr>
            <p:sp>
              <p:nvSpPr>
                <p:cNvPr id="3076" name=""/>
                <p:cNvSpPr/>
                <p:nvPr/>
              </p:nvSpPr>
              <p:spPr>
                <a:xfrm>
                  <a:off x="2850840" y="396396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7" name=""/>
                <p:cNvSpPr/>
                <p:nvPr/>
              </p:nvSpPr>
              <p:spPr>
                <a:xfrm>
                  <a:off x="2898360" y="401652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8" name=""/>
              <p:cNvGrpSpPr/>
              <p:nvPr/>
            </p:nvGrpSpPr>
            <p:grpSpPr>
              <a:xfrm>
                <a:off x="2989080" y="3963960"/>
                <a:ext cx="137880" cy="147600"/>
                <a:chOff x="2989080" y="3963960"/>
                <a:chExt cx="137880" cy="147600"/>
              </a:xfrm>
            </p:grpSpPr>
            <p:sp>
              <p:nvSpPr>
                <p:cNvPr id="3079" name=""/>
                <p:cNvSpPr/>
                <p:nvPr/>
              </p:nvSpPr>
              <p:spPr>
                <a:xfrm>
                  <a:off x="2989080" y="396396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0" name=""/>
                <p:cNvSpPr/>
                <p:nvPr/>
              </p:nvSpPr>
              <p:spPr>
                <a:xfrm>
                  <a:off x="3036600" y="401652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1" name=""/>
              <p:cNvGrpSpPr/>
              <p:nvPr/>
            </p:nvGrpSpPr>
            <p:grpSpPr>
              <a:xfrm>
                <a:off x="3127320" y="3963960"/>
                <a:ext cx="137880" cy="147600"/>
                <a:chOff x="3127320" y="3963960"/>
                <a:chExt cx="137880" cy="147600"/>
              </a:xfrm>
            </p:grpSpPr>
            <p:sp>
              <p:nvSpPr>
                <p:cNvPr id="3082" name=""/>
                <p:cNvSpPr/>
                <p:nvPr/>
              </p:nvSpPr>
              <p:spPr>
                <a:xfrm>
                  <a:off x="3127320" y="396396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3" name=""/>
                <p:cNvSpPr/>
                <p:nvPr/>
              </p:nvSpPr>
              <p:spPr>
                <a:xfrm>
                  <a:off x="3174840" y="401652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4" name=""/>
              <p:cNvGrpSpPr/>
              <p:nvPr/>
            </p:nvGrpSpPr>
            <p:grpSpPr>
              <a:xfrm>
                <a:off x="3263760" y="3963960"/>
                <a:ext cx="137880" cy="147600"/>
                <a:chOff x="3263760" y="3963960"/>
                <a:chExt cx="137880" cy="147600"/>
              </a:xfrm>
            </p:grpSpPr>
            <p:sp>
              <p:nvSpPr>
                <p:cNvPr id="3085" name=""/>
                <p:cNvSpPr/>
                <p:nvPr/>
              </p:nvSpPr>
              <p:spPr>
                <a:xfrm>
                  <a:off x="3263760" y="3963960"/>
                  <a:ext cx="137880" cy="14760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6" name=""/>
                <p:cNvSpPr/>
                <p:nvPr/>
              </p:nvSpPr>
              <p:spPr>
                <a:xfrm>
                  <a:off x="3311280" y="4016520"/>
                  <a:ext cx="4284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3087" name=""/>
            <p:cNvCxnSpPr/>
            <p:nvPr/>
          </p:nvCxnSpPr>
          <p:spPr>
            <a:xfrm flipH="1" rot="16200000">
              <a:off x="1208520" y="4106520"/>
              <a:ext cx="361080" cy="253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088" name=""/>
            <p:cNvCxnSpPr/>
            <p:nvPr/>
          </p:nvCxnSpPr>
          <p:spPr>
            <a:xfrm flipH="1" rot="16200000">
              <a:off x="1346400" y="4106520"/>
              <a:ext cx="361080" cy="253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089" name=""/>
            <p:cNvCxnSpPr/>
            <p:nvPr/>
          </p:nvCxnSpPr>
          <p:spPr>
            <a:xfrm flipH="1" rot="16200000">
              <a:off x="1484640" y="4106520"/>
              <a:ext cx="361080" cy="253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090" name=""/>
            <p:cNvCxnSpPr/>
            <p:nvPr/>
          </p:nvCxnSpPr>
          <p:spPr>
            <a:xfrm flipH="1" rot="16200000">
              <a:off x="1622880" y="4106520"/>
              <a:ext cx="361080" cy="253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091" name=""/>
            <p:cNvCxnSpPr/>
            <p:nvPr/>
          </p:nvCxnSpPr>
          <p:spPr>
            <a:xfrm flipH="1" rot="16200000">
              <a:off x="1760760" y="4106520"/>
              <a:ext cx="361080" cy="253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092" name=""/>
            <p:cNvCxnSpPr/>
            <p:nvPr/>
          </p:nvCxnSpPr>
          <p:spPr>
            <a:xfrm flipH="1" rot="16200000">
              <a:off x="1899000" y="4106520"/>
              <a:ext cx="361080" cy="253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093" name=""/>
            <p:cNvCxnSpPr/>
            <p:nvPr/>
          </p:nvCxnSpPr>
          <p:spPr>
            <a:xfrm flipH="1" rot="16200000">
              <a:off x="2037240" y="4106520"/>
              <a:ext cx="361080" cy="253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094" name=""/>
            <p:cNvCxnSpPr/>
            <p:nvPr/>
          </p:nvCxnSpPr>
          <p:spPr>
            <a:xfrm flipH="1" rot="16200000">
              <a:off x="2175120" y="4106520"/>
              <a:ext cx="361080" cy="253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095" name=""/>
            <p:cNvCxnSpPr/>
            <p:nvPr/>
          </p:nvCxnSpPr>
          <p:spPr>
            <a:xfrm flipH="1" rot="16200000">
              <a:off x="2313360" y="4106520"/>
              <a:ext cx="361080" cy="253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096" name=""/>
            <p:cNvCxnSpPr/>
            <p:nvPr/>
          </p:nvCxnSpPr>
          <p:spPr>
            <a:xfrm flipH="1" rot="16200000">
              <a:off x="2452320" y="4106160"/>
              <a:ext cx="361080" cy="2534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097" name=""/>
            <p:cNvCxnSpPr/>
            <p:nvPr/>
          </p:nvCxnSpPr>
          <p:spPr>
            <a:xfrm flipH="1" rot="16200000">
              <a:off x="2589480" y="4106520"/>
              <a:ext cx="361080" cy="253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098" name=""/>
            <p:cNvCxnSpPr/>
            <p:nvPr/>
          </p:nvCxnSpPr>
          <p:spPr>
            <a:xfrm flipH="1" rot="16200000">
              <a:off x="2727720" y="4106520"/>
              <a:ext cx="361080" cy="253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099" name=""/>
            <p:cNvCxnSpPr/>
            <p:nvPr/>
          </p:nvCxnSpPr>
          <p:spPr>
            <a:xfrm flipH="1" rot="16200000">
              <a:off x="2866680" y="4106160"/>
              <a:ext cx="361080" cy="2534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100" name=""/>
            <p:cNvCxnSpPr/>
            <p:nvPr/>
          </p:nvCxnSpPr>
          <p:spPr>
            <a:xfrm flipH="1" rot="16200000">
              <a:off x="3003840" y="4106520"/>
              <a:ext cx="361080" cy="253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101" name=""/>
            <p:cNvCxnSpPr/>
            <p:nvPr/>
          </p:nvCxnSpPr>
          <p:spPr>
            <a:xfrm flipH="1" rot="16200000">
              <a:off x="3142080" y="4106520"/>
              <a:ext cx="361080" cy="253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102" name=""/>
            <p:cNvCxnSpPr/>
            <p:nvPr/>
          </p:nvCxnSpPr>
          <p:spPr>
            <a:xfrm flipH="1" rot="16200000">
              <a:off x="3278520" y="4106520"/>
              <a:ext cx="361080" cy="253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</p:grpSp>
      <p:grpSp>
        <p:nvGrpSpPr>
          <p:cNvPr id="3103" name=""/>
          <p:cNvGrpSpPr/>
          <p:nvPr/>
        </p:nvGrpSpPr>
        <p:grpSpPr>
          <a:xfrm>
            <a:off x="5429160" y="2697120"/>
            <a:ext cx="3271680" cy="1410840"/>
            <a:chOff x="5429160" y="2697120"/>
            <a:chExt cx="3271680" cy="1410840"/>
          </a:xfrm>
        </p:grpSpPr>
        <p:sp>
          <p:nvSpPr>
            <p:cNvPr id="3104" name=""/>
            <p:cNvSpPr/>
            <p:nvPr/>
          </p:nvSpPr>
          <p:spPr>
            <a:xfrm>
              <a:off x="5429160" y="2697120"/>
              <a:ext cx="417600" cy="14760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Toulous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5" name=""/>
            <p:cNvGrpSpPr/>
            <p:nvPr/>
          </p:nvGrpSpPr>
          <p:grpSpPr>
            <a:xfrm>
              <a:off x="5848200" y="2697120"/>
              <a:ext cx="138240" cy="147600"/>
              <a:chOff x="5848200" y="2697120"/>
              <a:chExt cx="138240" cy="147600"/>
            </a:xfrm>
          </p:grpSpPr>
          <p:sp>
            <p:nvSpPr>
              <p:cNvPr id="3106" name=""/>
              <p:cNvSpPr/>
              <p:nvPr/>
            </p:nvSpPr>
            <p:spPr>
              <a:xfrm>
                <a:off x="5848200" y="2697120"/>
                <a:ext cx="138240" cy="1476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5895720" y="2749680"/>
                <a:ext cx="42840" cy="42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8" name=""/>
            <p:cNvGrpSpPr/>
            <p:nvPr/>
          </p:nvGrpSpPr>
          <p:grpSpPr>
            <a:xfrm>
              <a:off x="6178320" y="2760480"/>
              <a:ext cx="957240" cy="448920"/>
              <a:chOff x="6178320" y="2760480"/>
              <a:chExt cx="957240" cy="448920"/>
            </a:xfrm>
          </p:grpSpPr>
          <p:grpSp>
            <p:nvGrpSpPr>
              <p:cNvPr id="3109" name=""/>
              <p:cNvGrpSpPr/>
              <p:nvPr/>
            </p:nvGrpSpPr>
            <p:grpSpPr>
              <a:xfrm>
                <a:off x="6178320" y="2760480"/>
                <a:ext cx="957240" cy="147240"/>
                <a:chOff x="6178320" y="2760480"/>
                <a:chExt cx="957240" cy="147240"/>
              </a:xfrm>
            </p:grpSpPr>
            <p:grpSp>
              <p:nvGrpSpPr>
                <p:cNvPr id="3110" name=""/>
                <p:cNvGrpSpPr/>
                <p:nvPr/>
              </p:nvGrpSpPr>
              <p:grpSpPr>
                <a:xfrm>
                  <a:off x="6178320" y="2760480"/>
                  <a:ext cx="137880" cy="147240"/>
                  <a:chOff x="6178320" y="2760480"/>
                  <a:chExt cx="137880" cy="147240"/>
                </a:xfrm>
              </p:grpSpPr>
              <p:sp>
                <p:nvSpPr>
                  <p:cNvPr id="3111" name=""/>
                  <p:cNvSpPr/>
                  <p:nvPr/>
                </p:nvSpPr>
                <p:spPr>
                  <a:xfrm>
                    <a:off x="6178320" y="2760480"/>
                    <a:ext cx="137880" cy="14724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2" name=""/>
                  <p:cNvSpPr/>
                  <p:nvPr/>
                </p:nvSpPr>
                <p:spPr>
                  <a:xfrm>
                    <a:off x="6225840" y="2813040"/>
                    <a:ext cx="42840" cy="41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13" name=""/>
                <p:cNvGrpSpPr/>
                <p:nvPr/>
              </p:nvGrpSpPr>
              <p:grpSpPr>
                <a:xfrm>
                  <a:off x="6316560" y="2760480"/>
                  <a:ext cx="137880" cy="147240"/>
                  <a:chOff x="6316560" y="2760480"/>
                  <a:chExt cx="137880" cy="147240"/>
                </a:xfrm>
              </p:grpSpPr>
              <p:sp>
                <p:nvSpPr>
                  <p:cNvPr id="3114" name=""/>
                  <p:cNvSpPr/>
                  <p:nvPr/>
                </p:nvSpPr>
                <p:spPr>
                  <a:xfrm>
                    <a:off x="6316560" y="2760480"/>
                    <a:ext cx="137880" cy="14724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5" name=""/>
                  <p:cNvSpPr/>
                  <p:nvPr/>
                </p:nvSpPr>
                <p:spPr>
                  <a:xfrm>
                    <a:off x="6364080" y="2813040"/>
                    <a:ext cx="42840" cy="41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16" name=""/>
                <p:cNvGrpSpPr/>
                <p:nvPr/>
              </p:nvGrpSpPr>
              <p:grpSpPr>
                <a:xfrm>
                  <a:off x="6453000" y="2760480"/>
                  <a:ext cx="137880" cy="147240"/>
                  <a:chOff x="6453000" y="2760480"/>
                  <a:chExt cx="137880" cy="147240"/>
                </a:xfrm>
              </p:grpSpPr>
              <p:sp>
                <p:nvSpPr>
                  <p:cNvPr id="3117" name=""/>
                  <p:cNvSpPr/>
                  <p:nvPr/>
                </p:nvSpPr>
                <p:spPr>
                  <a:xfrm>
                    <a:off x="6453000" y="2760480"/>
                    <a:ext cx="137880" cy="14724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8" name=""/>
                  <p:cNvSpPr/>
                  <p:nvPr/>
                </p:nvSpPr>
                <p:spPr>
                  <a:xfrm>
                    <a:off x="6500520" y="2813040"/>
                    <a:ext cx="42840" cy="41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19" name=""/>
                <p:cNvGrpSpPr/>
                <p:nvPr/>
              </p:nvGrpSpPr>
              <p:grpSpPr>
                <a:xfrm>
                  <a:off x="6589440" y="2760480"/>
                  <a:ext cx="137880" cy="147240"/>
                  <a:chOff x="6589440" y="2760480"/>
                  <a:chExt cx="137880" cy="147240"/>
                </a:xfrm>
              </p:grpSpPr>
              <p:sp>
                <p:nvSpPr>
                  <p:cNvPr id="3120" name=""/>
                  <p:cNvSpPr/>
                  <p:nvPr/>
                </p:nvSpPr>
                <p:spPr>
                  <a:xfrm>
                    <a:off x="6589440" y="2760480"/>
                    <a:ext cx="137880" cy="14724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1" name=""/>
                  <p:cNvSpPr/>
                  <p:nvPr/>
                </p:nvSpPr>
                <p:spPr>
                  <a:xfrm>
                    <a:off x="6636960" y="2813040"/>
                    <a:ext cx="42840" cy="41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22" name=""/>
                <p:cNvGrpSpPr/>
                <p:nvPr/>
              </p:nvGrpSpPr>
              <p:grpSpPr>
                <a:xfrm>
                  <a:off x="6727680" y="2760480"/>
                  <a:ext cx="137880" cy="147240"/>
                  <a:chOff x="6727680" y="2760480"/>
                  <a:chExt cx="137880" cy="147240"/>
                </a:xfrm>
              </p:grpSpPr>
              <p:sp>
                <p:nvSpPr>
                  <p:cNvPr id="3123" name=""/>
                  <p:cNvSpPr/>
                  <p:nvPr/>
                </p:nvSpPr>
                <p:spPr>
                  <a:xfrm>
                    <a:off x="6727680" y="2760480"/>
                    <a:ext cx="137880" cy="14724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4" name=""/>
                  <p:cNvSpPr/>
                  <p:nvPr/>
                </p:nvSpPr>
                <p:spPr>
                  <a:xfrm>
                    <a:off x="6775200" y="2813040"/>
                    <a:ext cx="42840" cy="41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25" name=""/>
                <p:cNvSpPr/>
                <p:nvPr/>
              </p:nvSpPr>
              <p:spPr>
                <a:xfrm>
                  <a:off x="6864120" y="2760480"/>
                  <a:ext cx="138240" cy="14724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26" name=""/>
                <p:cNvGrpSpPr/>
                <p:nvPr/>
              </p:nvGrpSpPr>
              <p:grpSpPr>
                <a:xfrm>
                  <a:off x="6997680" y="2760480"/>
                  <a:ext cx="137880" cy="147240"/>
                  <a:chOff x="6997680" y="2760480"/>
                  <a:chExt cx="137880" cy="147240"/>
                </a:xfrm>
              </p:grpSpPr>
              <p:sp>
                <p:nvSpPr>
                  <p:cNvPr id="3127" name=""/>
                  <p:cNvSpPr/>
                  <p:nvPr/>
                </p:nvSpPr>
                <p:spPr>
                  <a:xfrm>
                    <a:off x="6997680" y="2760480"/>
                    <a:ext cx="137880" cy="147240"/>
                  </a:xfrm>
                  <a:prstGeom prst="rect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8" name=""/>
                  <p:cNvSpPr/>
                  <p:nvPr/>
                </p:nvSpPr>
                <p:spPr>
                  <a:xfrm>
                    <a:off x="7044840" y="2812680"/>
                    <a:ext cx="42480" cy="424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cxnSp>
            <p:nvCxnSpPr>
              <p:cNvPr id="3129" name=""/>
              <p:cNvCxnSpPr/>
              <p:nvPr/>
            </p:nvCxnSpPr>
            <p:spPr>
              <a:xfrm flipH="1" rot="16200000">
                <a:off x="6193440" y="2902680"/>
                <a:ext cx="360720" cy="25308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  <p:cxnSp>
            <p:nvCxnSpPr>
              <p:cNvPr id="3130" name=""/>
              <p:cNvCxnSpPr/>
              <p:nvPr/>
            </p:nvCxnSpPr>
            <p:spPr>
              <a:xfrm flipH="1" rot="16200000">
                <a:off x="6331680" y="2902680"/>
                <a:ext cx="360720" cy="25308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  <p:cxnSp>
            <p:nvCxnSpPr>
              <p:cNvPr id="3131" name=""/>
              <p:cNvCxnSpPr/>
              <p:nvPr/>
            </p:nvCxnSpPr>
            <p:spPr>
              <a:xfrm flipH="1" rot="16200000">
                <a:off x="6469920" y="2902680"/>
                <a:ext cx="360720" cy="25308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  <p:cxnSp>
            <p:nvCxnSpPr>
              <p:cNvPr id="3132" name=""/>
              <p:cNvCxnSpPr/>
              <p:nvPr/>
            </p:nvCxnSpPr>
            <p:spPr>
              <a:xfrm flipH="1" rot="16200000">
                <a:off x="6607800" y="2902680"/>
                <a:ext cx="360720" cy="25308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  <p:cxnSp>
            <p:nvCxnSpPr>
              <p:cNvPr id="3133" name=""/>
              <p:cNvCxnSpPr/>
              <p:nvPr/>
            </p:nvCxnSpPr>
            <p:spPr>
              <a:xfrm flipH="1" rot="16200000">
                <a:off x="6746040" y="2902680"/>
                <a:ext cx="360720" cy="25308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</p:grpSp>
        <p:grpSp>
          <p:nvGrpSpPr>
            <p:cNvPr id="3134" name=""/>
            <p:cNvGrpSpPr/>
            <p:nvPr/>
          </p:nvGrpSpPr>
          <p:grpSpPr>
            <a:xfrm>
              <a:off x="6435720" y="3652560"/>
              <a:ext cx="1011600" cy="448920"/>
              <a:chOff x="6435720" y="3652560"/>
              <a:chExt cx="1011600" cy="448920"/>
            </a:xfrm>
          </p:grpSpPr>
          <p:grpSp>
            <p:nvGrpSpPr>
              <p:cNvPr id="3135" name=""/>
              <p:cNvGrpSpPr/>
              <p:nvPr/>
            </p:nvGrpSpPr>
            <p:grpSpPr>
              <a:xfrm>
                <a:off x="6435720" y="3652560"/>
                <a:ext cx="963360" cy="147240"/>
                <a:chOff x="6435720" y="3652560"/>
                <a:chExt cx="963360" cy="147240"/>
              </a:xfrm>
            </p:grpSpPr>
            <p:grpSp>
              <p:nvGrpSpPr>
                <p:cNvPr id="3136" name=""/>
                <p:cNvGrpSpPr/>
                <p:nvPr/>
              </p:nvGrpSpPr>
              <p:grpSpPr>
                <a:xfrm>
                  <a:off x="6435720" y="3652560"/>
                  <a:ext cx="137880" cy="147240"/>
                  <a:chOff x="6435720" y="3652560"/>
                  <a:chExt cx="137880" cy="147240"/>
                </a:xfrm>
              </p:grpSpPr>
              <p:sp>
                <p:nvSpPr>
                  <p:cNvPr id="3137" name=""/>
                  <p:cNvSpPr/>
                  <p:nvPr/>
                </p:nvSpPr>
                <p:spPr>
                  <a:xfrm>
                    <a:off x="6435720" y="3652560"/>
                    <a:ext cx="137880" cy="14724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8" name=""/>
                  <p:cNvSpPr/>
                  <p:nvPr/>
                </p:nvSpPr>
                <p:spPr>
                  <a:xfrm>
                    <a:off x="6483240" y="3705120"/>
                    <a:ext cx="42840" cy="41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39" name=""/>
                <p:cNvGrpSpPr/>
                <p:nvPr/>
              </p:nvGrpSpPr>
              <p:grpSpPr>
                <a:xfrm>
                  <a:off x="6573600" y="3652560"/>
                  <a:ext cx="137880" cy="147240"/>
                  <a:chOff x="6573600" y="3652560"/>
                  <a:chExt cx="137880" cy="147240"/>
                </a:xfrm>
              </p:grpSpPr>
              <p:sp>
                <p:nvSpPr>
                  <p:cNvPr id="3140" name=""/>
                  <p:cNvSpPr/>
                  <p:nvPr/>
                </p:nvSpPr>
                <p:spPr>
                  <a:xfrm>
                    <a:off x="6573600" y="3652560"/>
                    <a:ext cx="137880" cy="14724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1" name=""/>
                  <p:cNvSpPr/>
                  <p:nvPr/>
                </p:nvSpPr>
                <p:spPr>
                  <a:xfrm>
                    <a:off x="6621120" y="3705120"/>
                    <a:ext cx="42840" cy="41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42" name=""/>
                <p:cNvGrpSpPr/>
                <p:nvPr/>
              </p:nvGrpSpPr>
              <p:grpSpPr>
                <a:xfrm>
                  <a:off x="6711840" y="3652560"/>
                  <a:ext cx="137880" cy="147240"/>
                  <a:chOff x="6711840" y="3652560"/>
                  <a:chExt cx="137880" cy="147240"/>
                </a:xfrm>
              </p:grpSpPr>
              <p:sp>
                <p:nvSpPr>
                  <p:cNvPr id="3143" name=""/>
                  <p:cNvSpPr/>
                  <p:nvPr/>
                </p:nvSpPr>
                <p:spPr>
                  <a:xfrm>
                    <a:off x="6711840" y="3652560"/>
                    <a:ext cx="137880" cy="14724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4" name=""/>
                  <p:cNvSpPr/>
                  <p:nvPr/>
                </p:nvSpPr>
                <p:spPr>
                  <a:xfrm>
                    <a:off x="6759360" y="3705120"/>
                    <a:ext cx="42840" cy="41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45" name=""/>
                <p:cNvGrpSpPr/>
                <p:nvPr/>
              </p:nvGrpSpPr>
              <p:grpSpPr>
                <a:xfrm>
                  <a:off x="6848280" y="3652560"/>
                  <a:ext cx="137880" cy="147240"/>
                  <a:chOff x="6848280" y="3652560"/>
                  <a:chExt cx="137880" cy="147240"/>
                </a:xfrm>
              </p:grpSpPr>
              <p:sp>
                <p:nvSpPr>
                  <p:cNvPr id="3146" name=""/>
                  <p:cNvSpPr/>
                  <p:nvPr/>
                </p:nvSpPr>
                <p:spPr>
                  <a:xfrm>
                    <a:off x="6848280" y="3652560"/>
                    <a:ext cx="137880" cy="14724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7" name=""/>
                  <p:cNvSpPr/>
                  <p:nvPr/>
                </p:nvSpPr>
                <p:spPr>
                  <a:xfrm>
                    <a:off x="6895800" y="3705120"/>
                    <a:ext cx="42840" cy="41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48" name=""/>
                <p:cNvGrpSpPr/>
                <p:nvPr/>
              </p:nvGrpSpPr>
              <p:grpSpPr>
                <a:xfrm>
                  <a:off x="6986520" y="3652560"/>
                  <a:ext cx="137880" cy="147240"/>
                  <a:chOff x="6986520" y="3652560"/>
                  <a:chExt cx="137880" cy="147240"/>
                </a:xfrm>
              </p:grpSpPr>
              <p:sp>
                <p:nvSpPr>
                  <p:cNvPr id="3149" name=""/>
                  <p:cNvSpPr/>
                  <p:nvPr/>
                </p:nvSpPr>
                <p:spPr>
                  <a:xfrm>
                    <a:off x="6986520" y="3652560"/>
                    <a:ext cx="137880" cy="14724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0" name=""/>
                  <p:cNvSpPr/>
                  <p:nvPr/>
                </p:nvSpPr>
                <p:spPr>
                  <a:xfrm>
                    <a:off x="7034040" y="3705120"/>
                    <a:ext cx="42840" cy="41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51" name=""/>
                <p:cNvGrpSpPr/>
                <p:nvPr/>
              </p:nvGrpSpPr>
              <p:grpSpPr>
                <a:xfrm>
                  <a:off x="7124400" y="3652560"/>
                  <a:ext cx="137880" cy="147240"/>
                  <a:chOff x="7124400" y="3652560"/>
                  <a:chExt cx="137880" cy="147240"/>
                </a:xfrm>
              </p:grpSpPr>
              <p:sp>
                <p:nvSpPr>
                  <p:cNvPr id="3152" name=""/>
                  <p:cNvSpPr/>
                  <p:nvPr/>
                </p:nvSpPr>
                <p:spPr>
                  <a:xfrm>
                    <a:off x="7124400" y="3652560"/>
                    <a:ext cx="137880" cy="14724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3" name=""/>
                  <p:cNvSpPr/>
                  <p:nvPr/>
                </p:nvSpPr>
                <p:spPr>
                  <a:xfrm>
                    <a:off x="7171920" y="3705120"/>
                    <a:ext cx="42840" cy="41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54" name=""/>
                <p:cNvGrpSpPr/>
                <p:nvPr/>
              </p:nvGrpSpPr>
              <p:grpSpPr>
                <a:xfrm>
                  <a:off x="7261200" y="3652560"/>
                  <a:ext cx="137880" cy="147240"/>
                  <a:chOff x="7261200" y="3652560"/>
                  <a:chExt cx="137880" cy="147240"/>
                </a:xfrm>
              </p:grpSpPr>
              <p:sp>
                <p:nvSpPr>
                  <p:cNvPr id="3155" name=""/>
                  <p:cNvSpPr/>
                  <p:nvPr/>
                </p:nvSpPr>
                <p:spPr>
                  <a:xfrm>
                    <a:off x="7261200" y="3652560"/>
                    <a:ext cx="137880" cy="147240"/>
                  </a:xfrm>
                  <a:prstGeom prst="rect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6" name=""/>
                  <p:cNvSpPr/>
                  <p:nvPr/>
                </p:nvSpPr>
                <p:spPr>
                  <a:xfrm>
                    <a:off x="7308360" y="3704760"/>
                    <a:ext cx="42480" cy="424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cxnSp>
            <p:nvCxnSpPr>
              <p:cNvPr id="3157" name=""/>
              <p:cNvCxnSpPr/>
              <p:nvPr/>
            </p:nvCxnSpPr>
            <p:spPr>
              <a:xfrm flipH="1" rot="16200000">
                <a:off x="6449040" y="3794760"/>
                <a:ext cx="360720" cy="25308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  <p:cxnSp>
            <p:nvCxnSpPr>
              <p:cNvPr id="3158" name=""/>
              <p:cNvCxnSpPr/>
              <p:nvPr/>
            </p:nvCxnSpPr>
            <p:spPr>
              <a:xfrm flipH="1" rot="16200000">
                <a:off x="6587280" y="3794760"/>
                <a:ext cx="360720" cy="25308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  <p:cxnSp>
            <p:nvCxnSpPr>
              <p:cNvPr id="3159" name=""/>
              <p:cNvCxnSpPr/>
              <p:nvPr/>
            </p:nvCxnSpPr>
            <p:spPr>
              <a:xfrm flipH="1" rot="16200000">
                <a:off x="6726240" y="3794400"/>
                <a:ext cx="360720" cy="25344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  <p:cxnSp>
            <p:nvCxnSpPr>
              <p:cNvPr id="3160" name=""/>
              <p:cNvCxnSpPr/>
              <p:nvPr/>
            </p:nvCxnSpPr>
            <p:spPr>
              <a:xfrm flipH="1" rot="16200000">
                <a:off x="6863400" y="3794760"/>
                <a:ext cx="360720" cy="25308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  <p:cxnSp>
            <p:nvCxnSpPr>
              <p:cNvPr id="3161" name=""/>
              <p:cNvCxnSpPr/>
              <p:nvPr/>
            </p:nvCxnSpPr>
            <p:spPr>
              <a:xfrm flipH="1" rot="16200000">
                <a:off x="7001640" y="3794760"/>
                <a:ext cx="360720" cy="25308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  <p:cxnSp>
            <p:nvCxnSpPr>
              <p:cNvPr id="3162" name=""/>
              <p:cNvCxnSpPr/>
              <p:nvPr/>
            </p:nvCxnSpPr>
            <p:spPr>
              <a:xfrm flipH="1" rot="16200000">
                <a:off x="7140600" y="3794400"/>
                <a:ext cx="360720" cy="25344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</p:grpSp>
        <p:grpSp>
          <p:nvGrpSpPr>
            <p:cNvPr id="3163" name=""/>
            <p:cNvGrpSpPr/>
            <p:nvPr/>
          </p:nvGrpSpPr>
          <p:grpSpPr>
            <a:xfrm>
              <a:off x="7327800" y="2763720"/>
              <a:ext cx="960480" cy="448920"/>
              <a:chOff x="7327800" y="2763720"/>
              <a:chExt cx="960480" cy="448920"/>
            </a:xfrm>
          </p:grpSpPr>
          <p:grpSp>
            <p:nvGrpSpPr>
              <p:cNvPr id="3164" name=""/>
              <p:cNvGrpSpPr/>
              <p:nvPr/>
            </p:nvGrpSpPr>
            <p:grpSpPr>
              <a:xfrm>
                <a:off x="7327800" y="2763720"/>
                <a:ext cx="960480" cy="147240"/>
                <a:chOff x="7327800" y="2763720"/>
                <a:chExt cx="960480" cy="147240"/>
              </a:xfrm>
            </p:grpSpPr>
            <p:grpSp>
              <p:nvGrpSpPr>
                <p:cNvPr id="3165" name=""/>
                <p:cNvGrpSpPr/>
                <p:nvPr/>
              </p:nvGrpSpPr>
              <p:grpSpPr>
                <a:xfrm>
                  <a:off x="7327800" y="2763720"/>
                  <a:ext cx="137880" cy="147240"/>
                  <a:chOff x="7327800" y="2763720"/>
                  <a:chExt cx="137880" cy="147240"/>
                </a:xfrm>
              </p:grpSpPr>
              <p:sp>
                <p:nvSpPr>
                  <p:cNvPr id="3166" name=""/>
                  <p:cNvSpPr/>
                  <p:nvPr/>
                </p:nvSpPr>
                <p:spPr>
                  <a:xfrm>
                    <a:off x="7327800" y="2763720"/>
                    <a:ext cx="137880" cy="14724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7" name=""/>
                  <p:cNvSpPr/>
                  <p:nvPr/>
                </p:nvSpPr>
                <p:spPr>
                  <a:xfrm>
                    <a:off x="7375320" y="2816280"/>
                    <a:ext cx="42840" cy="41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68" name=""/>
                <p:cNvGrpSpPr/>
                <p:nvPr/>
              </p:nvGrpSpPr>
              <p:grpSpPr>
                <a:xfrm>
                  <a:off x="7465680" y="2763720"/>
                  <a:ext cx="137880" cy="147240"/>
                  <a:chOff x="7465680" y="2763720"/>
                  <a:chExt cx="137880" cy="147240"/>
                </a:xfrm>
              </p:grpSpPr>
              <p:sp>
                <p:nvSpPr>
                  <p:cNvPr id="3169" name=""/>
                  <p:cNvSpPr/>
                  <p:nvPr/>
                </p:nvSpPr>
                <p:spPr>
                  <a:xfrm>
                    <a:off x="7465680" y="2763720"/>
                    <a:ext cx="137880" cy="14724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0" name=""/>
                  <p:cNvSpPr/>
                  <p:nvPr/>
                </p:nvSpPr>
                <p:spPr>
                  <a:xfrm>
                    <a:off x="7513200" y="2816280"/>
                    <a:ext cx="42840" cy="41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71" name=""/>
                <p:cNvGrpSpPr/>
                <p:nvPr/>
              </p:nvGrpSpPr>
              <p:grpSpPr>
                <a:xfrm>
                  <a:off x="7602480" y="2763720"/>
                  <a:ext cx="137880" cy="147240"/>
                  <a:chOff x="7602480" y="2763720"/>
                  <a:chExt cx="137880" cy="147240"/>
                </a:xfrm>
              </p:grpSpPr>
              <p:sp>
                <p:nvSpPr>
                  <p:cNvPr id="3172" name=""/>
                  <p:cNvSpPr/>
                  <p:nvPr/>
                </p:nvSpPr>
                <p:spPr>
                  <a:xfrm>
                    <a:off x="7602480" y="2763720"/>
                    <a:ext cx="137880" cy="14724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3" name=""/>
                  <p:cNvSpPr/>
                  <p:nvPr/>
                </p:nvSpPr>
                <p:spPr>
                  <a:xfrm>
                    <a:off x="7650000" y="2816280"/>
                    <a:ext cx="42840" cy="41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74" name=""/>
                <p:cNvSpPr/>
                <p:nvPr/>
              </p:nvSpPr>
              <p:spPr>
                <a:xfrm>
                  <a:off x="7740360" y="2763720"/>
                  <a:ext cx="138240" cy="14724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5" name=""/>
                <p:cNvSpPr/>
                <p:nvPr/>
              </p:nvSpPr>
              <p:spPr>
                <a:xfrm>
                  <a:off x="7877160" y="2763720"/>
                  <a:ext cx="137880" cy="14724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6" name=""/>
                <p:cNvSpPr/>
                <p:nvPr/>
              </p:nvSpPr>
              <p:spPr>
                <a:xfrm>
                  <a:off x="8013600" y="2763720"/>
                  <a:ext cx="137880" cy="14724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77" name=""/>
                <p:cNvGrpSpPr/>
                <p:nvPr/>
              </p:nvGrpSpPr>
              <p:grpSpPr>
                <a:xfrm>
                  <a:off x="8150040" y="2763720"/>
                  <a:ext cx="138240" cy="147240"/>
                  <a:chOff x="8150040" y="2763720"/>
                  <a:chExt cx="138240" cy="147240"/>
                </a:xfrm>
              </p:grpSpPr>
              <p:sp>
                <p:nvSpPr>
                  <p:cNvPr id="3178" name=""/>
                  <p:cNvSpPr/>
                  <p:nvPr/>
                </p:nvSpPr>
                <p:spPr>
                  <a:xfrm>
                    <a:off x="8150040" y="2763720"/>
                    <a:ext cx="138240" cy="147240"/>
                  </a:xfrm>
                  <a:prstGeom prst="rect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9" name=""/>
                  <p:cNvSpPr/>
                  <p:nvPr/>
                </p:nvSpPr>
                <p:spPr>
                  <a:xfrm>
                    <a:off x="8197560" y="2815920"/>
                    <a:ext cx="42840" cy="424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cxnSp>
            <p:nvCxnSpPr>
              <p:cNvPr id="3180" name=""/>
              <p:cNvCxnSpPr/>
              <p:nvPr/>
            </p:nvCxnSpPr>
            <p:spPr>
              <a:xfrm flipH="1" rot="16200000">
                <a:off x="7344360" y="2905920"/>
                <a:ext cx="360720" cy="25308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  <p:cxnSp>
            <p:nvCxnSpPr>
              <p:cNvPr id="3181" name=""/>
              <p:cNvCxnSpPr/>
              <p:nvPr/>
            </p:nvCxnSpPr>
            <p:spPr>
              <a:xfrm flipH="1" rot="16200000">
                <a:off x="7482600" y="2905920"/>
                <a:ext cx="360720" cy="25308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  <p:cxnSp>
            <p:nvCxnSpPr>
              <p:cNvPr id="3182" name=""/>
              <p:cNvCxnSpPr/>
              <p:nvPr/>
            </p:nvCxnSpPr>
            <p:spPr>
              <a:xfrm flipH="1" rot="16200000">
                <a:off x="7620840" y="2905920"/>
                <a:ext cx="360720" cy="25308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</p:grpSp>
        <p:grpSp>
          <p:nvGrpSpPr>
            <p:cNvPr id="3183" name=""/>
            <p:cNvGrpSpPr/>
            <p:nvPr/>
          </p:nvGrpSpPr>
          <p:grpSpPr>
            <a:xfrm>
              <a:off x="7742160" y="3655800"/>
              <a:ext cx="958680" cy="452160"/>
              <a:chOff x="7742160" y="3655800"/>
              <a:chExt cx="958680" cy="452160"/>
            </a:xfrm>
          </p:grpSpPr>
          <p:grpSp>
            <p:nvGrpSpPr>
              <p:cNvPr id="3184" name=""/>
              <p:cNvGrpSpPr/>
              <p:nvPr/>
            </p:nvGrpSpPr>
            <p:grpSpPr>
              <a:xfrm>
                <a:off x="7742160" y="3655800"/>
                <a:ext cx="958680" cy="147240"/>
                <a:chOff x="7742160" y="3655800"/>
                <a:chExt cx="958680" cy="147240"/>
              </a:xfrm>
            </p:grpSpPr>
            <p:grpSp>
              <p:nvGrpSpPr>
                <p:cNvPr id="3185" name=""/>
                <p:cNvGrpSpPr/>
                <p:nvPr/>
              </p:nvGrpSpPr>
              <p:grpSpPr>
                <a:xfrm>
                  <a:off x="7742160" y="3655800"/>
                  <a:ext cx="137880" cy="147240"/>
                  <a:chOff x="7742160" y="3655800"/>
                  <a:chExt cx="137880" cy="147240"/>
                </a:xfrm>
              </p:grpSpPr>
              <p:sp>
                <p:nvSpPr>
                  <p:cNvPr id="3186" name=""/>
                  <p:cNvSpPr/>
                  <p:nvPr/>
                </p:nvSpPr>
                <p:spPr>
                  <a:xfrm>
                    <a:off x="7742160" y="3655800"/>
                    <a:ext cx="137880" cy="14724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7" name=""/>
                  <p:cNvSpPr/>
                  <p:nvPr/>
                </p:nvSpPr>
                <p:spPr>
                  <a:xfrm>
                    <a:off x="7789680" y="3708360"/>
                    <a:ext cx="42840" cy="41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88" name=""/>
                <p:cNvGrpSpPr/>
                <p:nvPr/>
              </p:nvGrpSpPr>
              <p:grpSpPr>
                <a:xfrm>
                  <a:off x="7880040" y="3655800"/>
                  <a:ext cx="137880" cy="147240"/>
                  <a:chOff x="7880040" y="3655800"/>
                  <a:chExt cx="137880" cy="147240"/>
                </a:xfrm>
              </p:grpSpPr>
              <p:sp>
                <p:nvSpPr>
                  <p:cNvPr id="3189" name=""/>
                  <p:cNvSpPr/>
                  <p:nvPr/>
                </p:nvSpPr>
                <p:spPr>
                  <a:xfrm>
                    <a:off x="7880040" y="3655800"/>
                    <a:ext cx="137880" cy="14724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0" name=""/>
                  <p:cNvSpPr/>
                  <p:nvPr/>
                </p:nvSpPr>
                <p:spPr>
                  <a:xfrm>
                    <a:off x="7927560" y="3708360"/>
                    <a:ext cx="42840" cy="41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91" name=""/>
                <p:cNvGrpSpPr/>
                <p:nvPr/>
              </p:nvGrpSpPr>
              <p:grpSpPr>
                <a:xfrm>
                  <a:off x="8016840" y="3655800"/>
                  <a:ext cx="137880" cy="147240"/>
                  <a:chOff x="8016840" y="3655800"/>
                  <a:chExt cx="137880" cy="147240"/>
                </a:xfrm>
              </p:grpSpPr>
              <p:sp>
                <p:nvSpPr>
                  <p:cNvPr id="3192" name=""/>
                  <p:cNvSpPr/>
                  <p:nvPr/>
                </p:nvSpPr>
                <p:spPr>
                  <a:xfrm>
                    <a:off x="8016840" y="3655800"/>
                    <a:ext cx="137880" cy="14724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3" name=""/>
                  <p:cNvSpPr/>
                  <p:nvPr/>
                </p:nvSpPr>
                <p:spPr>
                  <a:xfrm>
                    <a:off x="8064360" y="3708360"/>
                    <a:ext cx="42840" cy="41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94" name=""/>
                <p:cNvGrpSpPr/>
                <p:nvPr/>
              </p:nvGrpSpPr>
              <p:grpSpPr>
                <a:xfrm>
                  <a:off x="8153280" y="3655800"/>
                  <a:ext cx="137880" cy="147240"/>
                  <a:chOff x="8153280" y="3655800"/>
                  <a:chExt cx="137880" cy="147240"/>
                </a:xfrm>
              </p:grpSpPr>
              <p:sp>
                <p:nvSpPr>
                  <p:cNvPr id="3195" name=""/>
                  <p:cNvSpPr/>
                  <p:nvPr/>
                </p:nvSpPr>
                <p:spPr>
                  <a:xfrm>
                    <a:off x="8153280" y="3655800"/>
                    <a:ext cx="137880" cy="14724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6" name=""/>
                  <p:cNvSpPr/>
                  <p:nvPr/>
                </p:nvSpPr>
                <p:spPr>
                  <a:xfrm>
                    <a:off x="8200800" y="3708360"/>
                    <a:ext cx="42840" cy="41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97" name=""/>
                <p:cNvGrpSpPr/>
                <p:nvPr/>
              </p:nvGrpSpPr>
              <p:grpSpPr>
                <a:xfrm>
                  <a:off x="8562960" y="3655800"/>
                  <a:ext cx="137880" cy="147240"/>
                  <a:chOff x="8562960" y="3655800"/>
                  <a:chExt cx="137880" cy="147240"/>
                </a:xfrm>
              </p:grpSpPr>
              <p:sp>
                <p:nvSpPr>
                  <p:cNvPr id="3198" name=""/>
                  <p:cNvSpPr/>
                  <p:nvPr/>
                </p:nvSpPr>
                <p:spPr>
                  <a:xfrm>
                    <a:off x="8562960" y="3655800"/>
                    <a:ext cx="137880" cy="147240"/>
                  </a:xfrm>
                  <a:prstGeom prst="rect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9" name=""/>
                  <p:cNvSpPr/>
                  <p:nvPr/>
                </p:nvSpPr>
                <p:spPr>
                  <a:xfrm>
                    <a:off x="8610480" y="3708000"/>
                    <a:ext cx="42480" cy="42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00" name=""/>
                <p:cNvSpPr/>
                <p:nvPr/>
              </p:nvSpPr>
              <p:spPr>
                <a:xfrm>
                  <a:off x="8289720" y="3655800"/>
                  <a:ext cx="138240" cy="14724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1" name=""/>
                <p:cNvSpPr/>
                <p:nvPr/>
              </p:nvSpPr>
              <p:spPr>
                <a:xfrm>
                  <a:off x="8426160" y="3655800"/>
                  <a:ext cx="138240" cy="147240"/>
                </a:xfrm>
                <a:prstGeom prst="rect">
                  <a:avLst/>
                </a:prstGeom>
                <a:solidFill>
                  <a:srgbClr val="cccc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202" name=""/>
              <p:cNvCxnSpPr/>
              <p:nvPr/>
            </p:nvCxnSpPr>
            <p:spPr>
              <a:xfrm flipH="1" rot="16200000">
                <a:off x="7758720" y="3801240"/>
                <a:ext cx="360720" cy="25308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  <p:cxnSp>
            <p:nvCxnSpPr>
              <p:cNvPr id="3203" name=""/>
              <p:cNvCxnSpPr/>
              <p:nvPr/>
            </p:nvCxnSpPr>
            <p:spPr>
              <a:xfrm flipH="1" rot="16200000">
                <a:off x="7896960" y="3801240"/>
                <a:ext cx="360720" cy="25308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  <p:cxnSp>
            <p:nvCxnSpPr>
              <p:cNvPr id="3204" name=""/>
              <p:cNvCxnSpPr/>
              <p:nvPr/>
            </p:nvCxnSpPr>
            <p:spPr>
              <a:xfrm flipH="1" rot="16200000">
                <a:off x="8031960" y="3801240"/>
                <a:ext cx="360720" cy="25308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  <p:cxnSp>
            <p:nvCxnSpPr>
              <p:cNvPr id="3205" name=""/>
              <p:cNvCxnSpPr/>
              <p:nvPr/>
            </p:nvCxnSpPr>
            <p:spPr>
              <a:xfrm flipH="1" rot="16200000">
                <a:off x="8165160" y="3801240"/>
                <a:ext cx="360720" cy="25308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</p:cxnSp>
        </p:grpSp>
        <p:cxnSp>
          <p:nvCxnSpPr>
            <p:cNvPr id="3206" name=""/>
            <p:cNvCxnSpPr>
              <a:stCxn id="3107" idx="4"/>
              <a:endCxn id="3111" idx="1"/>
            </p:cNvCxnSpPr>
            <p:nvPr/>
          </p:nvCxnSpPr>
          <p:spPr>
            <a:xfrm flipH="1" rot="16200000">
              <a:off x="6026040" y="2683080"/>
              <a:ext cx="42840" cy="2610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3207" name=""/>
            <p:cNvCxnSpPr>
              <a:stCxn id="3128" idx="6"/>
              <a:endCxn id="3166" idx="1"/>
            </p:cNvCxnSpPr>
            <p:nvPr/>
          </p:nvCxnSpPr>
          <p:spPr>
            <a:xfrm>
              <a:off x="7088040" y="2835000"/>
              <a:ext cx="240480" cy="3600"/>
            </a:xfrm>
            <a:prstGeom prst="curvedConnector5">
              <a:avLst>
                <a:gd name="adj1" fmla="val 49625"/>
                <a:gd name="adj2" fmla="val 44444"/>
                <a:gd name="adj3" fmla="val 49625"/>
              </a:avLst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3208" name=""/>
            <p:cNvCxnSpPr>
              <a:stCxn id="3179" idx="6"/>
              <a:endCxn id="3137" idx="0"/>
            </p:cNvCxnSpPr>
            <p:nvPr/>
          </p:nvCxnSpPr>
          <p:spPr>
            <a:xfrm flipH="1">
              <a:off x="6504840" y="2837880"/>
              <a:ext cx="1735560" cy="814680"/>
            </a:xfrm>
            <a:prstGeom prst="curvedConnector5">
              <a:avLst>
                <a:gd name="adj1" fmla="val -13174"/>
                <a:gd name="adj2" fmla="val 25596"/>
                <a:gd name="adj3" fmla="val -13174"/>
              </a:avLst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3209" name=""/>
            <p:cNvCxnSpPr>
              <a:stCxn id="3156" idx="6"/>
              <a:endCxn id="3186" idx="1"/>
            </p:cNvCxnSpPr>
            <p:nvPr/>
          </p:nvCxnSpPr>
          <p:spPr>
            <a:xfrm>
              <a:off x="7351200" y="3727080"/>
              <a:ext cx="391320" cy="3600"/>
            </a:xfrm>
            <a:prstGeom prst="curvedConnector5">
              <a:avLst>
                <a:gd name="adj1" fmla="val 50000"/>
                <a:gd name="adj2" fmla="val 44444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</p:cxnSp>
      </p:grpSp>
      <p:sp>
        <p:nvSpPr>
          <p:cNvPr id="3210" name=""/>
          <p:cNvSpPr/>
          <p:nvPr/>
        </p:nvSpPr>
        <p:spPr>
          <a:xfrm rot="16200000">
            <a:off x="3986280" y="3924000"/>
            <a:ext cx="485640" cy="48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1" name=""/>
          <p:cNvGrpSpPr/>
          <p:nvPr/>
        </p:nvGrpSpPr>
        <p:grpSpPr>
          <a:xfrm>
            <a:off x="7191360" y="4591080"/>
            <a:ext cx="1695600" cy="1438200"/>
            <a:chOff x="7191360" y="4591080"/>
            <a:chExt cx="1695600" cy="1438200"/>
          </a:xfrm>
        </p:grpSpPr>
        <p:sp>
          <p:nvSpPr>
            <p:cNvPr id="3212" name=""/>
            <p:cNvSpPr/>
            <p:nvPr/>
          </p:nvSpPr>
          <p:spPr>
            <a:xfrm>
              <a:off x="7191360" y="4591080"/>
              <a:ext cx="1695600" cy="1438200"/>
            </a:xfrm>
            <a:prstGeom prst="roundRect">
              <a:avLst>
                <a:gd name="adj" fmla="val 7801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3" name=""/>
            <p:cNvGrpSpPr/>
            <p:nvPr/>
          </p:nvGrpSpPr>
          <p:grpSpPr>
            <a:xfrm>
              <a:off x="7591320" y="4653000"/>
              <a:ext cx="827280" cy="1281240"/>
              <a:chOff x="7591320" y="4653000"/>
              <a:chExt cx="827280" cy="1281240"/>
            </a:xfrm>
          </p:grpSpPr>
          <p:grpSp>
            <p:nvGrpSpPr>
              <p:cNvPr id="3214" name=""/>
              <p:cNvGrpSpPr/>
              <p:nvPr/>
            </p:nvGrpSpPr>
            <p:grpSpPr>
              <a:xfrm>
                <a:off x="7591320" y="4653000"/>
                <a:ext cx="827280" cy="147600"/>
                <a:chOff x="7591320" y="4653000"/>
                <a:chExt cx="827280" cy="147600"/>
              </a:xfrm>
            </p:grpSpPr>
            <p:sp>
              <p:nvSpPr>
                <p:cNvPr id="3215" name=""/>
                <p:cNvSpPr/>
                <p:nvPr/>
              </p:nvSpPr>
              <p:spPr>
                <a:xfrm>
                  <a:off x="7591320" y="4653000"/>
                  <a:ext cx="417600" cy="14760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Toulous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16" name=""/>
                <p:cNvGrpSpPr/>
                <p:nvPr/>
              </p:nvGrpSpPr>
              <p:grpSpPr>
                <a:xfrm>
                  <a:off x="8008920" y="4653000"/>
                  <a:ext cx="137880" cy="147600"/>
                  <a:chOff x="8008920" y="4653000"/>
                  <a:chExt cx="137880" cy="147600"/>
                </a:xfrm>
              </p:grpSpPr>
              <p:sp>
                <p:nvSpPr>
                  <p:cNvPr id="3217" name=""/>
                  <p:cNvSpPr/>
                  <p:nvPr/>
                </p:nvSpPr>
                <p:spPr>
                  <a:xfrm>
                    <a:off x="8008920" y="4653000"/>
                    <a:ext cx="137880" cy="14760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8" name=""/>
                  <p:cNvSpPr/>
                  <p:nvPr/>
                </p:nvSpPr>
                <p:spPr>
                  <a:xfrm>
                    <a:off x="8056440" y="4705560"/>
                    <a:ext cx="42840" cy="41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219" name=""/>
                <p:cNvCxnSpPr>
                  <a:stCxn id="3218" idx="6"/>
                </p:cNvCxnSpPr>
                <p:nvPr/>
              </p:nvCxnSpPr>
              <p:spPr>
                <a:xfrm>
                  <a:off x="8099280" y="4727880"/>
                  <a:ext cx="319680" cy="2160"/>
                </a:xfrm>
                <a:prstGeom prst="curvedConnector5">
                  <a:avLst>
                    <a:gd name="adj1" fmla="val 49718"/>
                    <a:gd name="adj2" fmla="val 40000"/>
                    <a:gd name="adj3" fmla="val 49718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sm"/>
                </a:ln>
              </p:spPr>
            </p:cxnSp>
          </p:grpSp>
          <p:grpSp>
            <p:nvGrpSpPr>
              <p:cNvPr id="3220" name=""/>
              <p:cNvGrpSpPr/>
              <p:nvPr/>
            </p:nvGrpSpPr>
            <p:grpSpPr>
              <a:xfrm>
                <a:off x="7591320" y="4815000"/>
                <a:ext cx="827280" cy="147600"/>
                <a:chOff x="7591320" y="4815000"/>
                <a:chExt cx="827280" cy="147600"/>
              </a:xfrm>
            </p:grpSpPr>
            <p:sp>
              <p:nvSpPr>
                <p:cNvPr id="3221" name=""/>
                <p:cNvSpPr/>
                <p:nvPr/>
              </p:nvSpPr>
              <p:spPr>
                <a:xfrm>
                  <a:off x="7591320" y="4815000"/>
                  <a:ext cx="417600" cy="14760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Toulous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22" name=""/>
                <p:cNvGrpSpPr/>
                <p:nvPr/>
              </p:nvGrpSpPr>
              <p:grpSpPr>
                <a:xfrm>
                  <a:off x="8008920" y="4815000"/>
                  <a:ext cx="137880" cy="147600"/>
                  <a:chOff x="8008920" y="4815000"/>
                  <a:chExt cx="137880" cy="147600"/>
                </a:xfrm>
              </p:grpSpPr>
              <p:sp>
                <p:nvSpPr>
                  <p:cNvPr id="3223" name=""/>
                  <p:cNvSpPr/>
                  <p:nvPr/>
                </p:nvSpPr>
                <p:spPr>
                  <a:xfrm>
                    <a:off x="8008920" y="4815000"/>
                    <a:ext cx="137880" cy="14760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4" name=""/>
                  <p:cNvSpPr/>
                  <p:nvPr/>
                </p:nvSpPr>
                <p:spPr>
                  <a:xfrm>
                    <a:off x="8056440" y="4867560"/>
                    <a:ext cx="42840" cy="41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225" name=""/>
                <p:cNvCxnSpPr>
                  <a:stCxn id="3224" idx="6"/>
                </p:cNvCxnSpPr>
                <p:nvPr/>
              </p:nvCxnSpPr>
              <p:spPr>
                <a:xfrm>
                  <a:off x="8099280" y="4889880"/>
                  <a:ext cx="319680" cy="2160"/>
                </a:xfrm>
                <a:prstGeom prst="curvedConnector5">
                  <a:avLst>
                    <a:gd name="adj1" fmla="val 49718"/>
                    <a:gd name="adj2" fmla="val 40000"/>
                    <a:gd name="adj3" fmla="val 49718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sm"/>
                </a:ln>
              </p:spPr>
            </p:cxnSp>
          </p:grpSp>
          <p:grpSp>
            <p:nvGrpSpPr>
              <p:cNvPr id="3226" name=""/>
              <p:cNvGrpSpPr/>
              <p:nvPr/>
            </p:nvGrpSpPr>
            <p:grpSpPr>
              <a:xfrm>
                <a:off x="7591320" y="4977000"/>
                <a:ext cx="827280" cy="147600"/>
                <a:chOff x="7591320" y="4977000"/>
                <a:chExt cx="827280" cy="147600"/>
              </a:xfrm>
            </p:grpSpPr>
            <p:sp>
              <p:nvSpPr>
                <p:cNvPr id="3227" name=""/>
                <p:cNvSpPr/>
                <p:nvPr/>
              </p:nvSpPr>
              <p:spPr>
                <a:xfrm>
                  <a:off x="7591320" y="4977000"/>
                  <a:ext cx="417600" cy="14760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Toulous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28" name=""/>
                <p:cNvGrpSpPr/>
                <p:nvPr/>
              </p:nvGrpSpPr>
              <p:grpSpPr>
                <a:xfrm>
                  <a:off x="8008920" y="4977000"/>
                  <a:ext cx="137880" cy="147600"/>
                  <a:chOff x="8008920" y="4977000"/>
                  <a:chExt cx="137880" cy="147600"/>
                </a:xfrm>
              </p:grpSpPr>
              <p:sp>
                <p:nvSpPr>
                  <p:cNvPr id="3229" name=""/>
                  <p:cNvSpPr/>
                  <p:nvPr/>
                </p:nvSpPr>
                <p:spPr>
                  <a:xfrm>
                    <a:off x="8008920" y="4977000"/>
                    <a:ext cx="137880" cy="14760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0" name=""/>
                  <p:cNvSpPr/>
                  <p:nvPr/>
                </p:nvSpPr>
                <p:spPr>
                  <a:xfrm>
                    <a:off x="8056440" y="5029560"/>
                    <a:ext cx="42840" cy="41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231" name=""/>
                <p:cNvCxnSpPr>
                  <a:stCxn id="3230" idx="6"/>
                </p:cNvCxnSpPr>
                <p:nvPr/>
              </p:nvCxnSpPr>
              <p:spPr>
                <a:xfrm>
                  <a:off x="8099280" y="5051880"/>
                  <a:ext cx="319680" cy="2160"/>
                </a:xfrm>
                <a:prstGeom prst="curvedConnector5">
                  <a:avLst>
                    <a:gd name="adj1" fmla="val 49718"/>
                    <a:gd name="adj2" fmla="val 40000"/>
                    <a:gd name="adj3" fmla="val 49718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sm"/>
                </a:ln>
              </p:spPr>
            </p:cxnSp>
          </p:grpSp>
          <p:grpSp>
            <p:nvGrpSpPr>
              <p:cNvPr id="3232" name=""/>
              <p:cNvGrpSpPr/>
              <p:nvPr/>
            </p:nvGrpSpPr>
            <p:grpSpPr>
              <a:xfrm>
                <a:off x="7591320" y="5139000"/>
                <a:ext cx="827280" cy="147600"/>
                <a:chOff x="7591320" y="5139000"/>
                <a:chExt cx="827280" cy="147600"/>
              </a:xfrm>
            </p:grpSpPr>
            <p:sp>
              <p:nvSpPr>
                <p:cNvPr id="3233" name=""/>
                <p:cNvSpPr/>
                <p:nvPr/>
              </p:nvSpPr>
              <p:spPr>
                <a:xfrm>
                  <a:off x="7591320" y="5139000"/>
                  <a:ext cx="417600" cy="14760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Toulous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34" name=""/>
                <p:cNvGrpSpPr/>
                <p:nvPr/>
              </p:nvGrpSpPr>
              <p:grpSpPr>
                <a:xfrm>
                  <a:off x="8008920" y="5139000"/>
                  <a:ext cx="137880" cy="147600"/>
                  <a:chOff x="8008920" y="5139000"/>
                  <a:chExt cx="137880" cy="147600"/>
                </a:xfrm>
              </p:grpSpPr>
              <p:sp>
                <p:nvSpPr>
                  <p:cNvPr id="3235" name=""/>
                  <p:cNvSpPr/>
                  <p:nvPr/>
                </p:nvSpPr>
                <p:spPr>
                  <a:xfrm>
                    <a:off x="8008920" y="5139000"/>
                    <a:ext cx="137880" cy="14760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6" name=""/>
                  <p:cNvSpPr/>
                  <p:nvPr/>
                </p:nvSpPr>
                <p:spPr>
                  <a:xfrm>
                    <a:off x="8056440" y="5191560"/>
                    <a:ext cx="42840" cy="41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237" name=""/>
                <p:cNvCxnSpPr>
                  <a:stCxn id="3236" idx="6"/>
                </p:cNvCxnSpPr>
                <p:nvPr/>
              </p:nvCxnSpPr>
              <p:spPr>
                <a:xfrm>
                  <a:off x="8099280" y="5213880"/>
                  <a:ext cx="319680" cy="2160"/>
                </a:xfrm>
                <a:prstGeom prst="curvedConnector5">
                  <a:avLst>
                    <a:gd name="adj1" fmla="val 49718"/>
                    <a:gd name="adj2" fmla="val 40000"/>
                    <a:gd name="adj3" fmla="val 49718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sm"/>
                </a:ln>
              </p:spPr>
            </p:cxnSp>
          </p:grpSp>
          <p:grpSp>
            <p:nvGrpSpPr>
              <p:cNvPr id="3238" name=""/>
              <p:cNvGrpSpPr/>
              <p:nvPr/>
            </p:nvGrpSpPr>
            <p:grpSpPr>
              <a:xfrm>
                <a:off x="7591320" y="5300640"/>
                <a:ext cx="827280" cy="147600"/>
                <a:chOff x="7591320" y="5300640"/>
                <a:chExt cx="827280" cy="147600"/>
              </a:xfrm>
            </p:grpSpPr>
            <p:sp>
              <p:nvSpPr>
                <p:cNvPr id="3239" name=""/>
                <p:cNvSpPr/>
                <p:nvPr/>
              </p:nvSpPr>
              <p:spPr>
                <a:xfrm>
                  <a:off x="7591320" y="5300640"/>
                  <a:ext cx="417600" cy="14760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Toulous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40" name=""/>
                <p:cNvGrpSpPr/>
                <p:nvPr/>
              </p:nvGrpSpPr>
              <p:grpSpPr>
                <a:xfrm>
                  <a:off x="8008920" y="5300640"/>
                  <a:ext cx="137880" cy="147600"/>
                  <a:chOff x="8008920" y="5300640"/>
                  <a:chExt cx="137880" cy="147600"/>
                </a:xfrm>
              </p:grpSpPr>
              <p:sp>
                <p:nvSpPr>
                  <p:cNvPr id="3241" name=""/>
                  <p:cNvSpPr/>
                  <p:nvPr/>
                </p:nvSpPr>
                <p:spPr>
                  <a:xfrm>
                    <a:off x="8008920" y="5300640"/>
                    <a:ext cx="137880" cy="14760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2" name=""/>
                  <p:cNvSpPr/>
                  <p:nvPr/>
                </p:nvSpPr>
                <p:spPr>
                  <a:xfrm>
                    <a:off x="8056440" y="5353200"/>
                    <a:ext cx="42840" cy="41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243" name=""/>
                <p:cNvCxnSpPr>
                  <a:stCxn id="3242" idx="6"/>
                </p:cNvCxnSpPr>
                <p:nvPr/>
              </p:nvCxnSpPr>
              <p:spPr>
                <a:xfrm>
                  <a:off x="8099280" y="5375520"/>
                  <a:ext cx="319680" cy="2160"/>
                </a:xfrm>
                <a:prstGeom prst="curvedConnector5">
                  <a:avLst>
                    <a:gd name="adj1" fmla="val 49718"/>
                    <a:gd name="adj2" fmla="val 40000"/>
                    <a:gd name="adj3" fmla="val 49718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sm"/>
                </a:ln>
              </p:spPr>
            </p:cxnSp>
          </p:grpSp>
          <p:grpSp>
            <p:nvGrpSpPr>
              <p:cNvPr id="3244" name=""/>
              <p:cNvGrpSpPr/>
              <p:nvPr/>
            </p:nvGrpSpPr>
            <p:grpSpPr>
              <a:xfrm>
                <a:off x="7591320" y="5462640"/>
                <a:ext cx="827280" cy="147600"/>
                <a:chOff x="7591320" y="5462640"/>
                <a:chExt cx="827280" cy="147600"/>
              </a:xfrm>
            </p:grpSpPr>
            <p:sp>
              <p:nvSpPr>
                <p:cNvPr id="3245" name=""/>
                <p:cNvSpPr/>
                <p:nvPr/>
              </p:nvSpPr>
              <p:spPr>
                <a:xfrm>
                  <a:off x="7591320" y="5462640"/>
                  <a:ext cx="417600" cy="14760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Toulous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46" name=""/>
                <p:cNvGrpSpPr/>
                <p:nvPr/>
              </p:nvGrpSpPr>
              <p:grpSpPr>
                <a:xfrm>
                  <a:off x="8008920" y="5462640"/>
                  <a:ext cx="137880" cy="147600"/>
                  <a:chOff x="8008920" y="5462640"/>
                  <a:chExt cx="137880" cy="147600"/>
                </a:xfrm>
              </p:grpSpPr>
              <p:sp>
                <p:nvSpPr>
                  <p:cNvPr id="3247" name=""/>
                  <p:cNvSpPr/>
                  <p:nvPr/>
                </p:nvSpPr>
                <p:spPr>
                  <a:xfrm>
                    <a:off x="8008920" y="5462640"/>
                    <a:ext cx="137880" cy="14760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8" name=""/>
                  <p:cNvSpPr/>
                  <p:nvPr/>
                </p:nvSpPr>
                <p:spPr>
                  <a:xfrm>
                    <a:off x="8056440" y="5515200"/>
                    <a:ext cx="42840" cy="41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249" name=""/>
                <p:cNvCxnSpPr>
                  <a:stCxn id="3248" idx="6"/>
                </p:cNvCxnSpPr>
                <p:nvPr/>
              </p:nvCxnSpPr>
              <p:spPr>
                <a:xfrm>
                  <a:off x="8099280" y="5537520"/>
                  <a:ext cx="319680" cy="2160"/>
                </a:xfrm>
                <a:prstGeom prst="curvedConnector5">
                  <a:avLst>
                    <a:gd name="adj1" fmla="val 49718"/>
                    <a:gd name="adj2" fmla="val 40000"/>
                    <a:gd name="adj3" fmla="val 49718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sm"/>
                </a:ln>
              </p:spPr>
            </p:cxnSp>
          </p:grpSp>
          <p:grpSp>
            <p:nvGrpSpPr>
              <p:cNvPr id="3250" name=""/>
              <p:cNvGrpSpPr/>
              <p:nvPr/>
            </p:nvGrpSpPr>
            <p:grpSpPr>
              <a:xfrm>
                <a:off x="7591320" y="5624640"/>
                <a:ext cx="827280" cy="147600"/>
                <a:chOff x="7591320" y="5624640"/>
                <a:chExt cx="827280" cy="147600"/>
              </a:xfrm>
            </p:grpSpPr>
            <p:sp>
              <p:nvSpPr>
                <p:cNvPr id="3251" name=""/>
                <p:cNvSpPr/>
                <p:nvPr/>
              </p:nvSpPr>
              <p:spPr>
                <a:xfrm>
                  <a:off x="7591320" y="5624640"/>
                  <a:ext cx="417600" cy="14760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Toulous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52" name=""/>
                <p:cNvGrpSpPr/>
                <p:nvPr/>
              </p:nvGrpSpPr>
              <p:grpSpPr>
                <a:xfrm>
                  <a:off x="8008920" y="5624640"/>
                  <a:ext cx="137880" cy="147600"/>
                  <a:chOff x="8008920" y="5624640"/>
                  <a:chExt cx="137880" cy="147600"/>
                </a:xfrm>
              </p:grpSpPr>
              <p:sp>
                <p:nvSpPr>
                  <p:cNvPr id="3253" name=""/>
                  <p:cNvSpPr/>
                  <p:nvPr/>
                </p:nvSpPr>
                <p:spPr>
                  <a:xfrm>
                    <a:off x="8008920" y="5624640"/>
                    <a:ext cx="137880" cy="14760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4" name=""/>
                  <p:cNvSpPr/>
                  <p:nvPr/>
                </p:nvSpPr>
                <p:spPr>
                  <a:xfrm>
                    <a:off x="8056440" y="5677200"/>
                    <a:ext cx="42840" cy="41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255" name=""/>
                <p:cNvCxnSpPr>
                  <a:stCxn id="3254" idx="6"/>
                </p:cNvCxnSpPr>
                <p:nvPr/>
              </p:nvCxnSpPr>
              <p:spPr>
                <a:xfrm>
                  <a:off x="8099280" y="5699520"/>
                  <a:ext cx="319680" cy="2160"/>
                </a:xfrm>
                <a:prstGeom prst="curvedConnector5">
                  <a:avLst>
                    <a:gd name="adj1" fmla="val 49718"/>
                    <a:gd name="adj2" fmla="val 40000"/>
                    <a:gd name="adj3" fmla="val 49718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sm"/>
                </a:ln>
              </p:spPr>
            </p:cxnSp>
          </p:grpSp>
          <p:grpSp>
            <p:nvGrpSpPr>
              <p:cNvPr id="3256" name=""/>
              <p:cNvGrpSpPr/>
              <p:nvPr/>
            </p:nvGrpSpPr>
            <p:grpSpPr>
              <a:xfrm>
                <a:off x="7591320" y="5786640"/>
                <a:ext cx="827280" cy="147600"/>
                <a:chOff x="7591320" y="5786640"/>
                <a:chExt cx="827280" cy="147600"/>
              </a:xfrm>
            </p:grpSpPr>
            <p:sp>
              <p:nvSpPr>
                <p:cNvPr id="3257" name=""/>
                <p:cNvSpPr/>
                <p:nvPr/>
              </p:nvSpPr>
              <p:spPr>
                <a:xfrm>
                  <a:off x="7591320" y="5786640"/>
                  <a:ext cx="417600" cy="14760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Toulous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58" name=""/>
                <p:cNvGrpSpPr/>
                <p:nvPr/>
              </p:nvGrpSpPr>
              <p:grpSpPr>
                <a:xfrm>
                  <a:off x="8008920" y="5786640"/>
                  <a:ext cx="137880" cy="147600"/>
                  <a:chOff x="8008920" y="5786640"/>
                  <a:chExt cx="137880" cy="147600"/>
                </a:xfrm>
              </p:grpSpPr>
              <p:sp>
                <p:nvSpPr>
                  <p:cNvPr id="3259" name=""/>
                  <p:cNvSpPr/>
                  <p:nvPr/>
                </p:nvSpPr>
                <p:spPr>
                  <a:xfrm>
                    <a:off x="8008920" y="5786640"/>
                    <a:ext cx="137880" cy="14760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0" name=""/>
                  <p:cNvSpPr/>
                  <p:nvPr/>
                </p:nvSpPr>
                <p:spPr>
                  <a:xfrm>
                    <a:off x="8056440" y="5839200"/>
                    <a:ext cx="42840" cy="41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261" name=""/>
                <p:cNvCxnSpPr>
                  <a:stCxn id="3260" idx="6"/>
                </p:cNvCxnSpPr>
                <p:nvPr/>
              </p:nvCxnSpPr>
              <p:spPr>
                <a:xfrm>
                  <a:off x="8099280" y="5861520"/>
                  <a:ext cx="319680" cy="2160"/>
                </a:xfrm>
                <a:prstGeom prst="curvedConnector5">
                  <a:avLst>
                    <a:gd name="adj1" fmla="val 49718"/>
                    <a:gd name="adj2" fmla="val 40000"/>
                    <a:gd name="adj3" fmla="val 49718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sm"/>
                </a:ln>
              </p:spPr>
            </p:cxnSp>
          </p:grpSp>
        </p:grpSp>
      </p:grpSp>
      <p:sp>
        <p:nvSpPr>
          <p:cNvPr id="3262" name=""/>
          <p:cNvSpPr/>
          <p:nvPr/>
        </p:nvSpPr>
        <p:spPr>
          <a:xfrm>
            <a:off x="552600" y="4686480"/>
            <a:ext cx="1609560" cy="266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une entrée théori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3" name=""/>
          <p:cNvGrpSpPr/>
          <p:nvPr/>
        </p:nvGrpSpPr>
        <p:grpSpPr>
          <a:xfrm>
            <a:off x="5324400" y="4591080"/>
            <a:ext cx="1695600" cy="1781280"/>
            <a:chOff x="5324400" y="4591080"/>
            <a:chExt cx="1695600" cy="1781280"/>
          </a:xfrm>
        </p:grpSpPr>
        <p:grpSp>
          <p:nvGrpSpPr>
            <p:cNvPr id="3264" name=""/>
            <p:cNvGrpSpPr/>
            <p:nvPr/>
          </p:nvGrpSpPr>
          <p:grpSpPr>
            <a:xfrm>
              <a:off x="5324400" y="4591080"/>
              <a:ext cx="1695600" cy="1438200"/>
              <a:chOff x="5324400" y="4591080"/>
              <a:chExt cx="1695600" cy="1438200"/>
            </a:xfrm>
          </p:grpSpPr>
          <p:sp>
            <p:nvSpPr>
              <p:cNvPr id="3265" name=""/>
              <p:cNvSpPr/>
              <p:nvPr/>
            </p:nvSpPr>
            <p:spPr>
              <a:xfrm>
                <a:off x="5324400" y="4591080"/>
                <a:ext cx="1695600" cy="1438200"/>
              </a:xfrm>
              <a:prstGeom prst="roundRect">
                <a:avLst>
                  <a:gd name="adj" fmla="val 7801"/>
                </a:avLst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66" name=""/>
              <p:cNvGrpSpPr/>
              <p:nvPr/>
            </p:nvGrpSpPr>
            <p:grpSpPr>
              <a:xfrm>
                <a:off x="5443560" y="4795920"/>
                <a:ext cx="1431000" cy="984600"/>
                <a:chOff x="5443560" y="4795920"/>
                <a:chExt cx="1431000" cy="984600"/>
              </a:xfrm>
            </p:grpSpPr>
            <p:sp>
              <p:nvSpPr>
                <p:cNvPr id="3267" name=""/>
                <p:cNvSpPr/>
                <p:nvPr/>
              </p:nvSpPr>
              <p:spPr>
                <a:xfrm>
                  <a:off x="5443560" y="4795920"/>
                  <a:ext cx="417240" cy="14760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Toulous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68" name=""/>
                <p:cNvGrpSpPr/>
                <p:nvPr/>
              </p:nvGrpSpPr>
              <p:grpSpPr>
                <a:xfrm>
                  <a:off x="5864040" y="4795920"/>
                  <a:ext cx="824040" cy="147600"/>
                  <a:chOff x="5864040" y="4795920"/>
                  <a:chExt cx="824040" cy="147600"/>
                </a:xfrm>
              </p:grpSpPr>
              <p:grpSp>
                <p:nvGrpSpPr>
                  <p:cNvPr id="3269" name=""/>
                  <p:cNvGrpSpPr/>
                  <p:nvPr/>
                </p:nvGrpSpPr>
                <p:grpSpPr>
                  <a:xfrm>
                    <a:off x="5864040" y="4795920"/>
                    <a:ext cx="137880" cy="147600"/>
                    <a:chOff x="5864040" y="4795920"/>
                    <a:chExt cx="137880" cy="147600"/>
                  </a:xfrm>
                </p:grpSpPr>
                <p:sp>
                  <p:nvSpPr>
                    <p:cNvPr id="3270" name=""/>
                    <p:cNvSpPr/>
                    <p:nvPr/>
                  </p:nvSpPr>
                  <p:spPr>
                    <a:xfrm>
                      <a:off x="5864040" y="479592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1" name=""/>
                    <p:cNvSpPr/>
                    <p:nvPr/>
                  </p:nvSpPr>
                  <p:spPr>
                    <a:xfrm>
                      <a:off x="5911560" y="484848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72" name=""/>
                  <p:cNvGrpSpPr/>
                  <p:nvPr/>
                </p:nvGrpSpPr>
                <p:grpSpPr>
                  <a:xfrm>
                    <a:off x="6002280" y="4795920"/>
                    <a:ext cx="137880" cy="147600"/>
                    <a:chOff x="6002280" y="4795920"/>
                    <a:chExt cx="137880" cy="147600"/>
                  </a:xfrm>
                </p:grpSpPr>
                <p:sp>
                  <p:nvSpPr>
                    <p:cNvPr id="3273" name=""/>
                    <p:cNvSpPr/>
                    <p:nvPr/>
                  </p:nvSpPr>
                  <p:spPr>
                    <a:xfrm>
                      <a:off x="6002280" y="479592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4" name=""/>
                    <p:cNvSpPr/>
                    <p:nvPr/>
                  </p:nvSpPr>
                  <p:spPr>
                    <a:xfrm>
                      <a:off x="6049800" y="484848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75" name=""/>
                  <p:cNvGrpSpPr/>
                  <p:nvPr/>
                </p:nvGrpSpPr>
                <p:grpSpPr>
                  <a:xfrm>
                    <a:off x="6138720" y="4795920"/>
                    <a:ext cx="137880" cy="147600"/>
                    <a:chOff x="6138720" y="4795920"/>
                    <a:chExt cx="137880" cy="147600"/>
                  </a:xfrm>
                </p:grpSpPr>
                <p:sp>
                  <p:nvSpPr>
                    <p:cNvPr id="3276" name=""/>
                    <p:cNvSpPr/>
                    <p:nvPr/>
                  </p:nvSpPr>
                  <p:spPr>
                    <a:xfrm>
                      <a:off x="6138720" y="479592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7" name=""/>
                    <p:cNvSpPr/>
                    <p:nvPr/>
                  </p:nvSpPr>
                  <p:spPr>
                    <a:xfrm>
                      <a:off x="6186240" y="484848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78" name=""/>
                  <p:cNvGrpSpPr/>
                  <p:nvPr/>
                </p:nvGrpSpPr>
                <p:grpSpPr>
                  <a:xfrm>
                    <a:off x="6276960" y="4795920"/>
                    <a:ext cx="137880" cy="147600"/>
                    <a:chOff x="6276960" y="4795920"/>
                    <a:chExt cx="137880" cy="147600"/>
                  </a:xfrm>
                </p:grpSpPr>
                <p:sp>
                  <p:nvSpPr>
                    <p:cNvPr id="3279" name=""/>
                    <p:cNvSpPr/>
                    <p:nvPr/>
                  </p:nvSpPr>
                  <p:spPr>
                    <a:xfrm>
                      <a:off x="6276960" y="479592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0" name=""/>
                    <p:cNvSpPr/>
                    <p:nvPr/>
                  </p:nvSpPr>
                  <p:spPr>
                    <a:xfrm>
                      <a:off x="6324480" y="484848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81" name=""/>
                  <p:cNvGrpSpPr/>
                  <p:nvPr/>
                </p:nvGrpSpPr>
                <p:grpSpPr>
                  <a:xfrm>
                    <a:off x="6413400" y="4795920"/>
                    <a:ext cx="137880" cy="147600"/>
                    <a:chOff x="6413400" y="4795920"/>
                    <a:chExt cx="137880" cy="147600"/>
                  </a:xfrm>
                </p:grpSpPr>
                <p:sp>
                  <p:nvSpPr>
                    <p:cNvPr id="3282" name=""/>
                    <p:cNvSpPr/>
                    <p:nvPr/>
                  </p:nvSpPr>
                  <p:spPr>
                    <a:xfrm>
                      <a:off x="6413400" y="479592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3" name=""/>
                    <p:cNvSpPr/>
                    <p:nvPr/>
                  </p:nvSpPr>
                  <p:spPr>
                    <a:xfrm>
                      <a:off x="6460920" y="484848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284" name=""/>
                  <p:cNvSpPr/>
                  <p:nvPr/>
                </p:nvSpPr>
                <p:spPr>
                  <a:xfrm>
                    <a:off x="6549840" y="4795920"/>
                    <a:ext cx="138240" cy="14760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85" name=""/>
                <p:cNvGrpSpPr/>
                <p:nvPr/>
              </p:nvGrpSpPr>
              <p:grpSpPr>
                <a:xfrm>
                  <a:off x="5933880" y="4883040"/>
                  <a:ext cx="804240" cy="122040"/>
                  <a:chOff x="5933880" y="4883040"/>
                  <a:chExt cx="804240" cy="122040"/>
                </a:xfrm>
              </p:grpSpPr>
              <p:cxnSp>
                <p:nvCxnSpPr>
                  <p:cNvPr id="3286" name=""/>
                  <p:cNvCxnSpPr/>
                  <p:nvPr/>
                </p:nvCxnSpPr>
                <p:spPr>
                  <a:xfrm flipH="1" rot="16200000">
                    <a:off x="5999400" y="4817160"/>
                    <a:ext cx="122400" cy="253440"/>
                  </a:xfrm>
                  <a:prstGeom prst="curvedConnector2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sm"/>
                  </a:ln>
                </p:spPr>
              </p:cxnSp>
              <p:cxnSp>
                <p:nvCxnSpPr>
                  <p:cNvPr id="3287" name=""/>
                  <p:cNvCxnSpPr/>
                  <p:nvPr/>
                </p:nvCxnSpPr>
                <p:spPr>
                  <a:xfrm flipH="1" rot="16200000">
                    <a:off x="6136560" y="4817520"/>
                    <a:ext cx="122400" cy="253080"/>
                  </a:xfrm>
                  <a:prstGeom prst="curvedConnector2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sm"/>
                  </a:ln>
                </p:spPr>
              </p:cxnSp>
              <p:cxnSp>
                <p:nvCxnSpPr>
                  <p:cNvPr id="3288" name=""/>
                  <p:cNvCxnSpPr/>
                  <p:nvPr/>
                </p:nvCxnSpPr>
                <p:spPr>
                  <a:xfrm flipH="1" rot="16200000">
                    <a:off x="6274800" y="4817520"/>
                    <a:ext cx="122400" cy="253080"/>
                  </a:xfrm>
                  <a:prstGeom prst="curvedConnector2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sm"/>
                  </a:ln>
                </p:spPr>
              </p:cxnSp>
              <p:cxnSp>
                <p:nvCxnSpPr>
                  <p:cNvPr id="3289" name=""/>
                  <p:cNvCxnSpPr/>
                  <p:nvPr/>
                </p:nvCxnSpPr>
                <p:spPr>
                  <a:xfrm flipH="1" rot="16200000">
                    <a:off x="6412680" y="4817520"/>
                    <a:ext cx="122400" cy="253080"/>
                  </a:xfrm>
                  <a:prstGeom prst="curvedConnector2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sm"/>
                  </a:ln>
                </p:spPr>
              </p:cxnSp>
              <p:cxnSp>
                <p:nvCxnSpPr>
                  <p:cNvPr id="3290" name=""/>
                  <p:cNvCxnSpPr/>
                  <p:nvPr/>
                </p:nvCxnSpPr>
                <p:spPr>
                  <a:xfrm flipH="1" rot="16200000">
                    <a:off x="6550920" y="4817520"/>
                    <a:ext cx="122400" cy="253080"/>
                  </a:xfrm>
                  <a:prstGeom prst="curvedConnector2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sm"/>
                  </a:ln>
                </p:spPr>
              </p:cxnSp>
            </p:grpSp>
            <p:sp>
              <p:nvSpPr>
                <p:cNvPr id="3291" name=""/>
                <p:cNvSpPr/>
                <p:nvPr/>
              </p:nvSpPr>
              <p:spPr>
                <a:xfrm>
                  <a:off x="5443560" y="5058000"/>
                  <a:ext cx="417240" cy="14760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Toulous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92" name=""/>
                <p:cNvGrpSpPr/>
                <p:nvPr/>
              </p:nvGrpSpPr>
              <p:grpSpPr>
                <a:xfrm>
                  <a:off x="5860800" y="5058000"/>
                  <a:ext cx="823680" cy="147600"/>
                  <a:chOff x="5860800" y="5058000"/>
                  <a:chExt cx="823680" cy="147600"/>
                </a:xfrm>
              </p:grpSpPr>
              <p:grpSp>
                <p:nvGrpSpPr>
                  <p:cNvPr id="3293" name=""/>
                  <p:cNvGrpSpPr/>
                  <p:nvPr/>
                </p:nvGrpSpPr>
                <p:grpSpPr>
                  <a:xfrm>
                    <a:off x="5860800" y="5058000"/>
                    <a:ext cx="137880" cy="147600"/>
                    <a:chOff x="5860800" y="5058000"/>
                    <a:chExt cx="137880" cy="147600"/>
                  </a:xfrm>
                </p:grpSpPr>
                <p:sp>
                  <p:nvSpPr>
                    <p:cNvPr id="3294" name=""/>
                    <p:cNvSpPr/>
                    <p:nvPr/>
                  </p:nvSpPr>
                  <p:spPr>
                    <a:xfrm>
                      <a:off x="5860800" y="505800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5" name=""/>
                    <p:cNvSpPr/>
                    <p:nvPr/>
                  </p:nvSpPr>
                  <p:spPr>
                    <a:xfrm>
                      <a:off x="5908320" y="511056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96" name=""/>
                  <p:cNvGrpSpPr/>
                  <p:nvPr/>
                </p:nvGrpSpPr>
                <p:grpSpPr>
                  <a:xfrm>
                    <a:off x="5998680" y="5058000"/>
                    <a:ext cx="137880" cy="147600"/>
                    <a:chOff x="5998680" y="5058000"/>
                    <a:chExt cx="137880" cy="147600"/>
                  </a:xfrm>
                </p:grpSpPr>
                <p:sp>
                  <p:nvSpPr>
                    <p:cNvPr id="3297" name=""/>
                    <p:cNvSpPr/>
                    <p:nvPr/>
                  </p:nvSpPr>
                  <p:spPr>
                    <a:xfrm>
                      <a:off x="5998680" y="505800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8" name=""/>
                    <p:cNvSpPr/>
                    <p:nvPr/>
                  </p:nvSpPr>
                  <p:spPr>
                    <a:xfrm>
                      <a:off x="6046200" y="511056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99" name=""/>
                  <p:cNvGrpSpPr/>
                  <p:nvPr/>
                </p:nvGrpSpPr>
                <p:grpSpPr>
                  <a:xfrm>
                    <a:off x="6135480" y="5058000"/>
                    <a:ext cx="137880" cy="147600"/>
                    <a:chOff x="6135480" y="5058000"/>
                    <a:chExt cx="137880" cy="147600"/>
                  </a:xfrm>
                </p:grpSpPr>
                <p:sp>
                  <p:nvSpPr>
                    <p:cNvPr id="3300" name=""/>
                    <p:cNvSpPr/>
                    <p:nvPr/>
                  </p:nvSpPr>
                  <p:spPr>
                    <a:xfrm>
                      <a:off x="6135480" y="505800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1" name=""/>
                    <p:cNvSpPr/>
                    <p:nvPr/>
                  </p:nvSpPr>
                  <p:spPr>
                    <a:xfrm>
                      <a:off x="6183000" y="511056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302" name=""/>
                  <p:cNvSpPr/>
                  <p:nvPr/>
                </p:nvSpPr>
                <p:spPr>
                  <a:xfrm>
                    <a:off x="6273360" y="5058000"/>
                    <a:ext cx="138240" cy="14760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3" name=""/>
                  <p:cNvSpPr/>
                  <p:nvPr/>
                </p:nvSpPr>
                <p:spPr>
                  <a:xfrm>
                    <a:off x="6410160" y="5058000"/>
                    <a:ext cx="137880" cy="14760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4" name=""/>
                  <p:cNvSpPr/>
                  <p:nvPr/>
                </p:nvSpPr>
                <p:spPr>
                  <a:xfrm>
                    <a:off x="6546600" y="5058000"/>
                    <a:ext cx="137880" cy="14760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05" name=""/>
                <p:cNvGrpSpPr/>
                <p:nvPr/>
              </p:nvGrpSpPr>
              <p:grpSpPr>
                <a:xfrm>
                  <a:off x="5931360" y="5146560"/>
                  <a:ext cx="528840" cy="113040"/>
                  <a:chOff x="5931360" y="5146560"/>
                  <a:chExt cx="528840" cy="113040"/>
                </a:xfrm>
              </p:grpSpPr>
              <p:cxnSp>
                <p:nvCxnSpPr>
                  <p:cNvPr id="3306" name=""/>
                  <p:cNvCxnSpPr/>
                  <p:nvPr/>
                </p:nvCxnSpPr>
                <p:spPr>
                  <a:xfrm flipH="1" rot="16200000">
                    <a:off x="6001200" y="5076720"/>
                    <a:ext cx="113400" cy="253080"/>
                  </a:xfrm>
                  <a:prstGeom prst="curvedConnector2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sm"/>
                  </a:ln>
                </p:spPr>
              </p:cxnSp>
              <p:cxnSp>
                <p:nvCxnSpPr>
                  <p:cNvPr id="3307" name=""/>
                  <p:cNvCxnSpPr/>
                  <p:nvPr/>
                </p:nvCxnSpPr>
                <p:spPr>
                  <a:xfrm flipH="1" rot="16200000">
                    <a:off x="6140160" y="5076360"/>
                    <a:ext cx="113400" cy="253440"/>
                  </a:xfrm>
                  <a:prstGeom prst="curvedConnector2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sm"/>
                  </a:ln>
                </p:spPr>
              </p:cxnSp>
              <p:cxnSp>
                <p:nvCxnSpPr>
                  <p:cNvPr id="3308" name=""/>
                  <p:cNvCxnSpPr/>
                  <p:nvPr/>
                </p:nvCxnSpPr>
                <p:spPr>
                  <a:xfrm flipH="1" rot="16200000">
                    <a:off x="6277320" y="5076720"/>
                    <a:ext cx="113400" cy="253080"/>
                  </a:xfrm>
                  <a:prstGeom prst="curvedConnector2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sm"/>
                  </a:ln>
                </p:spPr>
              </p:cxnSp>
            </p:grpSp>
            <p:sp>
              <p:nvSpPr>
                <p:cNvPr id="3309" name=""/>
                <p:cNvSpPr/>
                <p:nvPr/>
              </p:nvSpPr>
              <p:spPr>
                <a:xfrm>
                  <a:off x="5443560" y="5572440"/>
                  <a:ext cx="417240" cy="14760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Toulous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10" name=""/>
                <p:cNvGrpSpPr/>
                <p:nvPr/>
              </p:nvGrpSpPr>
              <p:grpSpPr>
                <a:xfrm>
                  <a:off x="5860800" y="5572440"/>
                  <a:ext cx="822240" cy="147600"/>
                  <a:chOff x="5860800" y="5572440"/>
                  <a:chExt cx="822240" cy="147600"/>
                </a:xfrm>
              </p:grpSpPr>
              <p:grpSp>
                <p:nvGrpSpPr>
                  <p:cNvPr id="3311" name=""/>
                  <p:cNvGrpSpPr/>
                  <p:nvPr/>
                </p:nvGrpSpPr>
                <p:grpSpPr>
                  <a:xfrm>
                    <a:off x="5860800" y="5572440"/>
                    <a:ext cx="137880" cy="147600"/>
                    <a:chOff x="5860800" y="5572440"/>
                    <a:chExt cx="137880" cy="147600"/>
                  </a:xfrm>
                </p:grpSpPr>
                <p:sp>
                  <p:nvSpPr>
                    <p:cNvPr id="3312" name=""/>
                    <p:cNvSpPr/>
                    <p:nvPr/>
                  </p:nvSpPr>
                  <p:spPr>
                    <a:xfrm>
                      <a:off x="5860800" y="557244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3" name=""/>
                    <p:cNvSpPr/>
                    <p:nvPr/>
                  </p:nvSpPr>
                  <p:spPr>
                    <a:xfrm>
                      <a:off x="5908320" y="562500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14" name=""/>
                  <p:cNvGrpSpPr/>
                  <p:nvPr/>
                </p:nvGrpSpPr>
                <p:grpSpPr>
                  <a:xfrm>
                    <a:off x="5998680" y="5572440"/>
                    <a:ext cx="137880" cy="147600"/>
                    <a:chOff x="5998680" y="5572440"/>
                    <a:chExt cx="137880" cy="147600"/>
                  </a:xfrm>
                </p:grpSpPr>
                <p:sp>
                  <p:nvSpPr>
                    <p:cNvPr id="3315" name=""/>
                    <p:cNvSpPr/>
                    <p:nvPr/>
                  </p:nvSpPr>
                  <p:spPr>
                    <a:xfrm>
                      <a:off x="5998680" y="557244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6" name=""/>
                    <p:cNvSpPr/>
                    <p:nvPr/>
                  </p:nvSpPr>
                  <p:spPr>
                    <a:xfrm>
                      <a:off x="6046200" y="562500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17" name=""/>
                  <p:cNvGrpSpPr/>
                  <p:nvPr/>
                </p:nvGrpSpPr>
                <p:grpSpPr>
                  <a:xfrm>
                    <a:off x="6135480" y="5572440"/>
                    <a:ext cx="137880" cy="147600"/>
                    <a:chOff x="6135480" y="5572440"/>
                    <a:chExt cx="137880" cy="147600"/>
                  </a:xfrm>
                </p:grpSpPr>
                <p:sp>
                  <p:nvSpPr>
                    <p:cNvPr id="3318" name=""/>
                    <p:cNvSpPr/>
                    <p:nvPr/>
                  </p:nvSpPr>
                  <p:spPr>
                    <a:xfrm>
                      <a:off x="6135480" y="557244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9" name=""/>
                    <p:cNvSpPr/>
                    <p:nvPr/>
                  </p:nvSpPr>
                  <p:spPr>
                    <a:xfrm>
                      <a:off x="6183000" y="562500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20" name=""/>
                  <p:cNvGrpSpPr/>
                  <p:nvPr/>
                </p:nvGrpSpPr>
                <p:grpSpPr>
                  <a:xfrm>
                    <a:off x="6271920" y="5572440"/>
                    <a:ext cx="137880" cy="147600"/>
                    <a:chOff x="6271920" y="5572440"/>
                    <a:chExt cx="137880" cy="147600"/>
                  </a:xfrm>
                </p:grpSpPr>
                <p:sp>
                  <p:nvSpPr>
                    <p:cNvPr id="3321" name=""/>
                    <p:cNvSpPr/>
                    <p:nvPr/>
                  </p:nvSpPr>
                  <p:spPr>
                    <a:xfrm>
                      <a:off x="6271920" y="557244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2" name=""/>
                    <p:cNvSpPr/>
                    <p:nvPr/>
                  </p:nvSpPr>
                  <p:spPr>
                    <a:xfrm>
                      <a:off x="6319440" y="562500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323" name=""/>
                  <p:cNvSpPr/>
                  <p:nvPr/>
                </p:nvSpPr>
                <p:spPr>
                  <a:xfrm>
                    <a:off x="6408360" y="5572440"/>
                    <a:ext cx="138240" cy="14760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4" name=""/>
                  <p:cNvSpPr/>
                  <p:nvPr/>
                </p:nvSpPr>
                <p:spPr>
                  <a:xfrm>
                    <a:off x="6544800" y="5572440"/>
                    <a:ext cx="138240" cy="147600"/>
                  </a:xfrm>
                  <a:prstGeom prst="rect">
                    <a:avLst/>
                  </a:prstGeom>
                  <a:solidFill>
                    <a:srgbClr val="cccc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5" name=""/>
                <p:cNvGrpSpPr/>
                <p:nvPr/>
              </p:nvGrpSpPr>
              <p:grpSpPr>
                <a:xfrm>
                  <a:off x="5931360" y="5662800"/>
                  <a:ext cx="659160" cy="117720"/>
                  <a:chOff x="5931360" y="5662800"/>
                  <a:chExt cx="659160" cy="117720"/>
                </a:xfrm>
              </p:grpSpPr>
              <p:cxnSp>
                <p:nvCxnSpPr>
                  <p:cNvPr id="3326" name=""/>
                  <p:cNvCxnSpPr/>
                  <p:nvPr/>
                </p:nvCxnSpPr>
                <p:spPr>
                  <a:xfrm flipH="1" rot="16200000">
                    <a:off x="5999040" y="5595120"/>
                    <a:ext cx="118080" cy="253080"/>
                  </a:xfrm>
                  <a:prstGeom prst="curvedConnector2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sm"/>
                  </a:ln>
                </p:spPr>
              </p:cxnSp>
              <p:cxnSp>
                <p:nvCxnSpPr>
                  <p:cNvPr id="3327" name=""/>
                  <p:cNvCxnSpPr/>
                  <p:nvPr/>
                </p:nvCxnSpPr>
                <p:spPr>
                  <a:xfrm flipH="1" rot="16200000">
                    <a:off x="6138000" y="5594760"/>
                    <a:ext cx="118080" cy="253440"/>
                  </a:xfrm>
                  <a:prstGeom prst="curvedConnector2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sm"/>
                  </a:ln>
                </p:spPr>
              </p:cxnSp>
              <p:cxnSp>
                <p:nvCxnSpPr>
                  <p:cNvPr id="3328" name=""/>
                  <p:cNvCxnSpPr/>
                  <p:nvPr/>
                </p:nvCxnSpPr>
                <p:spPr>
                  <a:xfrm flipH="1" rot="16200000">
                    <a:off x="6271920" y="5595120"/>
                    <a:ext cx="118080" cy="253080"/>
                  </a:xfrm>
                  <a:prstGeom prst="curvedConnector2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sm"/>
                  </a:ln>
                </p:spPr>
              </p:cxnSp>
              <p:cxnSp>
                <p:nvCxnSpPr>
                  <p:cNvPr id="3329" name=""/>
                  <p:cNvCxnSpPr/>
                  <p:nvPr/>
                </p:nvCxnSpPr>
                <p:spPr>
                  <a:xfrm flipH="1" rot="16200000">
                    <a:off x="6405480" y="5595120"/>
                    <a:ext cx="118080" cy="253080"/>
                  </a:xfrm>
                  <a:prstGeom prst="curvedConnector2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sm"/>
                  </a:ln>
                </p:spPr>
              </p:cxnSp>
            </p:grpSp>
            <p:sp>
              <p:nvSpPr>
                <p:cNvPr id="3330" name=""/>
                <p:cNvSpPr/>
                <p:nvPr/>
              </p:nvSpPr>
              <p:spPr>
                <a:xfrm>
                  <a:off x="5443560" y="5311800"/>
                  <a:ext cx="417240" cy="147960"/>
                </a:xfrm>
                <a:prstGeom prst="rect">
                  <a:avLst/>
                </a:prstGeom>
                <a:solidFill>
                  <a:srgbClr val="dddddd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Arial"/>
                    </a:rPr>
                    <a:t>Toulous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31" name=""/>
                <p:cNvGrpSpPr/>
                <p:nvPr/>
              </p:nvGrpSpPr>
              <p:grpSpPr>
                <a:xfrm>
                  <a:off x="5864040" y="5311800"/>
                  <a:ext cx="826560" cy="147600"/>
                  <a:chOff x="5864040" y="5311800"/>
                  <a:chExt cx="826560" cy="147600"/>
                </a:xfrm>
              </p:grpSpPr>
              <p:grpSp>
                <p:nvGrpSpPr>
                  <p:cNvPr id="3332" name=""/>
                  <p:cNvGrpSpPr/>
                  <p:nvPr/>
                </p:nvGrpSpPr>
                <p:grpSpPr>
                  <a:xfrm>
                    <a:off x="5864040" y="5311800"/>
                    <a:ext cx="137880" cy="147600"/>
                    <a:chOff x="5864040" y="5311800"/>
                    <a:chExt cx="137880" cy="147600"/>
                  </a:xfrm>
                </p:grpSpPr>
                <p:sp>
                  <p:nvSpPr>
                    <p:cNvPr id="3333" name=""/>
                    <p:cNvSpPr/>
                    <p:nvPr/>
                  </p:nvSpPr>
                  <p:spPr>
                    <a:xfrm>
                      <a:off x="5864040" y="531180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4" name=""/>
                    <p:cNvSpPr/>
                    <p:nvPr/>
                  </p:nvSpPr>
                  <p:spPr>
                    <a:xfrm>
                      <a:off x="5911560" y="536436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35" name=""/>
                  <p:cNvGrpSpPr/>
                  <p:nvPr/>
                </p:nvGrpSpPr>
                <p:grpSpPr>
                  <a:xfrm>
                    <a:off x="6001920" y="5311800"/>
                    <a:ext cx="137880" cy="147600"/>
                    <a:chOff x="6001920" y="5311800"/>
                    <a:chExt cx="137880" cy="147600"/>
                  </a:xfrm>
                </p:grpSpPr>
                <p:sp>
                  <p:nvSpPr>
                    <p:cNvPr id="3336" name=""/>
                    <p:cNvSpPr/>
                    <p:nvPr/>
                  </p:nvSpPr>
                  <p:spPr>
                    <a:xfrm>
                      <a:off x="6001920" y="531180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7" name=""/>
                    <p:cNvSpPr/>
                    <p:nvPr/>
                  </p:nvSpPr>
                  <p:spPr>
                    <a:xfrm>
                      <a:off x="6049440" y="536436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38" name=""/>
                  <p:cNvGrpSpPr/>
                  <p:nvPr/>
                </p:nvGrpSpPr>
                <p:grpSpPr>
                  <a:xfrm>
                    <a:off x="6140160" y="5311800"/>
                    <a:ext cx="137880" cy="147600"/>
                    <a:chOff x="6140160" y="5311800"/>
                    <a:chExt cx="137880" cy="147600"/>
                  </a:xfrm>
                </p:grpSpPr>
                <p:sp>
                  <p:nvSpPr>
                    <p:cNvPr id="3339" name=""/>
                    <p:cNvSpPr/>
                    <p:nvPr/>
                  </p:nvSpPr>
                  <p:spPr>
                    <a:xfrm>
                      <a:off x="6140160" y="531180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0" name=""/>
                    <p:cNvSpPr/>
                    <p:nvPr/>
                  </p:nvSpPr>
                  <p:spPr>
                    <a:xfrm>
                      <a:off x="6187680" y="536436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41" name=""/>
                  <p:cNvGrpSpPr/>
                  <p:nvPr/>
                </p:nvGrpSpPr>
                <p:grpSpPr>
                  <a:xfrm>
                    <a:off x="6278400" y="5311800"/>
                    <a:ext cx="137880" cy="147600"/>
                    <a:chOff x="6278400" y="5311800"/>
                    <a:chExt cx="137880" cy="147600"/>
                  </a:xfrm>
                </p:grpSpPr>
                <p:sp>
                  <p:nvSpPr>
                    <p:cNvPr id="3342" name=""/>
                    <p:cNvSpPr/>
                    <p:nvPr/>
                  </p:nvSpPr>
                  <p:spPr>
                    <a:xfrm>
                      <a:off x="6278400" y="531180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3" name=""/>
                    <p:cNvSpPr/>
                    <p:nvPr/>
                  </p:nvSpPr>
                  <p:spPr>
                    <a:xfrm>
                      <a:off x="6325920" y="536436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44" name=""/>
                  <p:cNvGrpSpPr/>
                  <p:nvPr/>
                </p:nvGrpSpPr>
                <p:grpSpPr>
                  <a:xfrm>
                    <a:off x="6416280" y="5311800"/>
                    <a:ext cx="137880" cy="147600"/>
                    <a:chOff x="6416280" y="5311800"/>
                    <a:chExt cx="137880" cy="147600"/>
                  </a:xfrm>
                </p:grpSpPr>
                <p:sp>
                  <p:nvSpPr>
                    <p:cNvPr id="3345" name=""/>
                    <p:cNvSpPr/>
                    <p:nvPr/>
                  </p:nvSpPr>
                  <p:spPr>
                    <a:xfrm>
                      <a:off x="6416280" y="531180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6" name=""/>
                    <p:cNvSpPr/>
                    <p:nvPr/>
                  </p:nvSpPr>
                  <p:spPr>
                    <a:xfrm>
                      <a:off x="6463800" y="536436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47" name=""/>
                  <p:cNvGrpSpPr/>
                  <p:nvPr/>
                </p:nvGrpSpPr>
                <p:grpSpPr>
                  <a:xfrm>
                    <a:off x="6552720" y="5311800"/>
                    <a:ext cx="137880" cy="147600"/>
                    <a:chOff x="6552720" y="5311800"/>
                    <a:chExt cx="137880" cy="147600"/>
                  </a:xfrm>
                </p:grpSpPr>
                <p:sp>
                  <p:nvSpPr>
                    <p:cNvPr id="3348" name=""/>
                    <p:cNvSpPr/>
                    <p:nvPr/>
                  </p:nvSpPr>
                  <p:spPr>
                    <a:xfrm>
                      <a:off x="6552720" y="5311800"/>
                      <a:ext cx="137880" cy="147600"/>
                    </a:xfrm>
                    <a:prstGeom prst="rect">
                      <a:avLst/>
                    </a:prstGeom>
                    <a:solidFill>
                      <a:srgbClr val="cccc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9" name=""/>
                    <p:cNvSpPr/>
                    <p:nvPr/>
                  </p:nvSpPr>
                  <p:spPr>
                    <a:xfrm>
                      <a:off x="6600240" y="5364360"/>
                      <a:ext cx="42840" cy="41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350" name=""/>
                <p:cNvGrpSpPr/>
                <p:nvPr/>
              </p:nvGrpSpPr>
              <p:grpSpPr>
                <a:xfrm>
                  <a:off x="5931360" y="5400360"/>
                  <a:ext cx="943200" cy="118080"/>
                  <a:chOff x="5931360" y="5400360"/>
                  <a:chExt cx="943200" cy="118080"/>
                </a:xfrm>
              </p:grpSpPr>
              <p:cxnSp>
                <p:nvCxnSpPr>
                  <p:cNvPr id="3351" name=""/>
                  <p:cNvCxnSpPr/>
                  <p:nvPr/>
                </p:nvCxnSpPr>
                <p:spPr>
                  <a:xfrm flipH="1" rot="16200000">
                    <a:off x="5998680" y="5333040"/>
                    <a:ext cx="118440" cy="253080"/>
                  </a:xfrm>
                  <a:prstGeom prst="curvedConnector2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sm"/>
                  </a:ln>
                </p:spPr>
              </p:cxnSp>
              <p:cxnSp>
                <p:nvCxnSpPr>
                  <p:cNvPr id="3352" name=""/>
                  <p:cNvCxnSpPr/>
                  <p:nvPr/>
                </p:nvCxnSpPr>
                <p:spPr>
                  <a:xfrm flipH="1" rot="16200000">
                    <a:off x="6137640" y="5332680"/>
                    <a:ext cx="118440" cy="253440"/>
                  </a:xfrm>
                  <a:prstGeom prst="curvedConnector2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sm"/>
                  </a:ln>
                </p:spPr>
              </p:cxnSp>
              <p:cxnSp>
                <p:nvCxnSpPr>
                  <p:cNvPr id="3353" name=""/>
                  <p:cNvCxnSpPr/>
                  <p:nvPr/>
                </p:nvCxnSpPr>
                <p:spPr>
                  <a:xfrm flipH="1" rot="16200000">
                    <a:off x="6274800" y="5333040"/>
                    <a:ext cx="118440" cy="253080"/>
                  </a:xfrm>
                  <a:prstGeom prst="curvedConnector2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sm"/>
                  </a:ln>
                </p:spPr>
              </p:cxnSp>
              <p:cxnSp>
                <p:nvCxnSpPr>
                  <p:cNvPr id="3354" name=""/>
                  <p:cNvCxnSpPr/>
                  <p:nvPr/>
                </p:nvCxnSpPr>
                <p:spPr>
                  <a:xfrm flipH="1" rot="16200000">
                    <a:off x="6413040" y="5333040"/>
                    <a:ext cx="118440" cy="253080"/>
                  </a:xfrm>
                  <a:prstGeom prst="curvedConnector2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sm"/>
                  </a:ln>
                </p:spPr>
              </p:cxnSp>
              <p:cxnSp>
                <p:nvCxnSpPr>
                  <p:cNvPr id="3355" name=""/>
                  <p:cNvCxnSpPr/>
                  <p:nvPr/>
                </p:nvCxnSpPr>
                <p:spPr>
                  <a:xfrm flipH="1" rot="16200000">
                    <a:off x="6552000" y="5332680"/>
                    <a:ext cx="118440" cy="253440"/>
                  </a:xfrm>
                  <a:prstGeom prst="curvedConnector2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sm"/>
                  </a:ln>
                </p:spPr>
              </p:cxnSp>
              <p:cxnSp>
                <p:nvCxnSpPr>
                  <p:cNvPr id="3356" name=""/>
                  <p:cNvCxnSpPr/>
                  <p:nvPr/>
                </p:nvCxnSpPr>
                <p:spPr>
                  <a:xfrm flipH="1" rot="16200000">
                    <a:off x="6689160" y="5333040"/>
                    <a:ext cx="118440" cy="253080"/>
                  </a:xfrm>
                  <a:prstGeom prst="curvedConnector2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sm"/>
                  </a:ln>
                </p:spPr>
              </p:cxnSp>
            </p:grpSp>
          </p:grpSp>
        </p:grpSp>
        <p:sp>
          <p:nvSpPr>
            <p:cNvPr id="3357" name=""/>
            <p:cNvSpPr/>
            <p:nvPr/>
          </p:nvSpPr>
          <p:spPr>
            <a:xfrm>
              <a:off x="5524560" y="6105600"/>
              <a:ext cx="1380960" cy="2667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ffff00"/>
                  </a:solidFill>
                  <a:latin typeface="Arial"/>
                </a:rPr>
                <a:t>n</a:t>
              </a:r>
              <a:r>
                <a:rPr b="1" lang="fr-FR" sz="900" spc="-1" strike="noStrike">
                  <a:solidFill>
                    <a:srgbClr val="ffff00"/>
                  </a:solidFill>
                  <a:latin typeface="Arial"/>
                </a:rPr>
                <a:t>er</a:t>
              </a:r>
              <a:r>
                <a:rPr b="1" lang="fr-FR" sz="1000" spc="-1" strike="noStrike">
                  <a:solidFill>
                    <a:srgbClr val="ffff00"/>
                  </a:solidFill>
                  <a:latin typeface="Arial"/>
                </a:rPr>
                <a:t> entrées réel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8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9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0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1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8 Les index second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2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3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"/>
          <p:cNvSpPr/>
          <p:nvPr/>
        </p:nvSpPr>
        <p:spPr>
          <a:xfrm>
            <a:off x="3343320" y="1530360"/>
            <a:ext cx="23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s index bit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6" name=""/>
          <p:cNvGrpSpPr/>
          <p:nvPr/>
        </p:nvGrpSpPr>
        <p:grpSpPr>
          <a:xfrm>
            <a:off x="3219480" y="3165480"/>
            <a:ext cx="1962000" cy="1792440"/>
            <a:chOff x="3219480" y="3165480"/>
            <a:chExt cx="1962000" cy="1792440"/>
          </a:xfrm>
        </p:grpSpPr>
        <p:sp>
          <p:nvSpPr>
            <p:cNvPr id="3367" name=""/>
            <p:cNvSpPr/>
            <p:nvPr/>
          </p:nvSpPr>
          <p:spPr>
            <a:xfrm>
              <a:off x="3678840" y="3165480"/>
              <a:ext cx="1160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</a:rPr>
                <a:t>Index (LOCALIT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3219480" y="3434040"/>
              <a:ext cx="1962000" cy="15238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 rot="16200000">
              <a:off x="2854440" y="3973680"/>
              <a:ext cx="1304640" cy="473040"/>
            </a:xfrm>
            <a:prstGeom prst="triangle">
              <a:avLst>
                <a:gd name="adj" fmla="val 50088"/>
              </a:avLst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3806640" y="3546720"/>
              <a:ext cx="417600" cy="14760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Bruxell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3806640" y="3740400"/>
              <a:ext cx="417600" cy="14760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Genèv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3806640" y="3935520"/>
              <a:ext cx="417600" cy="14760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Lill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3806640" y="4326120"/>
              <a:ext cx="417600" cy="14760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Pari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3806640" y="4718160"/>
              <a:ext cx="417600" cy="14760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Toulous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3806640" y="4521240"/>
              <a:ext cx="417600" cy="14760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Poitier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3806640" y="4131000"/>
              <a:ext cx="417600" cy="14760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Namu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4225680" y="3546720"/>
              <a:ext cx="863640" cy="1476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1000000000000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4225680" y="3740400"/>
              <a:ext cx="863640" cy="1476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0100000000000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4225680" y="3935520"/>
              <a:ext cx="863640" cy="1476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0001000000000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4225680" y="4326120"/>
              <a:ext cx="863640" cy="1476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0000000010000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4225680" y="4718160"/>
              <a:ext cx="863640" cy="1476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000000000001011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4225680" y="4521240"/>
              <a:ext cx="863640" cy="1476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0000000101101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4225680" y="4131000"/>
              <a:ext cx="863640" cy="1476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0010111000000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4" name=""/>
          <p:cNvSpPr/>
          <p:nvPr/>
        </p:nvSpPr>
        <p:spPr>
          <a:xfrm>
            <a:off x="634680" y="5332320"/>
            <a:ext cx="766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haînes très longues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compression par technique sans pertes (LZN par exemp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5" name=""/>
          <p:cNvSpPr/>
          <p:nvPr/>
        </p:nvSpPr>
        <p:spPr>
          <a:xfrm>
            <a:off x="1768680" y="2220840"/>
            <a:ext cx="520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haque entré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K = k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comporte une chaîn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bi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 l'enregistremen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st tel qu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K = k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, alor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(i)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6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7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8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8 Les index second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9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0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1" name=""/>
          <p:cNvSpPr/>
          <p:nvPr/>
        </p:nvSpPr>
        <p:spPr>
          <a:xfrm>
            <a:off x="2314440" y="1530360"/>
            <a:ext cx="39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s index identifiants augment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2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3" name=""/>
          <p:cNvSpPr/>
          <p:nvPr/>
        </p:nvSpPr>
        <p:spPr>
          <a:xfrm>
            <a:off x="1448640" y="1992240"/>
            <a:ext cx="585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s entrées contiennent des valeurs de champs additionnel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4" name=""/>
          <p:cNvGrpSpPr/>
          <p:nvPr/>
        </p:nvGrpSpPr>
        <p:grpSpPr>
          <a:xfrm>
            <a:off x="676440" y="2409840"/>
            <a:ext cx="4533480" cy="3401640"/>
            <a:chOff x="676440" y="2409840"/>
            <a:chExt cx="4533480" cy="3401640"/>
          </a:xfrm>
        </p:grpSpPr>
        <p:sp>
          <p:nvSpPr>
            <p:cNvPr id="3395" name=""/>
            <p:cNvSpPr/>
            <p:nvPr/>
          </p:nvSpPr>
          <p:spPr>
            <a:xfrm>
              <a:off x="747720" y="2666880"/>
              <a:ext cx="1752120" cy="31446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1415880" y="2768400"/>
              <a:ext cx="276120" cy="14796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B06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2265480" y="2768400"/>
              <a:ext cx="137520" cy="14796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2313000" y="2820960"/>
              <a:ext cx="42480" cy="42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1415880" y="5570280"/>
              <a:ext cx="276120" cy="14760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S71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2265480" y="5570280"/>
              <a:ext cx="137520" cy="14760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2313000" y="5622840"/>
              <a:ext cx="42480" cy="42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1415880" y="2954160"/>
              <a:ext cx="276120" cy="14940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B11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2265480" y="2954160"/>
              <a:ext cx="137520" cy="14940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2313000" y="3008160"/>
              <a:ext cx="42480" cy="41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1415880" y="3142080"/>
              <a:ext cx="276120" cy="14760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B33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2265480" y="3142080"/>
              <a:ext cx="137520" cy="14760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2313000" y="3194280"/>
              <a:ext cx="42480" cy="42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1415880" y="3327840"/>
              <a:ext cx="276120" cy="14760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B51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2265480" y="3327840"/>
              <a:ext cx="137520" cy="14760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2313000" y="3380040"/>
              <a:ext cx="42480" cy="42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1415880" y="3516480"/>
              <a:ext cx="276120" cy="14616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C00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2265480" y="3516480"/>
              <a:ext cx="137520" cy="14616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2313000" y="3569040"/>
              <a:ext cx="42480" cy="41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1415880" y="3702240"/>
              <a:ext cx="276120" cy="14760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C12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2265480" y="3702240"/>
              <a:ext cx="137520" cy="14760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2313000" y="3754800"/>
              <a:ext cx="42480" cy="42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1415880" y="3888360"/>
              <a:ext cx="276120" cy="14940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C4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2265480" y="3888360"/>
              <a:ext cx="137520" cy="14940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2313000" y="3942360"/>
              <a:ext cx="42480" cy="41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1415880" y="4075920"/>
              <a:ext cx="276120" cy="14760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D06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2265480" y="4075920"/>
              <a:ext cx="137520" cy="14760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2313000" y="4128120"/>
              <a:ext cx="42480" cy="42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1415880" y="4261680"/>
              <a:ext cx="276120" cy="14760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F01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2265480" y="4261680"/>
              <a:ext cx="137520" cy="14760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2313000" y="4313880"/>
              <a:ext cx="42480" cy="42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1415880" y="4447440"/>
              <a:ext cx="276120" cy="14760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F01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2265480" y="4447440"/>
              <a:ext cx="137520" cy="14760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2313000" y="4500000"/>
              <a:ext cx="42480" cy="42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1415880" y="4636440"/>
              <a:ext cx="276120" cy="14760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F4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2265480" y="4636440"/>
              <a:ext cx="137520" cy="14760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2313000" y="4689000"/>
              <a:ext cx="42480" cy="42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1415880" y="4822200"/>
              <a:ext cx="276120" cy="14616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K11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2265480" y="4822200"/>
              <a:ext cx="137520" cy="14616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2313000" y="4874760"/>
              <a:ext cx="42480" cy="410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1415880" y="5007960"/>
              <a:ext cx="276120" cy="14940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K729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2265480" y="5007960"/>
              <a:ext cx="137520" cy="14940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2313000" y="5061960"/>
              <a:ext cx="42480" cy="41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1415880" y="5195520"/>
              <a:ext cx="276120" cy="14796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L42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2265480" y="5195520"/>
              <a:ext cx="137520" cy="14796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2313000" y="5248080"/>
              <a:ext cx="42480" cy="42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1415880" y="5381280"/>
              <a:ext cx="276120" cy="14796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S12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2265480" y="5381280"/>
              <a:ext cx="137520" cy="14796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2313000" y="5433840"/>
              <a:ext cx="42480" cy="42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 rot="16200000">
              <a:off x="-380160" y="3993120"/>
              <a:ext cx="2916360" cy="520200"/>
            </a:xfrm>
            <a:prstGeom prst="triangle">
              <a:avLst>
                <a:gd name="adj" fmla="val 50088"/>
              </a:avLst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676440" y="2422440"/>
              <a:ext cx="1901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</a:rPr>
                <a:t>Index (NCLI + [LOCALITE,CAT]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3791520" y="2409840"/>
              <a:ext cx="110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Fichier de b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3414600" y="2666880"/>
              <a:ext cx="1795320" cy="31446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3576600" y="2733480"/>
              <a:ext cx="1501560" cy="3016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3605040" y="3143520"/>
              <a:ext cx="27612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B06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4465440" y="3143520"/>
              <a:ext cx="41724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Namu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3881520" y="3143520"/>
              <a:ext cx="58212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GOFFI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4883040" y="3143520"/>
              <a:ext cx="15840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B2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3605040" y="4263120"/>
              <a:ext cx="27612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S71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4465440" y="4263120"/>
              <a:ext cx="41724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Pari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3881520" y="4263120"/>
              <a:ext cx="58356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GUILLAUM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4883040" y="4263120"/>
              <a:ext cx="15840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B1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3605040" y="4075920"/>
              <a:ext cx="27612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B11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4465440" y="4075920"/>
              <a:ext cx="41724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Poitier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3881520" y="4075920"/>
              <a:ext cx="58212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HANSENN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4883040" y="4075920"/>
              <a:ext cx="15840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C1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3605040" y="2955960"/>
              <a:ext cx="27612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B33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4465440" y="2955960"/>
              <a:ext cx="41724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Genèv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3881520" y="2955960"/>
              <a:ext cx="58356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MONT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4883040" y="2955960"/>
              <a:ext cx="15840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B2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3605040" y="5570280"/>
              <a:ext cx="27612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B51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4465440" y="5570280"/>
              <a:ext cx="41724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Toulous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3881520" y="5570280"/>
              <a:ext cx="58356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GILL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4883040" y="5570280"/>
              <a:ext cx="15840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B1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3605040" y="5383080"/>
              <a:ext cx="27612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C00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4465440" y="5383080"/>
              <a:ext cx="41724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Toulous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3881520" y="5383080"/>
              <a:ext cx="58212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AVR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4883040" y="5383080"/>
              <a:ext cx="15840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B1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3605040" y="3516480"/>
              <a:ext cx="27612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C12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4465440" y="3516480"/>
              <a:ext cx="41724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Namu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3881520" y="3516480"/>
              <a:ext cx="58356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MERC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4883040" y="3516480"/>
              <a:ext cx="15840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C1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3605040" y="5009760"/>
              <a:ext cx="27612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C4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4465440" y="5009760"/>
              <a:ext cx="41724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Poitier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3881520" y="5009760"/>
              <a:ext cx="58212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FERAR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4883040" y="5009760"/>
              <a:ext cx="15840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B2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3605040" y="5195520"/>
              <a:ext cx="27612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D06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4465440" y="5195520"/>
              <a:ext cx="41724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Toulous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3881520" y="5195520"/>
              <a:ext cx="58212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MERCI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4883040" y="5195520"/>
              <a:ext cx="15840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A1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3605040" y="4636440"/>
              <a:ext cx="27612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F01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4465440" y="4636440"/>
              <a:ext cx="41724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Poitier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3881520" y="4636440"/>
              <a:ext cx="58356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TOUSSAIN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4883040" y="4636440"/>
              <a:ext cx="15840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C1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3605040" y="4448880"/>
              <a:ext cx="27612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F01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4465440" y="4448880"/>
              <a:ext cx="41724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Poitier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3881520" y="4448880"/>
              <a:ext cx="58356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PONCEL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4883040" y="4448880"/>
              <a:ext cx="15840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B2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3605040" y="2770200"/>
              <a:ext cx="27612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F4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4465440" y="2770200"/>
              <a:ext cx="41724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Bruxell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3881520" y="2770200"/>
              <a:ext cx="58212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JACO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4883040" y="2770200"/>
              <a:ext cx="15840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C2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3605040" y="3329280"/>
              <a:ext cx="27612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K11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4465440" y="3329280"/>
              <a:ext cx="41724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Lill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3881520" y="3329280"/>
              <a:ext cx="58212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VANBIS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4883040" y="3329280"/>
              <a:ext cx="15840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B1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3605040" y="4822200"/>
              <a:ext cx="27612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K729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4465440" y="4822200"/>
              <a:ext cx="41724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Toulous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3881520" y="4822200"/>
              <a:ext cx="58212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NEUMA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4883040" y="4822200"/>
              <a:ext cx="15840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B3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3605040" y="3702240"/>
              <a:ext cx="27612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L42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4465440" y="3702240"/>
              <a:ext cx="41724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Namu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3881520" y="3702240"/>
              <a:ext cx="58212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FRANK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4883040" y="3702240"/>
              <a:ext cx="15840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C1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3605040" y="3890160"/>
              <a:ext cx="27612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S12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4883040" y="3890160"/>
              <a:ext cx="15840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C1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4465440" y="3890160"/>
              <a:ext cx="41724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Namu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3881520" y="3890160"/>
              <a:ext cx="58212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VANDERK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13" name=""/>
            <p:cNvCxnSpPr>
              <a:stCxn id="3398" idx="6"/>
              <a:endCxn id="3449" idx="1"/>
            </p:cNvCxnSpPr>
            <p:nvPr/>
          </p:nvCxnSpPr>
          <p:spPr>
            <a:xfrm>
              <a:off x="2355480" y="2843280"/>
              <a:ext cx="1249560" cy="375120"/>
            </a:xfrm>
            <a:prstGeom prst="curvedConnector5">
              <a:avLst>
                <a:gd name="adj1" fmla="val 49913"/>
                <a:gd name="adj2" fmla="val 49951"/>
                <a:gd name="adj3" fmla="val 49913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514" name=""/>
            <p:cNvCxnSpPr>
              <a:stCxn id="3404" idx="6"/>
              <a:endCxn id="3457" idx="1"/>
            </p:cNvCxnSpPr>
            <p:nvPr/>
          </p:nvCxnSpPr>
          <p:spPr>
            <a:xfrm>
              <a:off x="2355480" y="3029040"/>
              <a:ext cx="1249560" cy="1121760"/>
            </a:xfrm>
            <a:prstGeom prst="curvedConnector5">
              <a:avLst>
                <a:gd name="adj1" fmla="val 49913"/>
                <a:gd name="adj2" fmla="val 49983"/>
                <a:gd name="adj3" fmla="val 49913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515" name=""/>
            <p:cNvCxnSpPr>
              <a:stCxn id="3407" idx="6"/>
              <a:endCxn id="3461" idx="1"/>
            </p:cNvCxnSpPr>
            <p:nvPr/>
          </p:nvCxnSpPr>
          <p:spPr>
            <a:xfrm flipV="1">
              <a:off x="2355480" y="3030120"/>
              <a:ext cx="1249560" cy="186480"/>
            </a:xfrm>
            <a:prstGeom prst="curvedConnector5">
              <a:avLst>
                <a:gd name="adj1" fmla="val 49913"/>
                <a:gd name="adj2" fmla="val 49903"/>
                <a:gd name="adj3" fmla="val 49913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516" name=""/>
            <p:cNvCxnSpPr>
              <a:stCxn id="3410" idx="6"/>
              <a:endCxn id="3465" idx="1"/>
            </p:cNvCxnSpPr>
            <p:nvPr/>
          </p:nvCxnSpPr>
          <p:spPr>
            <a:xfrm>
              <a:off x="2355480" y="3402000"/>
              <a:ext cx="1249560" cy="2243160"/>
            </a:xfrm>
            <a:prstGeom prst="curvedConnector5">
              <a:avLst>
                <a:gd name="adj1" fmla="val 49913"/>
                <a:gd name="adj2" fmla="val 50000"/>
                <a:gd name="adj3" fmla="val 49913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517" name=""/>
            <p:cNvCxnSpPr>
              <a:stCxn id="3413" idx="6"/>
              <a:endCxn id="3469" idx="1"/>
            </p:cNvCxnSpPr>
            <p:nvPr/>
          </p:nvCxnSpPr>
          <p:spPr>
            <a:xfrm>
              <a:off x="2355480" y="3589560"/>
              <a:ext cx="1249560" cy="1868400"/>
            </a:xfrm>
            <a:prstGeom prst="curvedConnector5">
              <a:avLst>
                <a:gd name="adj1" fmla="val 49913"/>
                <a:gd name="adj2" fmla="val 49990"/>
                <a:gd name="adj3" fmla="val 49913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518" name=""/>
            <p:cNvCxnSpPr>
              <a:stCxn id="3416" idx="6"/>
              <a:endCxn id="3473" idx="1"/>
            </p:cNvCxnSpPr>
            <p:nvPr/>
          </p:nvCxnSpPr>
          <p:spPr>
            <a:xfrm flipV="1">
              <a:off x="2355480" y="3591000"/>
              <a:ext cx="1249560" cy="186480"/>
            </a:xfrm>
            <a:prstGeom prst="curvedConnector5">
              <a:avLst>
                <a:gd name="adj1" fmla="val 49913"/>
                <a:gd name="adj2" fmla="val 49903"/>
                <a:gd name="adj3" fmla="val 49913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519" name=""/>
            <p:cNvCxnSpPr>
              <a:stCxn id="3419" idx="6"/>
              <a:endCxn id="3477" idx="1"/>
            </p:cNvCxnSpPr>
            <p:nvPr/>
          </p:nvCxnSpPr>
          <p:spPr>
            <a:xfrm>
              <a:off x="2355480" y="3963240"/>
              <a:ext cx="1249560" cy="1121760"/>
            </a:xfrm>
            <a:prstGeom prst="curvedConnector5">
              <a:avLst>
                <a:gd name="adj1" fmla="val 49913"/>
                <a:gd name="adj2" fmla="val 49983"/>
                <a:gd name="adj3" fmla="val 49913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520" name=""/>
            <p:cNvCxnSpPr>
              <a:stCxn id="3422" idx="6"/>
              <a:endCxn id="3481" idx="1"/>
            </p:cNvCxnSpPr>
            <p:nvPr/>
          </p:nvCxnSpPr>
          <p:spPr>
            <a:xfrm>
              <a:off x="2355480" y="4150440"/>
              <a:ext cx="1249560" cy="1120320"/>
            </a:xfrm>
            <a:prstGeom prst="curvedConnector5">
              <a:avLst>
                <a:gd name="adj1" fmla="val 49913"/>
                <a:gd name="adj2" fmla="val 49983"/>
                <a:gd name="adj3" fmla="val 49913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521" name=""/>
            <p:cNvCxnSpPr>
              <a:stCxn id="3425" idx="6"/>
              <a:endCxn id="3485" idx="1"/>
            </p:cNvCxnSpPr>
            <p:nvPr/>
          </p:nvCxnSpPr>
          <p:spPr>
            <a:xfrm>
              <a:off x="2355480" y="4335840"/>
              <a:ext cx="1249560" cy="375480"/>
            </a:xfrm>
            <a:prstGeom prst="curvedConnector5">
              <a:avLst>
                <a:gd name="adj1" fmla="val 49913"/>
                <a:gd name="adj2" fmla="val 50000"/>
                <a:gd name="adj3" fmla="val 49913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522" name=""/>
            <p:cNvCxnSpPr>
              <a:stCxn id="3428" idx="6"/>
              <a:endCxn id="3489" idx="1"/>
            </p:cNvCxnSpPr>
            <p:nvPr/>
          </p:nvCxnSpPr>
          <p:spPr>
            <a:xfrm>
              <a:off x="2355480" y="4522320"/>
              <a:ext cx="1249560" cy="2160"/>
            </a:xfrm>
            <a:prstGeom prst="curvedConnector5">
              <a:avLst>
                <a:gd name="adj1" fmla="val 49913"/>
                <a:gd name="adj2" fmla="val 40000"/>
                <a:gd name="adj3" fmla="val 49913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523" name=""/>
            <p:cNvCxnSpPr>
              <a:stCxn id="3431" idx="6"/>
              <a:endCxn id="3493" idx="1"/>
            </p:cNvCxnSpPr>
            <p:nvPr/>
          </p:nvCxnSpPr>
          <p:spPr>
            <a:xfrm flipV="1">
              <a:off x="2355480" y="2844360"/>
              <a:ext cx="1249560" cy="1866960"/>
            </a:xfrm>
            <a:prstGeom prst="curvedConnector5">
              <a:avLst>
                <a:gd name="adj1" fmla="val 49913"/>
                <a:gd name="adj2" fmla="val 49990"/>
                <a:gd name="adj3" fmla="val 49913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524" name=""/>
            <p:cNvCxnSpPr>
              <a:stCxn id="3434" idx="6"/>
              <a:endCxn id="3497" idx="1"/>
            </p:cNvCxnSpPr>
            <p:nvPr/>
          </p:nvCxnSpPr>
          <p:spPr>
            <a:xfrm flipV="1">
              <a:off x="2355480" y="3403080"/>
              <a:ext cx="1249560" cy="1492200"/>
            </a:xfrm>
            <a:prstGeom prst="curvedConnector5">
              <a:avLst>
                <a:gd name="adj1" fmla="val 49913"/>
                <a:gd name="adj2" fmla="val 50000"/>
                <a:gd name="adj3" fmla="val 49913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525" name=""/>
            <p:cNvCxnSpPr>
              <a:stCxn id="3437" idx="6"/>
              <a:endCxn id="3501" idx="1"/>
            </p:cNvCxnSpPr>
            <p:nvPr/>
          </p:nvCxnSpPr>
          <p:spPr>
            <a:xfrm flipV="1">
              <a:off x="2355480" y="4896360"/>
              <a:ext cx="1249560" cy="186480"/>
            </a:xfrm>
            <a:prstGeom prst="curvedConnector5">
              <a:avLst>
                <a:gd name="adj1" fmla="val 49913"/>
                <a:gd name="adj2" fmla="val 49903"/>
                <a:gd name="adj3" fmla="val 49913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526" name=""/>
            <p:cNvCxnSpPr>
              <a:stCxn id="3440" idx="6"/>
              <a:endCxn id="3505" idx="1"/>
            </p:cNvCxnSpPr>
            <p:nvPr/>
          </p:nvCxnSpPr>
          <p:spPr>
            <a:xfrm flipV="1">
              <a:off x="2355480" y="3776760"/>
              <a:ext cx="1249560" cy="1493640"/>
            </a:xfrm>
            <a:prstGeom prst="curvedConnector5">
              <a:avLst>
                <a:gd name="adj1" fmla="val 49913"/>
                <a:gd name="adj2" fmla="val 50000"/>
                <a:gd name="adj3" fmla="val 49913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527" name=""/>
            <p:cNvCxnSpPr>
              <a:stCxn id="3443" idx="6"/>
              <a:endCxn id="3509" idx="1"/>
            </p:cNvCxnSpPr>
            <p:nvPr/>
          </p:nvCxnSpPr>
          <p:spPr>
            <a:xfrm flipV="1">
              <a:off x="2355480" y="3963960"/>
              <a:ext cx="1249560" cy="1492200"/>
            </a:xfrm>
            <a:prstGeom prst="curvedConnector5">
              <a:avLst>
                <a:gd name="adj1" fmla="val 49913"/>
                <a:gd name="adj2" fmla="val 50000"/>
                <a:gd name="adj3" fmla="val 49913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528" name=""/>
            <p:cNvCxnSpPr>
              <a:stCxn id="3401" idx="6"/>
              <a:endCxn id="3453" idx="1"/>
            </p:cNvCxnSpPr>
            <p:nvPr/>
          </p:nvCxnSpPr>
          <p:spPr>
            <a:xfrm flipV="1">
              <a:off x="2355480" y="4337280"/>
              <a:ext cx="1249560" cy="1307520"/>
            </a:xfrm>
            <a:prstGeom prst="curvedConnector5">
              <a:avLst>
                <a:gd name="adj1" fmla="val 49913"/>
                <a:gd name="adj2" fmla="val 49986"/>
                <a:gd name="adj3" fmla="val 49913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3529" name=""/>
            <p:cNvSpPr/>
            <p:nvPr/>
          </p:nvSpPr>
          <p:spPr>
            <a:xfrm>
              <a:off x="1689120" y="3142080"/>
              <a:ext cx="41724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Namu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2106720" y="3142080"/>
              <a:ext cx="15840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B2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1689120" y="4261680"/>
              <a:ext cx="41724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Pari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2106720" y="4261680"/>
              <a:ext cx="15840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B1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1689120" y="4075920"/>
              <a:ext cx="41724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Poitier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2106720" y="4075920"/>
              <a:ext cx="15840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C1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1689120" y="2954160"/>
              <a:ext cx="41724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Genèv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2106720" y="2954160"/>
              <a:ext cx="15840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B2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1689120" y="5570280"/>
              <a:ext cx="41724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Toulous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2106720" y="5570280"/>
              <a:ext cx="15840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B1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1689120" y="5381280"/>
              <a:ext cx="41724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Toulous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2106720" y="5381280"/>
              <a:ext cx="15840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B1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1689120" y="3516480"/>
              <a:ext cx="41724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Namu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2106720" y="3516480"/>
              <a:ext cx="15840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C1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1689120" y="5007960"/>
              <a:ext cx="41724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Poitier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2106720" y="5007960"/>
              <a:ext cx="15840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B2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1689120" y="5195520"/>
              <a:ext cx="41724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Toulous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2106720" y="5195520"/>
              <a:ext cx="15840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A1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1689120" y="4636440"/>
              <a:ext cx="41724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Poitier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2106720" y="4636440"/>
              <a:ext cx="15840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C1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1689120" y="4447440"/>
              <a:ext cx="41724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Poitier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2106720" y="4447440"/>
              <a:ext cx="15840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B2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1689120" y="2768400"/>
              <a:ext cx="41724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Bruxell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2106720" y="2768400"/>
              <a:ext cx="15840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C2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1689120" y="3327840"/>
              <a:ext cx="41724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Lill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2106720" y="3327840"/>
              <a:ext cx="15840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B1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1689120" y="4822200"/>
              <a:ext cx="41724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Toulous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2106720" y="4822200"/>
              <a:ext cx="15840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B3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1689120" y="3702240"/>
              <a:ext cx="41724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Namu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2106720" y="3702240"/>
              <a:ext cx="15840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C1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2106720" y="3888360"/>
              <a:ext cx="15840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C1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1689120" y="3888360"/>
              <a:ext cx="417240" cy="1429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Namu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1" name=""/>
          <p:cNvSpPr/>
          <p:nvPr/>
        </p:nvSpPr>
        <p:spPr>
          <a:xfrm>
            <a:off x="5402160" y="2849400"/>
            <a:ext cx="363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bjectif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éviter l'accès au fichier de ba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2" name=""/>
          <p:cNvSpPr/>
          <p:nvPr/>
        </p:nvSpPr>
        <p:spPr>
          <a:xfrm>
            <a:off x="5593320" y="3587760"/>
            <a:ext cx="3053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Courier New"/>
              </a:rPr>
              <a:t>select NCLI, LOCALITE, C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Courier New"/>
              </a:rPr>
              <a:t>from CLIENT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Courier New"/>
              </a:rPr>
              <a:t>where  NCLI between k1 and k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Courier New"/>
              </a:rPr>
              <a:t>and CAT like 'B%'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3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4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5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8 Les index second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6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7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8" name=""/>
          <p:cNvSpPr/>
          <p:nvPr/>
        </p:nvSpPr>
        <p:spPr>
          <a:xfrm>
            <a:off x="2352600" y="1596960"/>
            <a:ext cx="56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erformances d'un index secondai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9" name=""/>
          <p:cNvSpPr/>
          <p:nvPr/>
        </p:nvSpPr>
        <p:spPr>
          <a:xfrm>
            <a:off x="762120" y="2371680"/>
            <a:ext cx="7605720" cy="14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Un index secondaire est constitué d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un dictionnaire de valeurs; pour chacune des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entrées théoriques,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r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entrées réelles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une valeur de K de longueur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une sous-liste de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R'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point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un index primaire pour l'accès au dictionnaire de valeurs (séquentiel indexé ou calculé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"/>
          <p:cNvSpPr/>
          <p:nvPr/>
        </p:nvSpPr>
        <p:spPr>
          <a:xfrm>
            <a:off x="762120" y="4581360"/>
            <a:ext cx="81198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e volume de l'ind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e temps d'accès aux enregistrements selon le critère "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where K = k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e temps d'accès aux enregistrements selon le critère "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where K between k1 and k2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1" name=""/>
          <p:cNvSpPr/>
          <p:nvPr/>
        </p:nvSpPr>
        <p:spPr>
          <a:xfrm>
            <a:off x="707040" y="4248000"/>
            <a:ext cx="438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n dispose donc de tous les éléments pour calculer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2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3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5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6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"/>
          <p:cNvSpPr/>
          <p:nvPr/>
        </p:nvSpPr>
        <p:spPr>
          <a:xfrm>
            <a:off x="2392200" y="1392120"/>
            <a:ext cx="48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4.9  Les techniques d'agré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8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9" name=""/>
          <p:cNvSpPr/>
          <p:nvPr/>
        </p:nvSpPr>
        <p:spPr>
          <a:xfrm>
            <a:off x="4629240" y="6610320"/>
            <a:ext cx="4514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0" name=""/>
          <p:cNvSpPr/>
          <p:nvPr/>
        </p:nvSpPr>
        <p:spPr>
          <a:xfrm>
            <a:off x="0" y="704880"/>
            <a:ext cx="9144000" cy="428760"/>
          </a:xfrm>
          <a:prstGeom prst="rect">
            <a:avLst/>
          </a:prstGeom>
          <a:solidFill>
            <a:srgbClr val="da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1" name=""/>
          <p:cNvSpPr/>
          <p:nvPr/>
        </p:nvSpPr>
        <p:spPr>
          <a:xfrm>
            <a:off x="114480" y="752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4.9 Les techniques d'agrég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2" name=""/>
          <p:cNvSpPr/>
          <p:nvPr/>
        </p:nvSpPr>
        <p:spPr>
          <a:xfrm>
            <a:off x="0" y="6610320"/>
            <a:ext cx="46386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I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3" name=""/>
          <p:cNvSpPr/>
          <p:nvPr/>
        </p:nvSpPr>
        <p:spPr>
          <a:xfrm>
            <a:off x="0" y="0"/>
            <a:ext cx="463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1. Motivation et introduction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5. Les SG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2. Concepts des bas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3. Modèle relationnel et norm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 Implémentation des structures de don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4" name=""/>
          <p:cNvSpPr/>
          <p:nvPr/>
        </p:nvSpPr>
        <p:spPr>
          <a:xfrm>
            <a:off x="1123920" y="1587600"/>
            <a:ext cx="708336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oximité logique 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proximité physi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5" name=""/>
          <p:cNvSpPr/>
          <p:nvPr/>
        </p:nvSpPr>
        <p:spPr>
          <a:xfrm>
            <a:off x="1123920" y="2301840"/>
            <a:ext cx="7083360" cy="1371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oximité logiqu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registrements d'un fichier lus successi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registrements lus dans un certain ord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registrements couplés par des associ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6" name=""/>
          <p:cNvSpPr/>
          <p:nvPr/>
        </p:nvSpPr>
        <p:spPr>
          <a:xfrm>
            <a:off x="1123920" y="3825720"/>
            <a:ext cx="7083360" cy="102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oximité physiqu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registrements dans la même 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registrements dans des pages success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7" name=""/>
          <p:cNvSpPr/>
          <p:nvPr/>
        </p:nvSpPr>
        <p:spPr>
          <a:xfrm>
            <a:off x="1123920" y="5359320"/>
            <a:ext cx="708336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bjectif : minimiser le nombre d'accès phys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8" name=""/>
          <p:cNvSpPr/>
          <p:nvPr/>
        </p:nvSpPr>
        <p:spPr>
          <a:xfrm>
            <a:off x="4629240" y="0"/>
            <a:ext cx="451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. . .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8 Les index second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5 Les index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4.9 Les techniques d'agré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6 Organisation séquent. index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10 Un exemple : SQL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4.7 Organisation calculée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13:06:18Z</dcterms:created>
  <dc:creator>X</dc:creator>
  <dc:description/>
  <dc:language>en-US</dc:language>
  <cp:lastModifiedBy>X</cp:lastModifiedBy>
  <dcterms:modified xsi:type="dcterms:W3CDTF">2012-01-26T14:55:04Z</dcterms:modified>
  <cp:revision>279</cp:revision>
  <dc:subject/>
  <dc:title>Aucun titre de diapositive</dc:title>
</cp:coreProperties>
</file>