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41E123-FF59-4A7B-9064-F56CD78980DC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2960" y="4490640"/>
            <a:ext cx="50292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805-993B-45A7-B0E8-941B9D0E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F54-4650-4F16-A48F-6715B26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5CF-8BCB-4624-9DAF-197223F1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D3C-1B66-4EF8-A65C-ED6AB1E4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114-1BEC-4BA5-A90F-7149CC3D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FDA-6DDD-49FA-894B-FE6B2C2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D0A-9EBE-4A3A-A2F4-867A2D5C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424-6277-497C-9B49-0DAED06B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B81-AD04-4546-B527-F33A7A0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B99-74BE-45D7-BF68-30F47C9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3F3-9B21-445F-876A-F3C9E1B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A22-595F-4EB4-BDCB-D61B648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01DB10-CA04-4740-910C-82B6101EB35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9520" y="6434280"/>
            <a:ext cx="120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I - </a:t>
            </a:r>
            <a:fld id="{769CC61E-3240-4660-9806-E41E29064758}" type="slidenum">
              <a:rPr b="0" lang="fr-F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20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fr-FR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07152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3365fb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6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’architecture du Serveur Oracle7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et arrêt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une base de données complèt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’accès aux données et leur mise à jo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a concurrence d’accès des transactions et la lecture consistant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rsonnaliser la base de données —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init.or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a structure de la base de données à l’aide des tablespac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et contrôler l’allocation et la croissance des segments de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a place de stockage dans la base de données avec les tables, les index, les clusters indexés, et les clusters  has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es segments de rollback et les segments tempor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arantir l’intégrité des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25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, surveiller, et supprimer des utilisateurs dans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rôler la consommation de ressources système des utilisateu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ctroyer, surveiller, et contrôler les privilèges dans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r les contextes nationaux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et activer ou désactiver l’aud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’architecture avancée du serv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0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procédures de la base de données et les options complément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a base de données en utilisant Server Manag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501480"/>
            <a:ext cx="815364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âches de l'Administrateur d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4880" y="264312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1852560"/>
            <a:ext cx="4343400" cy="4191120"/>
          </a:xfrm>
          <a:prstGeom prst="ellipse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49680" y="18604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49680" y="451944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39099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83200" y="3986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4600" y="2473200"/>
            <a:ext cx="1208160" cy="12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40200" y="345276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6b61"/>
              </a:gs>
              <a:gs pos="100000">
                <a:srgbClr val="00554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25440" y="4367160"/>
            <a:ext cx="10666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02120" y="2386080"/>
            <a:ext cx="99036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0920" y="4367160"/>
            <a:ext cx="1218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91560" y="2254320"/>
            <a:ext cx="890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émarre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 arrête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91200" y="2979720"/>
            <a:ext cx="1206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prendr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' Archit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 Serveu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Ora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67520" y="4210200"/>
            <a:ext cx="11390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réer 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rveiller le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tilisate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6080" y="5024520"/>
            <a:ext cx="1120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ctroyer 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ans 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41200" y="5022720"/>
            <a:ext cx="9424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ér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'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 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9880" y="235728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pren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3117960"/>
            <a:ext cx="931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cevoi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 crée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ne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06400" y="4108320"/>
            <a:ext cx="13568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ssem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s Statist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vec l'Aud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0920" y="3728880"/>
            <a:ext cx="1399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'Administrateur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 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 Donné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3T16:20:26Z</dcterms:created>
  <dc:creator>Hanne Rue Rasmussen</dc:creator>
  <dc:description/>
  <dc:language>en-US</dc:language>
  <cp:lastModifiedBy>MEDI TELECOM</cp:lastModifiedBy>
  <cp:lastPrinted>1996-09-09T11:52:46Z</cp:lastPrinted>
  <dcterms:modified xsi:type="dcterms:W3CDTF">2001-04-11T14:53:17Z</dcterms:modified>
  <cp:revision>15250</cp:revision>
  <dc:subject>Oracle7: Administration</dc:subject>
  <dc:title>Introduction</dc:title>
</cp:coreProperties>
</file>