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191E47-83B3-440E-9B4F-CCBD93DD610F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491000"/>
            <a:ext cx="5029200" cy="34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B14-5A60-4A1E-B6BB-3753F802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178-6633-4EE8-84D6-A3BBAACA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EF7-7DFA-411E-9FB5-C19171D7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08B-8426-420F-9CC2-5B13A02D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6D9-8740-49D4-B815-FA205F45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95E-E75D-447E-B444-30CBF78F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A30-7CCD-444B-809F-B273D390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2CF-CF9F-4633-BE0D-7027306A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E63-9DFD-46CA-99FD-D17886B0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A95-0DBB-40B0-9211-AF1986A3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802-D2A2-49DD-9456-4296065F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03F-0F54-4EE2-B1D3-0C926710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4A580B-6FDA-48D8-94E0-4334426F9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11400" y="6434280"/>
            <a:ext cx="125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5 - </a:t>
            </a:r>
            <a:fld id="{813B36CD-D194-4506-AD14-D9513920FC85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7440" y="646416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74840"/>
            <a:ext cx="9131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en-US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223308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Chapitre 5: Gérer la Concurrence et la Cohérence des Transactions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75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76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96240" y="3306600"/>
            <a:ext cx="168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DBA7_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Process Log Writer (LGWR)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5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LGWR écrit les entrées du buffer redo log dans les fichiers redo log lorsqu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 commit se produi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ool du buffer redo log est rempli au tier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DBWR achève l’écriture des buffers de données lors du checkpoint (point de synchronisation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 time-ou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 Commi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5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 utilisateur effectue un COMMI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 commit record est écrit dans le buffer redo log pour cette transaction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LGWR vide le buffer redo log dans le groupe de redo logs coura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’utilisateur est averti que la transaction a été validé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verrous sur les blocs de données et de rollback sont libéré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DBWR va éventuellement écrire les blocs Oracle sur disqu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338120" y="2025720"/>
            <a:ext cx="3040200" cy="2354040"/>
            <a:chOff x="1338120" y="2025720"/>
            <a:chExt cx="3040200" cy="2354040"/>
          </a:xfrm>
        </p:grpSpPr>
        <p:sp>
          <p:nvSpPr>
            <p:cNvPr id="532" name=""/>
            <p:cNvSpPr/>
            <p:nvPr/>
          </p:nvSpPr>
          <p:spPr>
            <a:xfrm>
              <a:off x="1338120" y="2505240"/>
              <a:ext cx="3040200" cy="14065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38120" y="2025720"/>
              <a:ext cx="3040200" cy="9032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38120" y="3476520"/>
              <a:ext cx="3040200" cy="9032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a Permutation de Fichier Log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1649520" y="3206880"/>
            <a:ext cx="844560" cy="653760"/>
            <a:chOff x="1649520" y="3206880"/>
            <a:chExt cx="844560" cy="653760"/>
          </a:xfrm>
        </p:grpSpPr>
        <p:sp>
          <p:nvSpPr>
            <p:cNvPr id="537" name=""/>
            <p:cNvSpPr/>
            <p:nvPr/>
          </p:nvSpPr>
          <p:spPr>
            <a:xfrm>
              <a:off x="1649520" y="3340080"/>
              <a:ext cx="844560" cy="390600"/>
            </a:xfrm>
            <a:prstGeom prst="rect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49520" y="3206880"/>
              <a:ext cx="844560" cy="250560"/>
            </a:xfrm>
            <a:prstGeom prst="ellipse">
              <a:avLst/>
            </a:prstGeom>
            <a:gradFill rotWithShape="0">
              <a:gsLst>
                <a:gs pos="0">
                  <a:srgbClr val="8cf4ea"/>
                </a:gs>
                <a:gs pos="100000">
                  <a:srgbClr val="3761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49520" y="3610080"/>
              <a:ext cx="844560" cy="250560"/>
            </a:xfrm>
            <a:prstGeom prst="ellipse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1828440" y="350676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022560" y="3206880"/>
            <a:ext cx="844560" cy="653760"/>
            <a:chOff x="3022560" y="3206880"/>
            <a:chExt cx="844560" cy="653760"/>
          </a:xfrm>
        </p:grpSpPr>
        <p:sp>
          <p:nvSpPr>
            <p:cNvPr id="542" name=""/>
            <p:cNvSpPr/>
            <p:nvPr/>
          </p:nvSpPr>
          <p:spPr>
            <a:xfrm>
              <a:off x="3022560" y="3340080"/>
              <a:ext cx="844560" cy="390600"/>
            </a:xfrm>
            <a:prstGeom prst="rect">
              <a:avLst/>
            </a:prstGeom>
            <a:gradFill rotWithShape="0">
              <a:gsLst>
                <a:gs pos="0">
                  <a:srgbClr val="822ec3"/>
                </a:gs>
                <a:gs pos="50000">
                  <a:srgbClr val="9234db"/>
                </a:gs>
                <a:gs pos="100000">
                  <a:srgbClr val="822e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22560" y="3206880"/>
              <a:ext cx="844560" cy="250560"/>
            </a:xfrm>
            <a:prstGeom prst="ellipse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822e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22560" y="3610080"/>
              <a:ext cx="844560" cy="250560"/>
            </a:xfrm>
            <a:prstGeom prst="ellipse">
              <a:avLst/>
            </a:prstGeom>
            <a:gradFill rotWithShape="0">
              <a:gsLst>
                <a:gs pos="0">
                  <a:srgbClr val="822ec3"/>
                </a:gs>
                <a:gs pos="50000">
                  <a:srgbClr val="9234db"/>
                </a:gs>
                <a:gs pos="100000">
                  <a:srgbClr val="822e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689360" y="2001960"/>
            <a:ext cx="3040200" cy="2354040"/>
            <a:chOff x="4689360" y="2001960"/>
            <a:chExt cx="3040200" cy="2354040"/>
          </a:xfrm>
        </p:grpSpPr>
        <p:sp>
          <p:nvSpPr>
            <p:cNvPr id="546" name=""/>
            <p:cNvSpPr/>
            <p:nvPr/>
          </p:nvSpPr>
          <p:spPr>
            <a:xfrm>
              <a:off x="4689360" y="2481120"/>
              <a:ext cx="3040200" cy="14065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89360" y="2001960"/>
              <a:ext cx="3040200" cy="9032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89360" y="3452760"/>
              <a:ext cx="3040200" cy="9032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000760" y="3182760"/>
            <a:ext cx="844560" cy="654120"/>
            <a:chOff x="5000760" y="3182760"/>
            <a:chExt cx="844560" cy="654120"/>
          </a:xfrm>
        </p:grpSpPr>
        <p:grpSp>
          <p:nvGrpSpPr>
            <p:cNvPr id="550" name=""/>
            <p:cNvGrpSpPr/>
            <p:nvPr/>
          </p:nvGrpSpPr>
          <p:grpSpPr>
            <a:xfrm>
              <a:off x="5000760" y="3182760"/>
              <a:ext cx="844560" cy="654120"/>
              <a:chOff x="5000760" y="3182760"/>
              <a:chExt cx="844560" cy="654120"/>
            </a:xfrm>
          </p:grpSpPr>
          <p:sp>
            <p:nvSpPr>
              <p:cNvPr id="551" name=""/>
              <p:cNvSpPr/>
              <p:nvPr/>
            </p:nvSpPr>
            <p:spPr>
              <a:xfrm>
                <a:off x="5000760" y="3316320"/>
                <a:ext cx="844560" cy="390600"/>
              </a:xfrm>
              <a:prstGeom prst="rect">
                <a:avLst/>
              </a:prstGeom>
              <a:gradFill rotWithShape="0">
                <a:gsLst>
                  <a:gs pos="0">
                    <a:srgbClr val="61a9a2"/>
                  </a:gs>
                  <a:gs pos="50000">
                    <a:srgbClr val="8cf4ea"/>
                  </a:gs>
                  <a:gs pos="100000">
                    <a:srgbClr val="61a9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000760" y="3182760"/>
                <a:ext cx="844560" cy="250920"/>
              </a:xfrm>
              <a:prstGeom prst="ellipse">
                <a:avLst/>
              </a:prstGeom>
              <a:gradFill rotWithShape="0">
                <a:gsLst>
                  <a:gs pos="0">
                    <a:srgbClr val="8cf4ea"/>
                  </a:gs>
                  <a:gs pos="100000">
                    <a:srgbClr val="3761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000760" y="3586320"/>
                <a:ext cx="844560" cy="250560"/>
              </a:xfrm>
              <a:prstGeom prst="ellipse">
                <a:avLst/>
              </a:prstGeom>
              <a:gradFill rotWithShape="0">
                <a:gsLst>
                  <a:gs pos="0">
                    <a:srgbClr val="61a9a2"/>
                  </a:gs>
                  <a:gs pos="50000">
                    <a:srgbClr val="8cf4ea"/>
                  </a:gs>
                  <a:gs pos="100000">
                    <a:srgbClr val="61a9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5176440" y="3481560"/>
              <a:ext cx="41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57b49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2047680" y="220824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qu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65800" y="219384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qu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01440" y="4622760"/>
            <a:ext cx="24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Groupe de Redo Log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43040" y="4622760"/>
            <a:ext cx="243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Groupe de Redo Log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07640" y="31701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254200" y="315612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2680" y="315612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38520" y="4941720"/>
            <a:ext cx="21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18ffd"/>
                </a:solidFill>
                <a:latin typeface="Times New Roman"/>
              </a:rPr>
              <a:t>Séquence de Log 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78680" y="4896000"/>
            <a:ext cx="21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18ffd"/>
                </a:solidFill>
                <a:latin typeface="Times New Roman"/>
              </a:rPr>
              <a:t>Séquence de Log 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25240" y="349416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1487520"/>
            <a:ext cx="5410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Le prochain numéro de séquence de log est assigné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37000" y="3887640"/>
            <a:ext cx="1752480" cy="939960"/>
          </a:xfrm>
          <a:prstGeom prst="line">
            <a:avLst/>
          </a:prstGeom>
          <a:ln w="12600">
            <a:solidFill>
              <a:srgbClr val="f57b49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6442200" y="3852720"/>
            <a:ext cx="387360" cy="763560"/>
          </a:xfrm>
          <a:prstGeom prst="line">
            <a:avLst/>
          </a:prstGeom>
          <a:ln w="12600">
            <a:solidFill>
              <a:srgbClr val="f57b49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6375240" y="3187800"/>
            <a:ext cx="844560" cy="654120"/>
            <a:chOff x="6375240" y="3187800"/>
            <a:chExt cx="844560" cy="654120"/>
          </a:xfrm>
        </p:grpSpPr>
        <p:sp>
          <p:nvSpPr>
            <p:cNvPr id="569" name=""/>
            <p:cNvSpPr/>
            <p:nvPr/>
          </p:nvSpPr>
          <p:spPr>
            <a:xfrm>
              <a:off x="6375240" y="3321000"/>
              <a:ext cx="844560" cy="390600"/>
            </a:xfrm>
            <a:prstGeom prst="rect">
              <a:avLst/>
            </a:prstGeom>
            <a:gradFill rotWithShape="0">
              <a:gsLst>
                <a:gs pos="0">
                  <a:srgbClr val="822ec3"/>
                </a:gs>
                <a:gs pos="50000">
                  <a:srgbClr val="9234db"/>
                </a:gs>
                <a:gs pos="100000">
                  <a:srgbClr val="822e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375240" y="3187800"/>
              <a:ext cx="844560" cy="250560"/>
            </a:xfrm>
            <a:prstGeom prst="ellipse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822e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75240" y="3591000"/>
              <a:ext cx="844560" cy="250920"/>
            </a:xfrm>
            <a:prstGeom prst="ellipse">
              <a:avLst/>
            </a:prstGeom>
            <a:gradFill rotWithShape="0">
              <a:gsLst>
                <a:gs pos="0">
                  <a:srgbClr val="822ec3"/>
                </a:gs>
                <a:gs pos="50000">
                  <a:srgbClr val="9234db"/>
                </a:gs>
                <a:gs pos="100000">
                  <a:srgbClr val="822e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6601320" y="315612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576480" y="34704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Checkpoint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194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checkpoints (Points de synchronisation) garantissent que tous les buffers de données modifiés sont écrits dans les fichiers de données. 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fichiers de données sont marqués « en cours » relativement à un temps donné, et le checkpoint est enregistré dans le fichier de contrô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800100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Quand les Checkpoints se Produisent-ils ?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9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 chaque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log switch 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 nombre de secondes spécifié après le dernier checkpoint 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orsqu’un nombre prédéterminé de blocs du redo log ont été écrits sur disque depuis le dernier checkpoi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u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shutdown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 de l’instance, à moins que l’instance ne soit interrompu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orsqu’il est déclenché par un DBA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orsqu’un tablespace est mis offlin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a Synchronisation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33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 chaque checkpoint, le numéro de séquence de checkpoint est mis à jour dans chaque entête de fichier de données et dans le fichier de contrô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fichier de contrôle confirme que tous les fichiers sont au même numéro de checkpoint pendant le démarrage d’instanc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aramètre LOG_CHECKPOINT_TIMEOUT détermine l’intervalle de temps maximum qui sépare deux checkpoint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aramètre LOG_CHECKPOINT_INTERVAL détermine le nombre de blocs de fichier redo log utilisés à partir duquel déclencher un checkpoi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1695600"/>
            <a:ext cx="7256520" cy="1469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073160" y="2062080"/>
            <a:ext cx="2197080" cy="978120"/>
            <a:chOff x="1073160" y="2062080"/>
            <a:chExt cx="2197080" cy="978120"/>
          </a:xfrm>
        </p:grpSpPr>
        <p:sp>
          <p:nvSpPr>
            <p:cNvPr id="598" name=""/>
            <p:cNvSpPr/>
            <p:nvPr/>
          </p:nvSpPr>
          <p:spPr>
            <a:xfrm>
              <a:off x="1073160" y="2062080"/>
              <a:ext cx="2197080" cy="9781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1428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8276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3451320" y="1722600"/>
            <a:ext cx="212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16360" y="2124000"/>
            <a:ext cx="1914480" cy="854280"/>
            <a:chOff x="3816360" y="2124000"/>
            <a:chExt cx="1914480" cy="854280"/>
          </a:xfrm>
        </p:grpSpPr>
        <p:grpSp>
          <p:nvGrpSpPr>
            <p:cNvPr id="603" name=""/>
            <p:cNvGrpSpPr/>
            <p:nvPr/>
          </p:nvGrpSpPr>
          <p:grpSpPr>
            <a:xfrm>
              <a:off x="3816360" y="2124000"/>
              <a:ext cx="1914480" cy="854280"/>
              <a:chOff x="3816360" y="2124000"/>
              <a:chExt cx="1914480" cy="854280"/>
            </a:xfrm>
          </p:grpSpPr>
          <p:sp>
            <p:nvSpPr>
              <p:cNvPr id="604" name=""/>
              <p:cNvSpPr/>
              <p:nvPr/>
            </p:nvSpPr>
            <p:spPr>
              <a:xfrm>
                <a:off x="3822840" y="21304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21308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4012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27040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816360" y="24620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816360" y="27367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34484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021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943440" y="21286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7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9989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7520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60548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132520" y="21319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65760" y="21240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5213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4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816360" y="25923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816360" y="28684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816360" y="2343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816360" y="2233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3828960" y="22352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35520" y="22352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53080" y="22399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38640" y="22384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76880" y="22384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49880" y="22384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81320" y="25970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99040" y="26002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51280" y="21398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746600" y="23479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10160" y="26002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349880" y="24638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748040" y="27432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33960" y="25956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49880" y="27478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78400" y="28684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38640" y="27399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75440" y="27385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078440" y="28735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49560" y="28814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18000" y="24717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03640" y="24685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13320" y="27446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46600" y="24685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71880" y="23479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00760" y="28684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507000" y="2057400"/>
            <a:ext cx="1221120" cy="988920"/>
            <a:chOff x="6507000" y="2057400"/>
            <a:chExt cx="1221120" cy="988920"/>
          </a:xfrm>
        </p:grpSpPr>
        <p:sp>
          <p:nvSpPr>
            <p:cNvPr id="652" name=""/>
            <p:cNvSpPr/>
            <p:nvPr/>
          </p:nvSpPr>
          <p:spPr>
            <a:xfrm>
              <a:off x="6507000" y="2057400"/>
              <a:ext cx="122112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15280" y="291780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15280" y="27687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10240" y="2060640"/>
              <a:ext cx="552600" cy="646200"/>
            </a:xfrm>
            <a:custGeom>
              <a:avLst/>
              <a:gdLst>
                <a:gd name="textAreaLeft" fmla="*/ 20160 w 552600"/>
                <a:gd name="textAreaRight" fmla="*/ 532440 w 55260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56">
                  <a:moveTo>
                    <a:pt x="2699" y="0"/>
                  </a:moveTo>
                  <a:arcTo wR="2699" hR="2699" stAng="16200000" swAng="-5400000"/>
                  <a:lnTo>
                    <a:pt x="0" y="22557"/>
                  </a:lnTo>
                  <a:arcTo wR="2699" hR="2699" stAng="10800000" swAng="-5400000"/>
                  <a:lnTo>
                    <a:pt x="18901" y="2525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10240" y="233028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515280" y="26193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515280" y="247968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15280" y="21891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39160" y="206064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Process Checkpoint (CKPT)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982960" y="4156200"/>
            <a:ext cx="633240" cy="490320"/>
            <a:chOff x="2982960" y="4156200"/>
            <a:chExt cx="633240" cy="490320"/>
          </a:xfrm>
        </p:grpSpPr>
        <p:sp>
          <p:nvSpPr>
            <p:cNvPr id="663" name=""/>
            <p:cNvSpPr/>
            <p:nvPr/>
          </p:nvSpPr>
          <p:spPr>
            <a:xfrm>
              <a:off x="2982960" y="4255920"/>
              <a:ext cx="63324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82960" y="4156200"/>
              <a:ext cx="63324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82960" y="4459320"/>
              <a:ext cx="63324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3110040" y="4460760"/>
            <a:ext cx="633240" cy="490680"/>
            <a:chOff x="3110040" y="4460760"/>
            <a:chExt cx="633240" cy="490680"/>
          </a:xfrm>
        </p:grpSpPr>
        <p:sp>
          <p:nvSpPr>
            <p:cNvPr id="667" name=""/>
            <p:cNvSpPr/>
            <p:nvPr/>
          </p:nvSpPr>
          <p:spPr>
            <a:xfrm>
              <a:off x="3110040" y="4560840"/>
              <a:ext cx="63324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110040" y="4460760"/>
              <a:ext cx="633240" cy="1890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10040" y="4764240"/>
              <a:ext cx="63324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3065400" y="4799160"/>
            <a:ext cx="633600" cy="490320"/>
            <a:chOff x="3065400" y="4799160"/>
            <a:chExt cx="633600" cy="490320"/>
          </a:xfrm>
        </p:grpSpPr>
        <p:sp>
          <p:nvSpPr>
            <p:cNvPr id="671" name=""/>
            <p:cNvSpPr/>
            <p:nvPr/>
          </p:nvSpPr>
          <p:spPr>
            <a:xfrm>
              <a:off x="3065400" y="489888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65400" y="479916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065400" y="510228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2316240" y="55292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s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20680" y="385596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44440" y="3862440"/>
            <a:ext cx="946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 Serv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20680" y="499896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046160" y="5005440"/>
            <a:ext cx="1087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49480" y="332280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022560" y="344016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81120" y="4357800"/>
            <a:ext cx="0" cy="635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581120" y="3209760"/>
            <a:ext cx="228600" cy="6336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48040" y="4249800"/>
            <a:ext cx="92844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405240" y="2576160"/>
            <a:ext cx="404640" cy="738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371760" y="3828600"/>
            <a:ext cx="0" cy="328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71840" y="333360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54640" y="3451320"/>
            <a:ext cx="77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K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73600" y="464508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s de Contrô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62200" y="531648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 Paramèt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282920" y="4219560"/>
            <a:ext cx="615960" cy="279360"/>
            <a:chOff x="4282920" y="4219560"/>
            <a:chExt cx="615960" cy="279360"/>
          </a:xfrm>
        </p:grpSpPr>
        <p:sp>
          <p:nvSpPr>
            <p:cNvPr id="691" name=""/>
            <p:cNvSpPr/>
            <p:nvPr/>
          </p:nvSpPr>
          <p:spPr>
            <a:xfrm>
              <a:off x="4282920" y="4276800"/>
              <a:ext cx="615960" cy="1666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282920" y="4219560"/>
              <a:ext cx="615960" cy="1062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282920" y="4392720"/>
              <a:ext cx="615960" cy="106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4429080" y="4395960"/>
            <a:ext cx="615960" cy="279360"/>
            <a:chOff x="4429080" y="4395960"/>
            <a:chExt cx="615960" cy="279360"/>
          </a:xfrm>
        </p:grpSpPr>
        <p:sp>
          <p:nvSpPr>
            <p:cNvPr id="695" name=""/>
            <p:cNvSpPr/>
            <p:nvPr/>
          </p:nvSpPr>
          <p:spPr>
            <a:xfrm>
              <a:off x="4429080" y="4452840"/>
              <a:ext cx="615960" cy="1666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29080" y="4395960"/>
              <a:ext cx="615960" cy="1062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29080" y="4568760"/>
              <a:ext cx="615960" cy="1065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270320" y="4991040"/>
            <a:ext cx="615960" cy="279360"/>
            <a:chOff x="4270320" y="4991040"/>
            <a:chExt cx="615960" cy="279360"/>
          </a:xfrm>
        </p:grpSpPr>
        <p:sp>
          <p:nvSpPr>
            <p:cNvPr id="699" name=""/>
            <p:cNvSpPr/>
            <p:nvPr/>
          </p:nvSpPr>
          <p:spPr>
            <a:xfrm>
              <a:off x="4270320" y="5048280"/>
              <a:ext cx="615960" cy="1666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270320" y="4991040"/>
              <a:ext cx="615960" cy="1065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70320" y="5164200"/>
              <a:ext cx="615960" cy="106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5213520" y="5415120"/>
            <a:ext cx="1744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 Mots de Pas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769000" y="5029200"/>
            <a:ext cx="568440" cy="330120"/>
            <a:chOff x="5769000" y="5029200"/>
            <a:chExt cx="568440" cy="330120"/>
          </a:xfrm>
        </p:grpSpPr>
        <p:sp>
          <p:nvSpPr>
            <p:cNvPr id="704" name=""/>
            <p:cNvSpPr/>
            <p:nvPr/>
          </p:nvSpPr>
          <p:spPr>
            <a:xfrm>
              <a:off x="5769000" y="5097600"/>
              <a:ext cx="568440" cy="1965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769000" y="5029200"/>
              <a:ext cx="568440" cy="1252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69000" y="5234040"/>
              <a:ext cx="568440" cy="1252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flipV="1">
            <a:off x="3594240" y="3631680"/>
            <a:ext cx="736560" cy="6224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4680000" y="3866760"/>
            <a:ext cx="0" cy="328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Process Checkpoint (CKPT)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303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st activé en positionnant le paramètre CHECKPOINT_PROCESS = TRUE. La valeur par défaut est FALS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’il est activé, ce process détaché va prendre en charge les tâches de mise à jour des fichiers du LGWR lors d’un checkpoi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Met à  jour les entêtes de fichiers de données et les fichiers de contrôle à la fin d’un checkpoi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ut améliorer les performances des bases de données ayant de nombreux fichiers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14400" y="1695600"/>
            <a:ext cx="7256520" cy="1469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073160" y="2062080"/>
            <a:ext cx="2197080" cy="978120"/>
            <a:chOff x="1073160" y="2062080"/>
            <a:chExt cx="2197080" cy="978120"/>
          </a:xfrm>
        </p:grpSpPr>
        <p:sp>
          <p:nvSpPr>
            <p:cNvPr id="721" name=""/>
            <p:cNvSpPr/>
            <p:nvPr/>
          </p:nvSpPr>
          <p:spPr>
            <a:xfrm>
              <a:off x="1073160" y="2062080"/>
              <a:ext cx="2197080" cy="9781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1428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8276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451320" y="1722600"/>
            <a:ext cx="212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16360" y="2124000"/>
            <a:ext cx="1914480" cy="854280"/>
            <a:chOff x="3816360" y="2124000"/>
            <a:chExt cx="1914480" cy="854280"/>
          </a:xfrm>
        </p:grpSpPr>
        <p:grpSp>
          <p:nvGrpSpPr>
            <p:cNvPr id="726" name=""/>
            <p:cNvGrpSpPr/>
            <p:nvPr/>
          </p:nvGrpSpPr>
          <p:grpSpPr>
            <a:xfrm>
              <a:off x="3816360" y="2124000"/>
              <a:ext cx="1914480" cy="854280"/>
              <a:chOff x="3816360" y="2124000"/>
              <a:chExt cx="1914480" cy="854280"/>
            </a:xfrm>
          </p:grpSpPr>
          <p:sp>
            <p:nvSpPr>
              <p:cNvPr id="727" name=""/>
              <p:cNvSpPr/>
              <p:nvPr/>
            </p:nvSpPr>
            <p:spPr>
              <a:xfrm>
                <a:off x="3822840" y="21304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21308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74012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27040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816360" y="24620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816360" y="27367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34484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4021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943440" y="21286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47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9989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07520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60548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132520" y="21319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865760" y="21240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5213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64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816360" y="25923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816360" y="28684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816360" y="2343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816360" y="2233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3828960" y="22352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35520" y="22352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653080" y="22399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38640" y="22384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76880" y="22384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49880" y="22384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81320" y="25970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199040" y="26002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51280" y="21398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746600" y="23479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610160" y="26002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349880" y="24638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48040" y="27432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133960" y="25956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49880" y="27478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78400" y="28684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38640" y="27399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75440" y="27385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78440" y="28735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949560" y="28814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18000" y="24717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03640" y="24685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3320" y="27446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46600" y="24685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71880" y="23479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00760" y="28684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07000" y="2057400"/>
            <a:ext cx="1221120" cy="988920"/>
            <a:chOff x="6507000" y="2057400"/>
            <a:chExt cx="1221120" cy="988920"/>
          </a:xfrm>
        </p:grpSpPr>
        <p:sp>
          <p:nvSpPr>
            <p:cNvPr id="775" name=""/>
            <p:cNvSpPr/>
            <p:nvPr/>
          </p:nvSpPr>
          <p:spPr>
            <a:xfrm>
              <a:off x="6507000" y="2057400"/>
              <a:ext cx="122112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15280" y="291780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515280" y="27687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510240" y="2060640"/>
              <a:ext cx="552600" cy="646200"/>
            </a:xfrm>
            <a:custGeom>
              <a:avLst/>
              <a:gdLst>
                <a:gd name="textAreaLeft" fmla="*/ 20160 w 552600"/>
                <a:gd name="textAreaRight" fmla="*/ 532440 w 55260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56">
                  <a:moveTo>
                    <a:pt x="2699" y="0"/>
                  </a:moveTo>
                  <a:arcTo wR="2699" hR="2699" stAng="16200000" swAng="-5400000"/>
                  <a:lnTo>
                    <a:pt x="0" y="22557"/>
                  </a:lnTo>
                  <a:arcTo wR="2699" hR="2699" stAng="10800000" swAng="-5400000"/>
                  <a:lnTo>
                    <a:pt x="18901" y="2525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510240" y="233028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15280" y="26193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15280" y="247968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15280" y="21891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39160" y="206064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Process Archiver (ARCH)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4538520" y="4430880"/>
            <a:ext cx="1398600" cy="839520"/>
            <a:chOff x="4538520" y="4430880"/>
            <a:chExt cx="1398600" cy="839520"/>
          </a:xfrm>
        </p:grpSpPr>
        <p:grpSp>
          <p:nvGrpSpPr>
            <p:cNvPr id="786" name=""/>
            <p:cNvGrpSpPr/>
            <p:nvPr/>
          </p:nvGrpSpPr>
          <p:grpSpPr>
            <a:xfrm>
              <a:off x="4700520" y="4430880"/>
              <a:ext cx="720720" cy="371160"/>
              <a:chOff x="4700520" y="4430880"/>
              <a:chExt cx="720720" cy="371160"/>
            </a:xfrm>
          </p:grpSpPr>
          <p:sp>
            <p:nvSpPr>
              <p:cNvPr id="787" name=""/>
              <p:cNvSpPr/>
              <p:nvPr/>
            </p:nvSpPr>
            <p:spPr>
              <a:xfrm>
                <a:off x="4700520" y="450684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00520" y="44308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700520" y="466092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216400" y="4676760"/>
              <a:ext cx="720720" cy="371520"/>
              <a:chOff x="5216400" y="4676760"/>
              <a:chExt cx="720720" cy="371520"/>
            </a:xfrm>
          </p:grpSpPr>
          <p:sp>
            <p:nvSpPr>
              <p:cNvPr id="791" name=""/>
              <p:cNvSpPr/>
              <p:nvPr/>
            </p:nvSpPr>
            <p:spPr>
              <a:xfrm>
                <a:off x="5216400" y="475308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216400" y="4676760"/>
                <a:ext cx="720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216400" y="490680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4538520" y="4735440"/>
              <a:ext cx="720720" cy="372960"/>
              <a:chOff x="4538520" y="4735440"/>
              <a:chExt cx="720720" cy="372960"/>
            </a:xfrm>
          </p:grpSpPr>
          <p:sp>
            <p:nvSpPr>
              <p:cNvPr id="795" name=""/>
              <p:cNvSpPr/>
              <p:nvPr/>
            </p:nvSpPr>
            <p:spPr>
              <a:xfrm>
                <a:off x="4538520" y="481320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538520" y="4735440"/>
                <a:ext cx="720720" cy="144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538520" y="49672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4964040" y="4898880"/>
              <a:ext cx="720720" cy="371520"/>
              <a:chOff x="4964040" y="4898880"/>
              <a:chExt cx="720720" cy="371520"/>
            </a:xfrm>
          </p:grpSpPr>
          <p:sp>
            <p:nvSpPr>
              <p:cNvPr id="799" name=""/>
              <p:cNvSpPr/>
              <p:nvPr/>
            </p:nvSpPr>
            <p:spPr>
              <a:xfrm>
                <a:off x="4964040" y="497520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964040" y="489888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964040" y="51292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3076560" y="4156200"/>
            <a:ext cx="633600" cy="490320"/>
            <a:chOff x="3076560" y="4156200"/>
            <a:chExt cx="633600" cy="490320"/>
          </a:xfrm>
        </p:grpSpPr>
        <p:sp>
          <p:nvSpPr>
            <p:cNvPr id="803" name=""/>
            <p:cNvSpPr/>
            <p:nvPr/>
          </p:nvSpPr>
          <p:spPr>
            <a:xfrm>
              <a:off x="3076560" y="425592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76560" y="415620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76560" y="445932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110040" y="4460760"/>
            <a:ext cx="633240" cy="490680"/>
            <a:chOff x="3110040" y="4460760"/>
            <a:chExt cx="633240" cy="490680"/>
          </a:xfrm>
        </p:grpSpPr>
        <p:sp>
          <p:nvSpPr>
            <p:cNvPr id="807" name=""/>
            <p:cNvSpPr/>
            <p:nvPr/>
          </p:nvSpPr>
          <p:spPr>
            <a:xfrm>
              <a:off x="3110040" y="4560840"/>
              <a:ext cx="63324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10040" y="4460760"/>
              <a:ext cx="633240" cy="1890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10040" y="4764240"/>
              <a:ext cx="63324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3159000" y="4799160"/>
            <a:ext cx="633600" cy="490320"/>
            <a:chOff x="3159000" y="4799160"/>
            <a:chExt cx="633600" cy="490320"/>
          </a:xfrm>
        </p:grpSpPr>
        <p:sp>
          <p:nvSpPr>
            <p:cNvPr id="811" name=""/>
            <p:cNvSpPr/>
            <p:nvPr/>
          </p:nvSpPr>
          <p:spPr>
            <a:xfrm>
              <a:off x="3159000" y="489888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59000" y="479916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59000" y="510228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257328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s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120680" y="385596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144440" y="3862440"/>
            <a:ext cx="946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 Serv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120680" y="499896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90720" y="5005440"/>
            <a:ext cx="1201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 Utilis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949480" y="332280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022560" y="344016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581120" y="4362480"/>
            <a:ext cx="0" cy="6238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1595520" y="3204720"/>
            <a:ext cx="242640" cy="6476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048040" y="4249800"/>
            <a:ext cx="102384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3400560" y="2619000"/>
            <a:ext cx="404640" cy="7002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390840" y="3828600"/>
            <a:ext cx="0" cy="328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33692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Fichiers Redo 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643720" y="334656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26160" y="345276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G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064280" y="335772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12160" y="3440160"/>
            <a:ext cx="77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7083360" y="4224240"/>
            <a:ext cx="622440" cy="1025640"/>
            <a:chOff x="7083360" y="4224240"/>
            <a:chExt cx="622440" cy="1025640"/>
          </a:xfrm>
        </p:grpSpPr>
        <p:sp>
          <p:nvSpPr>
            <p:cNvPr id="832" name=""/>
            <p:cNvSpPr/>
            <p:nvPr/>
          </p:nvSpPr>
          <p:spPr>
            <a:xfrm>
              <a:off x="7083360" y="4224240"/>
              <a:ext cx="622440" cy="1025640"/>
            </a:xfrm>
            <a:prstGeom prst="rect">
              <a:avLst/>
            </a:prstGeom>
            <a:gradFill rotWithShape="0">
              <a:gsLst>
                <a:gs pos="0">
                  <a:srgbClr val="8f8f8f"/>
                </a:gs>
                <a:gs pos="100000">
                  <a:srgbClr val="636363"/>
                </a:gs>
              </a:gsLst>
              <a:lin ang="5400000"/>
            </a:gradFill>
            <a:ln w="1260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162920" y="4422600"/>
              <a:ext cx="293400" cy="73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520040" y="4332240"/>
              <a:ext cx="87120" cy="2350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51720" y="4367160"/>
              <a:ext cx="39600" cy="128520"/>
            </a:xfrm>
            <a:prstGeom prst="rect">
              <a:avLst/>
            </a:prstGeom>
            <a:solidFill>
              <a:srgbClr val="ff2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26280" y="4511520"/>
              <a:ext cx="166680" cy="16524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8f8f8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26280" y="4832280"/>
              <a:ext cx="166680" cy="16668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8f8f8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642924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Archiv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381800" y="3865320"/>
            <a:ext cx="152640" cy="339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5113440" y="3898800"/>
            <a:ext cx="774720" cy="5191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6110280" y="2557440"/>
            <a:ext cx="395280" cy="7761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5724000" y="3726000"/>
            <a:ext cx="1319400" cy="9270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71840" y="333360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454640" y="3451320"/>
            <a:ext cx="77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K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Process Archiver (ARCH)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85600" y="1734840"/>
            <a:ext cx="7296120" cy="216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pie les fichiers redo log sur bande ou sur disque pour la restauration après une perte de disqu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Opère seulement lorsqu'une permutation de log se produi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st optionnel et est seulement nécessaire dans le mode ARCHIVELOG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ut écrire sur une unité de bande ou de disqu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16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econnaître le rôle du Log Writer (LGWR) lors de l’écriture des transactions validées sur les fichiers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dentifier les composants et le but du fichier redo log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dentifier le but des checkpoint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comment Oracle traite la concurrence d’accès aux données et la lecture cohérent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72975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cture Cohérent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55800" y="1708200"/>
            <a:ext cx="7738920" cy="14634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401760"/>
                <a:tab algn="l" pos="6843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  <a:tab algn="l" pos="8434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ELECT first_name, dept_id, sal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401760"/>
                <a:tab algn="l" pos="6843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  <a:tab algn="l" pos="8434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FROM s_emp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401760"/>
                <a:tab algn="l" pos="6843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  <a:tab algn="l" pos="8434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3  WHERE salary &gt; (SELECT AVG(salary) FROM s_emp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401760"/>
                <a:tab algn="l" pos="6843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  <a:tab algn="l" pos="8434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4                  WHERE b.dept_id = a.dept_i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 Modèle de Verrouillage </a:t>
            </a:r>
            <a:br>
              <a:rPr sz="2800"/>
            </a:b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33120" y="1650600"/>
            <a:ext cx="7296120" cy="43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« lecteurs » ne bloquent pas ceux qui écrive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eux qui écrivent ne bloquent pas les « lecteurs »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a lecture cohérente est assurée par les rollback segment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verrouillage de ligne est supporté (par défaut) aussi bien que le verrouillage de tab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verrouillage peut être forcé qu'il soit automatique ou manuel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es verrous partagés ou exclusifs peuvent être obtenus manuelleme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verrous de lignes sont possibles sur toute ligne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serveur Oracle n’escalade jamais les verrous; pour passer, par exemple, du niveau ligne à celui de page ou de tab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914400" y="1695600"/>
            <a:ext cx="7256520" cy="1469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1073160" y="2062080"/>
            <a:ext cx="2197080" cy="978120"/>
            <a:chOff x="1073160" y="2062080"/>
            <a:chExt cx="2197080" cy="978120"/>
          </a:xfrm>
        </p:grpSpPr>
        <p:sp>
          <p:nvSpPr>
            <p:cNvPr id="869" name=""/>
            <p:cNvSpPr/>
            <p:nvPr/>
          </p:nvSpPr>
          <p:spPr>
            <a:xfrm>
              <a:off x="1073160" y="2062080"/>
              <a:ext cx="2197080" cy="9781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1428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28276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3451320" y="1722600"/>
            <a:ext cx="212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3816360" y="2124000"/>
            <a:ext cx="1914480" cy="854280"/>
            <a:chOff x="3816360" y="2124000"/>
            <a:chExt cx="1914480" cy="854280"/>
          </a:xfrm>
        </p:grpSpPr>
        <p:grpSp>
          <p:nvGrpSpPr>
            <p:cNvPr id="874" name=""/>
            <p:cNvGrpSpPr/>
            <p:nvPr/>
          </p:nvGrpSpPr>
          <p:grpSpPr>
            <a:xfrm>
              <a:off x="3816360" y="2124000"/>
              <a:ext cx="1914480" cy="854280"/>
              <a:chOff x="3816360" y="2124000"/>
              <a:chExt cx="1914480" cy="854280"/>
            </a:xfrm>
          </p:grpSpPr>
          <p:sp>
            <p:nvSpPr>
              <p:cNvPr id="875" name=""/>
              <p:cNvSpPr/>
              <p:nvPr/>
            </p:nvSpPr>
            <p:spPr>
              <a:xfrm>
                <a:off x="3822840" y="21304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21308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74012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27040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816360" y="24620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816360" y="27367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34484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4021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943440" y="21286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47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9989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07520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60548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32520" y="21319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865760" y="21240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5213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64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816360" y="25923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816360" y="28684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816360" y="2343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816360" y="2233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3828960" y="22352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935520" y="22352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653080" y="22399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38640" y="22384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276880" y="22384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349880" y="22384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81320" y="25970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99040" y="26002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51280" y="21398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46600" y="23479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10160" y="26002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349880" y="24638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48040" y="27432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33960" y="25956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349880" y="27478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78400" y="28684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38640" y="27399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275440" y="27385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78440" y="28735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49560" y="28814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18000" y="24717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003640" y="24685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413320" y="27446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746600" y="24685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71880" y="23479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00760" y="28684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6507000" y="2057400"/>
            <a:ext cx="1221120" cy="988920"/>
            <a:chOff x="6507000" y="2057400"/>
            <a:chExt cx="1221120" cy="988920"/>
          </a:xfrm>
        </p:grpSpPr>
        <p:sp>
          <p:nvSpPr>
            <p:cNvPr id="923" name=""/>
            <p:cNvSpPr/>
            <p:nvPr/>
          </p:nvSpPr>
          <p:spPr>
            <a:xfrm>
              <a:off x="6507000" y="2057400"/>
              <a:ext cx="122112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515280" y="291780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15280" y="27687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510240" y="2060640"/>
              <a:ext cx="552600" cy="646200"/>
            </a:xfrm>
            <a:custGeom>
              <a:avLst/>
              <a:gdLst>
                <a:gd name="textAreaLeft" fmla="*/ 20160 w 552600"/>
                <a:gd name="textAreaRight" fmla="*/ 532440 w 55260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56">
                  <a:moveTo>
                    <a:pt x="2699" y="0"/>
                  </a:moveTo>
                  <a:arcTo wR="2699" hR="2699" stAng="16200000" swAng="-5400000"/>
                  <a:lnTo>
                    <a:pt x="0" y="22557"/>
                  </a:lnTo>
                  <a:arcTo wR="2699" hR="2699" stAng="10800000" swAng="-5400000"/>
                  <a:lnTo>
                    <a:pt x="18901" y="2525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510240" y="233028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15280" y="26193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515280" y="247968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515280" y="21891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9160" y="206064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4538520" y="4430880"/>
            <a:ext cx="1398600" cy="839520"/>
            <a:chOff x="4538520" y="4430880"/>
            <a:chExt cx="1398600" cy="839520"/>
          </a:xfrm>
        </p:grpSpPr>
        <p:grpSp>
          <p:nvGrpSpPr>
            <p:cNvPr id="933" name=""/>
            <p:cNvGrpSpPr/>
            <p:nvPr/>
          </p:nvGrpSpPr>
          <p:grpSpPr>
            <a:xfrm>
              <a:off x="4700520" y="4430880"/>
              <a:ext cx="720720" cy="371160"/>
              <a:chOff x="4700520" y="4430880"/>
              <a:chExt cx="720720" cy="371160"/>
            </a:xfrm>
          </p:grpSpPr>
          <p:sp>
            <p:nvSpPr>
              <p:cNvPr id="934" name=""/>
              <p:cNvSpPr/>
              <p:nvPr/>
            </p:nvSpPr>
            <p:spPr>
              <a:xfrm>
                <a:off x="4700520" y="450684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700520" y="44308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700520" y="466092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5216400" y="4676760"/>
              <a:ext cx="720720" cy="371520"/>
              <a:chOff x="5216400" y="4676760"/>
              <a:chExt cx="720720" cy="371520"/>
            </a:xfrm>
          </p:grpSpPr>
          <p:sp>
            <p:nvSpPr>
              <p:cNvPr id="938" name=""/>
              <p:cNvSpPr/>
              <p:nvPr/>
            </p:nvSpPr>
            <p:spPr>
              <a:xfrm>
                <a:off x="5216400" y="475308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216400" y="4676760"/>
                <a:ext cx="720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216400" y="490680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4538520" y="4735440"/>
              <a:ext cx="720720" cy="372960"/>
              <a:chOff x="4538520" y="4735440"/>
              <a:chExt cx="720720" cy="372960"/>
            </a:xfrm>
          </p:grpSpPr>
          <p:sp>
            <p:nvSpPr>
              <p:cNvPr id="942" name=""/>
              <p:cNvSpPr/>
              <p:nvPr/>
            </p:nvSpPr>
            <p:spPr>
              <a:xfrm>
                <a:off x="4538520" y="481320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538520" y="4735440"/>
                <a:ext cx="720720" cy="144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538520" y="49672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4964040" y="4898880"/>
              <a:ext cx="720720" cy="371520"/>
              <a:chOff x="4964040" y="4898880"/>
              <a:chExt cx="720720" cy="371520"/>
            </a:xfrm>
          </p:grpSpPr>
          <p:sp>
            <p:nvSpPr>
              <p:cNvPr id="946" name=""/>
              <p:cNvSpPr/>
              <p:nvPr/>
            </p:nvSpPr>
            <p:spPr>
              <a:xfrm>
                <a:off x="4964040" y="497520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964040" y="489888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964040" y="51292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9" name=""/>
          <p:cNvGrpSpPr/>
          <p:nvPr/>
        </p:nvGrpSpPr>
        <p:grpSpPr>
          <a:xfrm>
            <a:off x="3076560" y="4156200"/>
            <a:ext cx="633600" cy="490320"/>
            <a:chOff x="3076560" y="4156200"/>
            <a:chExt cx="633600" cy="490320"/>
          </a:xfrm>
        </p:grpSpPr>
        <p:sp>
          <p:nvSpPr>
            <p:cNvPr id="950" name=""/>
            <p:cNvSpPr/>
            <p:nvPr/>
          </p:nvSpPr>
          <p:spPr>
            <a:xfrm>
              <a:off x="3076560" y="425592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76560" y="415620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076560" y="445932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110040" y="4460760"/>
            <a:ext cx="633240" cy="490680"/>
            <a:chOff x="3110040" y="4460760"/>
            <a:chExt cx="633240" cy="490680"/>
          </a:xfrm>
        </p:grpSpPr>
        <p:sp>
          <p:nvSpPr>
            <p:cNvPr id="954" name=""/>
            <p:cNvSpPr/>
            <p:nvPr/>
          </p:nvSpPr>
          <p:spPr>
            <a:xfrm>
              <a:off x="3110040" y="4560840"/>
              <a:ext cx="63324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110040" y="4460760"/>
              <a:ext cx="633240" cy="1890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110040" y="4764240"/>
              <a:ext cx="63324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159000" y="4799160"/>
            <a:ext cx="633600" cy="490320"/>
            <a:chOff x="3159000" y="4799160"/>
            <a:chExt cx="633600" cy="490320"/>
          </a:xfrm>
        </p:grpSpPr>
        <p:sp>
          <p:nvSpPr>
            <p:cNvPr id="958" name=""/>
            <p:cNvSpPr/>
            <p:nvPr/>
          </p:nvSpPr>
          <p:spPr>
            <a:xfrm>
              <a:off x="3159000" y="489888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159000" y="479916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159000" y="510228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257328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s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120680" y="385596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144440" y="3862440"/>
            <a:ext cx="946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 Serv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120680" y="499896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90720" y="5005440"/>
            <a:ext cx="1125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 Utilis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949480" y="332280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022560" y="344016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581120" y="4362480"/>
            <a:ext cx="0" cy="633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1581120" y="3214800"/>
            <a:ext cx="414360" cy="6379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048040" y="4249800"/>
            <a:ext cx="10285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395520" y="2566800"/>
            <a:ext cx="419400" cy="742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3371760" y="3828600"/>
            <a:ext cx="0" cy="328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33692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Fichiers Redo 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643720" y="334656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726160" y="345276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G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64280" y="335772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112160" y="3440160"/>
            <a:ext cx="77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7083360" y="4224240"/>
            <a:ext cx="622440" cy="1025640"/>
            <a:chOff x="7083360" y="4224240"/>
            <a:chExt cx="622440" cy="1025640"/>
          </a:xfrm>
        </p:grpSpPr>
        <p:sp>
          <p:nvSpPr>
            <p:cNvPr id="979" name=""/>
            <p:cNvSpPr/>
            <p:nvPr/>
          </p:nvSpPr>
          <p:spPr>
            <a:xfrm>
              <a:off x="7083360" y="4224240"/>
              <a:ext cx="622440" cy="1025640"/>
            </a:xfrm>
            <a:prstGeom prst="rect">
              <a:avLst/>
            </a:prstGeom>
            <a:gradFill rotWithShape="0">
              <a:gsLst>
                <a:gs pos="0">
                  <a:srgbClr val="8f8f8f"/>
                </a:gs>
                <a:gs pos="100000">
                  <a:srgbClr val="636363"/>
                </a:gs>
              </a:gsLst>
              <a:lin ang="5400000"/>
            </a:gradFill>
            <a:ln w="1260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162920" y="4422600"/>
              <a:ext cx="293400" cy="73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520040" y="4332240"/>
              <a:ext cx="87120" cy="2350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551720" y="4367160"/>
              <a:ext cx="39600" cy="128520"/>
            </a:xfrm>
            <a:prstGeom prst="rect">
              <a:avLst/>
            </a:prstGeom>
            <a:solidFill>
              <a:srgbClr val="ff2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226280" y="4511520"/>
              <a:ext cx="166680" cy="16524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8f8f8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226280" y="4832280"/>
              <a:ext cx="166680" cy="16668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8f8f8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642924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Archi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7372440" y="3865680"/>
            <a:ext cx="162000" cy="3492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5043600" y="3852360"/>
            <a:ext cx="1014480" cy="576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6081840" y="2600280"/>
            <a:ext cx="419040" cy="743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5572080" y="3638520"/>
            <a:ext cx="1486080" cy="1038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371840" y="333360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454640" y="3451320"/>
            <a:ext cx="77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K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Résumé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20040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914400" y="2152800"/>
            <a:ext cx="7256520" cy="1469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073160" y="2519280"/>
            <a:ext cx="2197080" cy="978120"/>
            <a:chOff x="1073160" y="2519280"/>
            <a:chExt cx="2197080" cy="978120"/>
          </a:xfrm>
        </p:grpSpPr>
        <p:sp>
          <p:nvSpPr>
            <p:cNvPr id="999" name=""/>
            <p:cNvSpPr/>
            <p:nvPr/>
          </p:nvSpPr>
          <p:spPr>
            <a:xfrm>
              <a:off x="1073160" y="2519280"/>
              <a:ext cx="2197080" cy="9781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14280" y="27637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282760" y="27637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-1711332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3816360" y="2581200"/>
            <a:ext cx="1914480" cy="854280"/>
            <a:chOff x="3816360" y="2581200"/>
            <a:chExt cx="1914480" cy="854280"/>
          </a:xfrm>
        </p:grpSpPr>
        <p:grpSp>
          <p:nvGrpSpPr>
            <p:cNvPr id="1004" name=""/>
            <p:cNvGrpSpPr/>
            <p:nvPr/>
          </p:nvGrpSpPr>
          <p:grpSpPr>
            <a:xfrm>
              <a:off x="3816360" y="2581200"/>
              <a:ext cx="1914480" cy="854280"/>
              <a:chOff x="3816360" y="2581200"/>
              <a:chExt cx="1914480" cy="854280"/>
            </a:xfrm>
          </p:grpSpPr>
          <p:sp>
            <p:nvSpPr>
              <p:cNvPr id="1005" name=""/>
              <p:cNvSpPr/>
              <p:nvPr/>
            </p:nvSpPr>
            <p:spPr>
              <a:xfrm>
                <a:off x="3822840" y="25876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213080" y="25812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740120" y="25812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270400" y="25812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816360" y="2919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816360" y="31939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34484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40216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943440" y="25858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47372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9896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075200" y="25891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605480" y="25891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132520" y="25891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865760" y="25812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52132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64372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816360" y="30495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816360" y="33256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816360" y="2800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816360" y="26906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3828960" y="26924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935520" y="26924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653080" y="26971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38640" y="26956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276880" y="26956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349880" y="26956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81320" y="30542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99040" y="30574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751280" y="25970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46600" y="28051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610160" y="30574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349880" y="29210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48040" y="32004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33960" y="30528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49880" y="32050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478400" y="33256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38640" y="31971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275440" y="31957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078440" y="33307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949560" y="33386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418000" y="29289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003640" y="29257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413320" y="32018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46600" y="29257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71880" y="28051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000760" y="33256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6507000" y="2514600"/>
            <a:ext cx="1221120" cy="988920"/>
            <a:chOff x="6507000" y="2514600"/>
            <a:chExt cx="1221120" cy="988920"/>
          </a:xfrm>
        </p:grpSpPr>
        <p:sp>
          <p:nvSpPr>
            <p:cNvPr id="1053" name=""/>
            <p:cNvSpPr/>
            <p:nvPr/>
          </p:nvSpPr>
          <p:spPr>
            <a:xfrm>
              <a:off x="6507000" y="2514600"/>
              <a:ext cx="122112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15280" y="337500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515280" y="32259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510240" y="2517840"/>
              <a:ext cx="552600" cy="646200"/>
            </a:xfrm>
            <a:custGeom>
              <a:avLst/>
              <a:gdLst>
                <a:gd name="textAreaLeft" fmla="*/ 20160 w 552600"/>
                <a:gd name="textAreaRight" fmla="*/ 532440 w 55260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56">
                  <a:moveTo>
                    <a:pt x="2699" y="0"/>
                  </a:moveTo>
                  <a:arcTo wR="2699" hR="2699" stAng="16200000" swAng="-5400000"/>
                  <a:lnTo>
                    <a:pt x="0" y="22557"/>
                  </a:lnTo>
                  <a:arcTo wR="2699" hR="2699" stAng="10800000" swAng="-5400000"/>
                  <a:lnTo>
                    <a:pt x="18901" y="2525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10240" y="278748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15280" y="30765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515280" y="293688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515280" y="26463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139160" y="251784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4538520" y="4888080"/>
            <a:ext cx="1398600" cy="839520"/>
            <a:chOff x="4538520" y="4888080"/>
            <a:chExt cx="1398600" cy="839520"/>
          </a:xfrm>
        </p:grpSpPr>
        <p:grpSp>
          <p:nvGrpSpPr>
            <p:cNvPr id="1063" name=""/>
            <p:cNvGrpSpPr/>
            <p:nvPr/>
          </p:nvGrpSpPr>
          <p:grpSpPr>
            <a:xfrm>
              <a:off x="4700520" y="4888080"/>
              <a:ext cx="720720" cy="371160"/>
              <a:chOff x="4700520" y="4888080"/>
              <a:chExt cx="720720" cy="371160"/>
            </a:xfrm>
          </p:grpSpPr>
          <p:sp>
            <p:nvSpPr>
              <p:cNvPr id="1064" name=""/>
              <p:cNvSpPr/>
              <p:nvPr/>
            </p:nvSpPr>
            <p:spPr>
              <a:xfrm>
                <a:off x="4700520" y="496404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700520" y="48880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00520" y="511812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5216400" y="5133960"/>
              <a:ext cx="720720" cy="371520"/>
              <a:chOff x="5216400" y="5133960"/>
              <a:chExt cx="720720" cy="371520"/>
            </a:xfrm>
          </p:grpSpPr>
          <p:sp>
            <p:nvSpPr>
              <p:cNvPr id="1068" name=""/>
              <p:cNvSpPr/>
              <p:nvPr/>
            </p:nvSpPr>
            <p:spPr>
              <a:xfrm>
                <a:off x="5216400" y="521028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216400" y="5133960"/>
                <a:ext cx="720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216400" y="536400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4538520" y="5192640"/>
              <a:ext cx="720720" cy="372960"/>
              <a:chOff x="4538520" y="5192640"/>
              <a:chExt cx="720720" cy="372960"/>
            </a:xfrm>
          </p:grpSpPr>
          <p:sp>
            <p:nvSpPr>
              <p:cNvPr id="1072" name=""/>
              <p:cNvSpPr/>
              <p:nvPr/>
            </p:nvSpPr>
            <p:spPr>
              <a:xfrm>
                <a:off x="4538520" y="527040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538520" y="5192640"/>
                <a:ext cx="720720" cy="144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538520" y="54244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4964040" y="5356080"/>
              <a:ext cx="720720" cy="371520"/>
              <a:chOff x="4964040" y="5356080"/>
              <a:chExt cx="720720" cy="371520"/>
            </a:xfrm>
          </p:grpSpPr>
          <p:sp>
            <p:nvSpPr>
              <p:cNvPr id="1076" name=""/>
              <p:cNvSpPr/>
              <p:nvPr/>
            </p:nvSpPr>
            <p:spPr>
              <a:xfrm>
                <a:off x="4964040" y="543240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964040" y="535608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964040" y="55864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3076560" y="4613400"/>
            <a:ext cx="633600" cy="490320"/>
            <a:chOff x="3076560" y="4613400"/>
            <a:chExt cx="633600" cy="490320"/>
          </a:xfrm>
        </p:grpSpPr>
        <p:sp>
          <p:nvSpPr>
            <p:cNvPr id="1080" name=""/>
            <p:cNvSpPr/>
            <p:nvPr/>
          </p:nvSpPr>
          <p:spPr>
            <a:xfrm>
              <a:off x="3076560" y="471312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076560" y="461340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076560" y="491652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110040" y="4917960"/>
            <a:ext cx="633240" cy="490680"/>
            <a:chOff x="3110040" y="4917960"/>
            <a:chExt cx="633240" cy="490680"/>
          </a:xfrm>
        </p:grpSpPr>
        <p:sp>
          <p:nvSpPr>
            <p:cNvPr id="1084" name=""/>
            <p:cNvSpPr/>
            <p:nvPr/>
          </p:nvSpPr>
          <p:spPr>
            <a:xfrm>
              <a:off x="3110040" y="5018040"/>
              <a:ext cx="63324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110040" y="4917960"/>
              <a:ext cx="633240" cy="1890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110040" y="5221440"/>
              <a:ext cx="63324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3159000" y="5256360"/>
            <a:ext cx="633600" cy="490320"/>
            <a:chOff x="3159000" y="5256360"/>
            <a:chExt cx="633600" cy="490320"/>
          </a:xfrm>
        </p:grpSpPr>
        <p:sp>
          <p:nvSpPr>
            <p:cNvPr id="1088" name=""/>
            <p:cNvSpPr/>
            <p:nvPr/>
          </p:nvSpPr>
          <p:spPr>
            <a:xfrm>
              <a:off x="3159000" y="535608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159000" y="525636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159000" y="555948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2649600" y="5681520"/>
            <a:ext cx="1810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120680" y="4313160"/>
            <a:ext cx="93024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144440" y="4319640"/>
            <a:ext cx="203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120680" y="5456160"/>
            <a:ext cx="93024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990720" y="5462640"/>
            <a:ext cx="4225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949480" y="3780000"/>
            <a:ext cx="93024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-5045040" y="3897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581120" y="4819680"/>
            <a:ext cx="0" cy="633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1581120" y="3672000"/>
            <a:ext cx="414360" cy="6379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048040" y="4707000"/>
            <a:ext cx="10285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3395520" y="3024000"/>
            <a:ext cx="419400" cy="742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3371760" y="4285800"/>
            <a:ext cx="0" cy="328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413240" y="5681520"/>
            <a:ext cx="1843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643720" y="3803760"/>
            <a:ext cx="93024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-2324160" y="39099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64280" y="3814920"/>
            <a:ext cx="93024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-1243080" y="38973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7083360" y="4681440"/>
            <a:ext cx="622440" cy="1025640"/>
            <a:chOff x="7083360" y="4681440"/>
            <a:chExt cx="622440" cy="1025640"/>
          </a:xfrm>
        </p:grpSpPr>
        <p:sp>
          <p:nvSpPr>
            <p:cNvPr id="1109" name=""/>
            <p:cNvSpPr/>
            <p:nvPr/>
          </p:nvSpPr>
          <p:spPr>
            <a:xfrm>
              <a:off x="7083360" y="4681440"/>
              <a:ext cx="622440" cy="1025640"/>
            </a:xfrm>
            <a:prstGeom prst="rect">
              <a:avLst/>
            </a:prstGeom>
            <a:gradFill rotWithShape="0">
              <a:gsLst>
                <a:gs pos="0">
                  <a:srgbClr val="8f8f8f"/>
                </a:gs>
                <a:gs pos="100000">
                  <a:srgbClr val="636363"/>
                </a:gs>
              </a:gsLst>
              <a:lin ang="5400000"/>
            </a:gradFill>
            <a:ln w="1260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62920" y="4879800"/>
              <a:ext cx="293400" cy="73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520040" y="4789440"/>
              <a:ext cx="87120" cy="2350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551720" y="4824360"/>
              <a:ext cx="39600" cy="128520"/>
            </a:xfrm>
            <a:prstGeom prst="rect">
              <a:avLst/>
            </a:prstGeom>
            <a:solidFill>
              <a:srgbClr val="ff2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26280" y="4968720"/>
              <a:ext cx="166680" cy="16524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8f8f8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226280" y="5289480"/>
              <a:ext cx="166680" cy="16668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8f8f8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6505560" y="5681520"/>
            <a:ext cx="285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7372440" y="4322880"/>
            <a:ext cx="162000" cy="3492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5043600" y="4309560"/>
            <a:ext cx="1014480" cy="576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6081840" y="3057480"/>
            <a:ext cx="419040" cy="743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5572080" y="4095720"/>
            <a:ext cx="1486080" cy="1038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371840" y="3790800"/>
            <a:ext cx="93024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454640" y="3908520"/>
            <a:ext cx="16265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597040" y="5913360"/>
            <a:ext cx="143532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02160" y="5913360"/>
            <a:ext cx="158760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407280" y="5913360"/>
            <a:ext cx="173988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577880" y="1569960"/>
            <a:ext cx="93024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092480" y="1569960"/>
            <a:ext cx="93024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607080" y="1569960"/>
            <a:ext cx="93024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Exerc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538520" y="4430880"/>
            <a:ext cx="1398600" cy="839520"/>
            <a:chOff x="4538520" y="4430880"/>
            <a:chExt cx="1398600" cy="839520"/>
          </a:xfrm>
        </p:grpSpPr>
        <p:grpSp>
          <p:nvGrpSpPr>
            <p:cNvPr id="93" name=""/>
            <p:cNvGrpSpPr/>
            <p:nvPr/>
          </p:nvGrpSpPr>
          <p:grpSpPr>
            <a:xfrm>
              <a:off x="4700520" y="4430880"/>
              <a:ext cx="720720" cy="371160"/>
              <a:chOff x="4700520" y="4430880"/>
              <a:chExt cx="720720" cy="371160"/>
            </a:xfrm>
          </p:grpSpPr>
          <p:sp>
            <p:nvSpPr>
              <p:cNvPr id="94" name=""/>
              <p:cNvSpPr/>
              <p:nvPr/>
            </p:nvSpPr>
            <p:spPr>
              <a:xfrm>
                <a:off x="4700520" y="450684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700520" y="44308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700520" y="466092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216400" y="4676760"/>
              <a:ext cx="720720" cy="371520"/>
              <a:chOff x="5216400" y="4676760"/>
              <a:chExt cx="720720" cy="371520"/>
            </a:xfrm>
          </p:grpSpPr>
          <p:sp>
            <p:nvSpPr>
              <p:cNvPr id="98" name=""/>
              <p:cNvSpPr/>
              <p:nvPr/>
            </p:nvSpPr>
            <p:spPr>
              <a:xfrm>
                <a:off x="5216400" y="475308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16400" y="4676760"/>
                <a:ext cx="720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216400" y="490680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538520" y="4735440"/>
              <a:ext cx="720720" cy="372960"/>
              <a:chOff x="4538520" y="4735440"/>
              <a:chExt cx="720720" cy="372960"/>
            </a:xfrm>
          </p:grpSpPr>
          <p:sp>
            <p:nvSpPr>
              <p:cNvPr id="102" name=""/>
              <p:cNvSpPr/>
              <p:nvPr/>
            </p:nvSpPr>
            <p:spPr>
              <a:xfrm>
                <a:off x="4538520" y="481320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38520" y="4735440"/>
                <a:ext cx="720720" cy="144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38520" y="49672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964040" y="4898880"/>
              <a:ext cx="720720" cy="371520"/>
              <a:chOff x="4964040" y="4898880"/>
              <a:chExt cx="720720" cy="371520"/>
            </a:xfrm>
          </p:grpSpPr>
          <p:sp>
            <p:nvSpPr>
              <p:cNvPr id="106" name=""/>
              <p:cNvSpPr/>
              <p:nvPr/>
            </p:nvSpPr>
            <p:spPr>
              <a:xfrm>
                <a:off x="4964040" y="497520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964040" y="489888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64040" y="51292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695600"/>
            <a:ext cx="7256520" cy="1469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073160" y="2062080"/>
            <a:ext cx="2197080" cy="978120"/>
            <a:chOff x="1073160" y="2062080"/>
            <a:chExt cx="2197080" cy="978120"/>
          </a:xfrm>
        </p:grpSpPr>
        <p:sp>
          <p:nvSpPr>
            <p:cNvPr id="112" name=""/>
            <p:cNvSpPr/>
            <p:nvPr/>
          </p:nvSpPr>
          <p:spPr>
            <a:xfrm>
              <a:off x="1073160" y="2062080"/>
              <a:ext cx="2197080" cy="9781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276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451320" y="1722600"/>
            <a:ext cx="212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816360" y="2124000"/>
            <a:ext cx="1914480" cy="854280"/>
            <a:chOff x="3816360" y="2124000"/>
            <a:chExt cx="1914480" cy="854280"/>
          </a:xfrm>
        </p:grpSpPr>
        <p:grpSp>
          <p:nvGrpSpPr>
            <p:cNvPr id="117" name=""/>
            <p:cNvGrpSpPr/>
            <p:nvPr/>
          </p:nvGrpSpPr>
          <p:grpSpPr>
            <a:xfrm>
              <a:off x="3816360" y="2124000"/>
              <a:ext cx="1914480" cy="854280"/>
              <a:chOff x="3816360" y="2124000"/>
              <a:chExt cx="1914480" cy="854280"/>
            </a:xfrm>
          </p:grpSpPr>
          <p:sp>
            <p:nvSpPr>
              <p:cNvPr id="118" name=""/>
              <p:cNvSpPr/>
              <p:nvPr/>
            </p:nvSpPr>
            <p:spPr>
              <a:xfrm>
                <a:off x="3822840" y="21304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21308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4012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27040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16360" y="24620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816360" y="27367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4484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4021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43440" y="21286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7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989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7520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0548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132520" y="21319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865760" y="21240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213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64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16360" y="25923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16360" y="28684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16360" y="2343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16360" y="2233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828960" y="22352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35520" y="22352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53080" y="22399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38640" y="22384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76880" y="22384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9880" y="22384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81320" y="25970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99040" y="26002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51280" y="21398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46600" y="23479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10160" y="26002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9880" y="24638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48040" y="27432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33960" y="25956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9880" y="27478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78400" y="28684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38640" y="27399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5440" y="27385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78440" y="28735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49560" y="28814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8000" y="24717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03640" y="24685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3320" y="27446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46600" y="24685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1880" y="23479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00760" y="28684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076560" y="4156200"/>
            <a:ext cx="633600" cy="490320"/>
            <a:chOff x="3076560" y="4156200"/>
            <a:chExt cx="633600" cy="490320"/>
          </a:xfrm>
        </p:grpSpPr>
        <p:sp>
          <p:nvSpPr>
            <p:cNvPr id="166" name=""/>
            <p:cNvSpPr/>
            <p:nvPr/>
          </p:nvSpPr>
          <p:spPr>
            <a:xfrm>
              <a:off x="3076560" y="425592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76560" y="415620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76560" y="445932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110040" y="4460760"/>
            <a:ext cx="633240" cy="490680"/>
            <a:chOff x="3110040" y="4460760"/>
            <a:chExt cx="633240" cy="490680"/>
          </a:xfrm>
        </p:grpSpPr>
        <p:sp>
          <p:nvSpPr>
            <p:cNvPr id="170" name=""/>
            <p:cNvSpPr/>
            <p:nvPr/>
          </p:nvSpPr>
          <p:spPr>
            <a:xfrm>
              <a:off x="3110040" y="4560840"/>
              <a:ext cx="63324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10040" y="4460760"/>
              <a:ext cx="633240" cy="1890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10040" y="4764240"/>
              <a:ext cx="63324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59000" y="4799160"/>
            <a:ext cx="633600" cy="490320"/>
            <a:chOff x="3159000" y="4799160"/>
            <a:chExt cx="633600" cy="490320"/>
          </a:xfrm>
        </p:grpSpPr>
        <p:sp>
          <p:nvSpPr>
            <p:cNvPr id="174" name=""/>
            <p:cNvSpPr/>
            <p:nvPr/>
          </p:nvSpPr>
          <p:spPr>
            <a:xfrm>
              <a:off x="3159000" y="489888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59000" y="479916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59000" y="510228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57328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s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20680" y="385596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4440" y="3862440"/>
            <a:ext cx="946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 Serv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20680" y="499896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005440"/>
            <a:ext cx="1201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 Utilis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49480" y="332280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22560" y="344016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71760" y="4357800"/>
            <a:ext cx="0" cy="6429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562040" y="3205080"/>
            <a:ext cx="319320" cy="6429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48040" y="4249800"/>
            <a:ext cx="10285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95520" y="2625840"/>
            <a:ext cx="419400" cy="689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386160" y="3828600"/>
            <a:ext cx="0" cy="328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3692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Fichiers Redo 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43720" y="334656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6160" y="345276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G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64280" y="335772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12160" y="3440160"/>
            <a:ext cx="77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083360" y="4224240"/>
            <a:ext cx="622440" cy="1025640"/>
            <a:chOff x="7083360" y="4224240"/>
            <a:chExt cx="622440" cy="1025640"/>
          </a:xfrm>
        </p:grpSpPr>
        <p:sp>
          <p:nvSpPr>
            <p:cNvPr id="195" name=""/>
            <p:cNvSpPr/>
            <p:nvPr/>
          </p:nvSpPr>
          <p:spPr>
            <a:xfrm>
              <a:off x="7083360" y="4224240"/>
              <a:ext cx="622440" cy="1025640"/>
            </a:xfrm>
            <a:prstGeom prst="rect">
              <a:avLst/>
            </a:prstGeom>
            <a:gradFill rotWithShape="0">
              <a:gsLst>
                <a:gs pos="0">
                  <a:srgbClr val="8f8f8f"/>
                </a:gs>
                <a:gs pos="100000">
                  <a:srgbClr val="636363"/>
                </a:gs>
              </a:gsLst>
              <a:lin ang="5400000"/>
            </a:gradFill>
            <a:ln w="1260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2920" y="4422600"/>
              <a:ext cx="293400" cy="73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20040" y="4332240"/>
              <a:ext cx="87120" cy="2350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1720" y="4367160"/>
              <a:ext cx="39600" cy="128520"/>
            </a:xfrm>
            <a:prstGeom prst="rect">
              <a:avLst/>
            </a:prstGeom>
            <a:solidFill>
              <a:srgbClr val="ff2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26280" y="4511520"/>
              <a:ext cx="166680" cy="16524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8f8f8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6280" y="4832280"/>
              <a:ext cx="166680" cy="16668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8f8f8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42924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Archi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81800" y="3865320"/>
            <a:ext cx="152640" cy="339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113440" y="3852720"/>
            <a:ext cx="987480" cy="5652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91200" y="2509920"/>
            <a:ext cx="424080" cy="8287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595840" y="3726000"/>
            <a:ext cx="1447920" cy="9460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71840" y="333360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54640" y="3451320"/>
            <a:ext cx="77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K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507000" y="2057400"/>
            <a:ext cx="1221120" cy="988920"/>
            <a:chOff x="6507000" y="2057400"/>
            <a:chExt cx="1221120" cy="988920"/>
          </a:xfrm>
        </p:grpSpPr>
        <p:sp>
          <p:nvSpPr>
            <p:cNvPr id="209" name=""/>
            <p:cNvSpPr/>
            <p:nvPr/>
          </p:nvSpPr>
          <p:spPr>
            <a:xfrm>
              <a:off x="6507000" y="2057400"/>
              <a:ext cx="122112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15280" y="291780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15280" y="27687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10240" y="2060640"/>
              <a:ext cx="552600" cy="646200"/>
            </a:xfrm>
            <a:custGeom>
              <a:avLst/>
              <a:gdLst>
                <a:gd name="textAreaLeft" fmla="*/ 20160 w 552600"/>
                <a:gd name="textAreaRight" fmla="*/ 532440 w 55260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56">
                  <a:moveTo>
                    <a:pt x="2699" y="0"/>
                  </a:moveTo>
                  <a:arcTo wR="2699" hR="2699" stAng="16200000" swAng="-5400000"/>
                  <a:lnTo>
                    <a:pt x="0" y="22557"/>
                  </a:lnTo>
                  <a:arcTo wR="2699" hR="2699" stAng="10800000" swAng="-5400000"/>
                  <a:lnTo>
                    <a:pt x="18901" y="2525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10240" y="233028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15280" y="26193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15280" y="247968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15280" y="21891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39160" y="206064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s Transaction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4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Début de Transact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Au démarrage d’une sess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A la fin d’une transaction précédent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n de Transact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ransaction validé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Un ordre SQL COMMIT est émi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Un ordre SQL entraîne un commit implicit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ortie normale d’un programme utilisateur avec déconnexion du serveur Orac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s Transaction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6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n de Transact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ransaction annulé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Ordre SQL ROLLBACK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ortie anormale d’un programme utilisateur sans déconnexion du serveur Orac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Erreur du processeu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Erreur disqu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1695600"/>
            <a:ext cx="7256520" cy="1469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073160" y="2062080"/>
            <a:ext cx="2197080" cy="978120"/>
            <a:chOff x="1073160" y="2062080"/>
            <a:chExt cx="2197080" cy="978120"/>
          </a:xfrm>
        </p:grpSpPr>
        <p:sp>
          <p:nvSpPr>
            <p:cNvPr id="236" name=""/>
            <p:cNvSpPr/>
            <p:nvPr/>
          </p:nvSpPr>
          <p:spPr>
            <a:xfrm>
              <a:off x="1073160" y="2062080"/>
              <a:ext cx="2197080" cy="9781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1428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276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451320" y="1722600"/>
            <a:ext cx="212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816360" y="2124000"/>
            <a:ext cx="1914480" cy="854280"/>
            <a:chOff x="3816360" y="2124000"/>
            <a:chExt cx="1914480" cy="854280"/>
          </a:xfrm>
        </p:grpSpPr>
        <p:grpSp>
          <p:nvGrpSpPr>
            <p:cNvPr id="241" name=""/>
            <p:cNvGrpSpPr/>
            <p:nvPr/>
          </p:nvGrpSpPr>
          <p:grpSpPr>
            <a:xfrm>
              <a:off x="3816360" y="2124000"/>
              <a:ext cx="1914480" cy="854280"/>
              <a:chOff x="3816360" y="2124000"/>
              <a:chExt cx="1914480" cy="854280"/>
            </a:xfrm>
          </p:grpSpPr>
          <p:sp>
            <p:nvSpPr>
              <p:cNvPr id="242" name=""/>
              <p:cNvSpPr/>
              <p:nvPr/>
            </p:nvSpPr>
            <p:spPr>
              <a:xfrm>
                <a:off x="3822840" y="21304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21308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4012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7040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16360" y="24620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816360" y="27367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34484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4021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943440" y="21286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7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989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7520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0548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32520" y="21319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65760" y="21240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5213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4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816360" y="25923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816360" y="28684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16360" y="2343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816360" y="2233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3828960" y="22352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35520" y="22352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53080" y="22399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38640" y="22384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76880" y="22384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9880" y="22384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81320" y="25970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99040" y="26002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51280" y="21398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46600" y="23479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10160" y="26002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49880" y="24638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48040" y="27432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33960" y="25956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9880" y="27478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78400" y="28684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38640" y="27399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75440" y="27385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78440" y="28735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49560" y="28814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8000" y="24717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03640" y="24685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13320" y="27446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46600" y="24685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71880" y="23479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00760" y="28684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507000" y="2057400"/>
            <a:ext cx="1221120" cy="988920"/>
            <a:chOff x="6507000" y="2057400"/>
            <a:chExt cx="1221120" cy="988920"/>
          </a:xfrm>
        </p:grpSpPr>
        <p:sp>
          <p:nvSpPr>
            <p:cNvPr id="290" name=""/>
            <p:cNvSpPr/>
            <p:nvPr/>
          </p:nvSpPr>
          <p:spPr>
            <a:xfrm>
              <a:off x="6507000" y="2057400"/>
              <a:ext cx="122112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15280" y="291780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15280" y="27687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10240" y="2060640"/>
              <a:ext cx="552600" cy="646200"/>
            </a:xfrm>
            <a:custGeom>
              <a:avLst/>
              <a:gdLst>
                <a:gd name="textAreaLeft" fmla="*/ 20160 w 552600"/>
                <a:gd name="textAreaRight" fmla="*/ 532440 w 55260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56">
                  <a:moveTo>
                    <a:pt x="2699" y="0"/>
                  </a:moveTo>
                  <a:arcTo wR="2699" hR="2699" stAng="16200000" swAng="-5400000"/>
                  <a:lnTo>
                    <a:pt x="0" y="22557"/>
                  </a:lnTo>
                  <a:arcTo wR="2699" hR="2699" stAng="10800000" swAng="-5400000"/>
                  <a:lnTo>
                    <a:pt x="18901" y="2525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10240" y="233028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15280" y="26193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15280" y="247968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15280" y="21891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39160" y="206064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Perte de Transactions en Mémoir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925800" y="2046240"/>
            <a:ext cx="1650960" cy="133524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3960720" y="2030400"/>
            <a:ext cx="1611360" cy="131760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Buffer de Redo Log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303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tient toutes les modifications effectuées dans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econstruit les modifications effectuées sur la base de données et les entrées de rollback segments, lorsqu’une restauration est nécessair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e mécanisme peut être ignoré en utilisant le mot-clé UNRECOVERABLE dans les ordres CREATE TABLE et CREATE INDEX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Oracle Loader peut ignorer ce mécanism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1695600"/>
            <a:ext cx="7256520" cy="1469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073160" y="2062080"/>
            <a:ext cx="2197080" cy="978120"/>
            <a:chOff x="1073160" y="2062080"/>
            <a:chExt cx="2197080" cy="978120"/>
          </a:xfrm>
        </p:grpSpPr>
        <p:sp>
          <p:nvSpPr>
            <p:cNvPr id="314" name=""/>
            <p:cNvSpPr/>
            <p:nvPr/>
          </p:nvSpPr>
          <p:spPr>
            <a:xfrm>
              <a:off x="1073160" y="2062080"/>
              <a:ext cx="2197080" cy="9781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1428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276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451320" y="1722600"/>
            <a:ext cx="212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816360" y="2124000"/>
            <a:ext cx="1914480" cy="854280"/>
            <a:chOff x="3816360" y="2124000"/>
            <a:chExt cx="1914480" cy="854280"/>
          </a:xfrm>
        </p:grpSpPr>
        <p:grpSp>
          <p:nvGrpSpPr>
            <p:cNvPr id="319" name=""/>
            <p:cNvGrpSpPr/>
            <p:nvPr/>
          </p:nvGrpSpPr>
          <p:grpSpPr>
            <a:xfrm>
              <a:off x="3816360" y="2124000"/>
              <a:ext cx="1914480" cy="854280"/>
              <a:chOff x="3816360" y="2124000"/>
              <a:chExt cx="1914480" cy="854280"/>
            </a:xfrm>
          </p:grpSpPr>
          <p:sp>
            <p:nvSpPr>
              <p:cNvPr id="320" name=""/>
              <p:cNvSpPr/>
              <p:nvPr/>
            </p:nvSpPr>
            <p:spPr>
              <a:xfrm>
                <a:off x="3822840" y="21304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1308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4012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7040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16360" y="24620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6360" y="27367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484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021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43440" y="21286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47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9989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07520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60548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32520" y="21319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865760" y="21240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5213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4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816360" y="25923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16360" y="28684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816360" y="2343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16360" y="2233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3828960" y="22352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35520" y="22352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3080" y="22399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38640" y="22384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76880" y="22384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49880" y="22384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81320" y="25970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99040" y="26002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51280" y="21398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6600" y="23479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610160" y="26002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9880" y="24638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48040" y="27432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33960" y="25956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49880" y="27478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78400" y="28684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38640" y="27399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75440" y="27385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78440" y="28735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49560" y="28814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8000" y="24717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3640" y="24685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3320" y="27446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46600" y="24685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71880" y="23479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0760" y="28684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507000" y="2057400"/>
            <a:ext cx="1221120" cy="988920"/>
            <a:chOff x="6507000" y="2057400"/>
            <a:chExt cx="1221120" cy="988920"/>
          </a:xfrm>
        </p:grpSpPr>
        <p:sp>
          <p:nvSpPr>
            <p:cNvPr id="368" name=""/>
            <p:cNvSpPr/>
            <p:nvPr/>
          </p:nvSpPr>
          <p:spPr>
            <a:xfrm>
              <a:off x="6507000" y="2057400"/>
              <a:ext cx="122112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15280" y="291780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15280" y="27687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10240" y="2060640"/>
              <a:ext cx="552600" cy="646200"/>
            </a:xfrm>
            <a:custGeom>
              <a:avLst/>
              <a:gdLst>
                <a:gd name="textAreaLeft" fmla="*/ 20160 w 552600"/>
                <a:gd name="textAreaRight" fmla="*/ 532440 w 55260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56">
                  <a:moveTo>
                    <a:pt x="2699" y="0"/>
                  </a:moveTo>
                  <a:arcTo wR="2699" hR="2699" stAng="16200000" swAng="-5400000"/>
                  <a:lnTo>
                    <a:pt x="0" y="22557"/>
                  </a:lnTo>
                  <a:arcTo wR="2699" hR="2699" stAng="10800000" swAng="-5400000"/>
                  <a:lnTo>
                    <a:pt x="18901" y="2525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10240" y="233028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15280" y="26193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15280" y="247968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15280" y="21891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39160" y="206064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ut des Fichiers Redo Log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95400" y="3971880"/>
            <a:ext cx="481788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Les fichiers redo log sont utilisés pour restaurer les données modifiées qui étaient en mémoire au moment d’une perte de l’instan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3925800" y="1963800"/>
            <a:ext cx="1650960" cy="133488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3960720" y="1947960"/>
            <a:ext cx="1611360" cy="131760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45200" y="3740040"/>
            <a:ext cx="1457280" cy="959040"/>
            <a:chOff x="6145200" y="3740040"/>
            <a:chExt cx="1457280" cy="959040"/>
          </a:xfrm>
        </p:grpSpPr>
        <p:grpSp>
          <p:nvGrpSpPr>
            <p:cNvPr id="382" name=""/>
            <p:cNvGrpSpPr/>
            <p:nvPr/>
          </p:nvGrpSpPr>
          <p:grpSpPr>
            <a:xfrm>
              <a:off x="6313320" y="3740040"/>
              <a:ext cx="750960" cy="424080"/>
              <a:chOff x="6313320" y="3740040"/>
              <a:chExt cx="750960" cy="424080"/>
            </a:xfrm>
          </p:grpSpPr>
          <p:sp>
            <p:nvSpPr>
              <p:cNvPr id="383" name=""/>
              <p:cNvSpPr/>
              <p:nvPr/>
            </p:nvSpPr>
            <p:spPr>
              <a:xfrm>
                <a:off x="6313320" y="3827520"/>
                <a:ext cx="750960" cy="25380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13320" y="3740040"/>
                <a:ext cx="750960" cy="16200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313320" y="4003560"/>
                <a:ext cx="750960" cy="1605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6851520" y="4021200"/>
              <a:ext cx="750960" cy="423720"/>
              <a:chOff x="6851520" y="4021200"/>
              <a:chExt cx="750960" cy="423720"/>
            </a:xfrm>
          </p:grpSpPr>
          <p:sp>
            <p:nvSpPr>
              <p:cNvPr id="387" name=""/>
              <p:cNvSpPr/>
              <p:nvPr/>
            </p:nvSpPr>
            <p:spPr>
              <a:xfrm>
                <a:off x="6851520" y="4108320"/>
                <a:ext cx="750960" cy="2541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51520" y="4021200"/>
                <a:ext cx="750960" cy="16344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51520" y="4284720"/>
                <a:ext cx="750960" cy="16020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6145200" y="4087800"/>
              <a:ext cx="750960" cy="426960"/>
              <a:chOff x="6145200" y="4087800"/>
              <a:chExt cx="750960" cy="426960"/>
            </a:xfrm>
          </p:grpSpPr>
          <p:sp>
            <p:nvSpPr>
              <p:cNvPr id="391" name=""/>
              <p:cNvSpPr/>
              <p:nvPr/>
            </p:nvSpPr>
            <p:spPr>
              <a:xfrm>
                <a:off x="6145200" y="4176720"/>
                <a:ext cx="750960" cy="2541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45200" y="4087800"/>
                <a:ext cx="750960" cy="16524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45200" y="4352760"/>
                <a:ext cx="750960" cy="16200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588000" y="4275000"/>
              <a:ext cx="750960" cy="424080"/>
              <a:chOff x="6588000" y="4275000"/>
              <a:chExt cx="750960" cy="424080"/>
            </a:xfrm>
          </p:grpSpPr>
          <p:sp>
            <p:nvSpPr>
              <p:cNvPr id="395" name=""/>
              <p:cNvSpPr/>
              <p:nvPr/>
            </p:nvSpPr>
            <p:spPr>
              <a:xfrm>
                <a:off x="6588000" y="4362480"/>
                <a:ext cx="750960" cy="2523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88000" y="4275000"/>
                <a:ext cx="750960" cy="1605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88000" y="4537080"/>
                <a:ext cx="750960" cy="16200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897520" y="4800600"/>
            <a:ext cx="1890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081d58"/>
                </a:solidFill>
                <a:latin typeface="Times New Roman"/>
              </a:rPr>
              <a:t>Fichiers Redo Lo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14400" y="1695600"/>
            <a:ext cx="7256520" cy="1469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073160" y="2062080"/>
            <a:ext cx="2197080" cy="978120"/>
            <a:chOff x="1073160" y="2062080"/>
            <a:chExt cx="2197080" cy="978120"/>
          </a:xfrm>
        </p:grpSpPr>
        <p:sp>
          <p:nvSpPr>
            <p:cNvPr id="405" name=""/>
            <p:cNvSpPr/>
            <p:nvPr/>
          </p:nvSpPr>
          <p:spPr>
            <a:xfrm>
              <a:off x="1073160" y="2062080"/>
              <a:ext cx="2197080" cy="9781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1428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8276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451320" y="1722600"/>
            <a:ext cx="212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816360" y="2124000"/>
            <a:ext cx="1914480" cy="854280"/>
            <a:chOff x="3816360" y="2124000"/>
            <a:chExt cx="1914480" cy="854280"/>
          </a:xfrm>
        </p:grpSpPr>
        <p:grpSp>
          <p:nvGrpSpPr>
            <p:cNvPr id="410" name=""/>
            <p:cNvGrpSpPr/>
            <p:nvPr/>
          </p:nvGrpSpPr>
          <p:grpSpPr>
            <a:xfrm>
              <a:off x="3816360" y="2124000"/>
              <a:ext cx="1914480" cy="854280"/>
              <a:chOff x="3816360" y="2124000"/>
              <a:chExt cx="1914480" cy="854280"/>
            </a:xfrm>
          </p:grpSpPr>
          <p:sp>
            <p:nvSpPr>
              <p:cNvPr id="411" name=""/>
              <p:cNvSpPr/>
              <p:nvPr/>
            </p:nvSpPr>
            <p:spPr>
              <a:xfrm>
                <a:off x="3822840" y="21304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21308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4012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27040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816360" y="24620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816360" y="27367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4484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4021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43440" y="21286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7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9989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07520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60548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132520" y="21319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865760" y="21240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5213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4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816360" y="25923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16360" y="28684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16360" y="2343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816360" y="2233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3828960" y="22352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35520" y="22352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3080" y="22399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38640" y="22384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76880" y="22384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9880" y="22384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81320" y="25970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99040" y="26002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51280" y="21398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46600" y="23479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10160" y="26002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49880" y="24638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48040" y="27432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33960" y="25956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9880" y="27478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8400" y="28684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38640" y="27399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75440" y="27385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78440" y="28735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49560" y="28814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18000" y="24717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03640" y="24685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3320" y="27446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46600" y="24685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71880" y="23479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00760" y="28684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507000" y="2057400"/>
            <a:ext cx="1221120" cy="988920"/>
            <a:chOff x="6507000" y="2057400"/>
            <a:chExt cx="1221120" cy="988920"/>
          </a:xfrm>
        </p:grpSpPr>
        <p:sp>
          <p:nvSpPr>
            <p:cNvPr id="459" name=""/>
            <p:cNvSpPr/>
            <p:nvPr/>
          </p:nvSpPr>
          <p:spPr>
            <a:xfrm>
              <a:off x="6507000" y="2057400"/>
              <a:ext cx="122112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15280" y="291780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15280" y="27687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10240" y="2060640"/>
              <a:ext cx="552600" cy="646200"/>
            </a:xfrm>
            <a:custGeom>
              <a:avLst/>
              <a:gdLst>
                <a:gd name="textAreaLeft" fmla="*/ 20160 w 552600"/>
                <a:gd name="textAreaRight" fmla="*/ 532440 w 55260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56">
                  <a:moveTo>
                    <a:pt x="2699" y="0"/>
                  </a:moveTo>
                  <a:arcTo wR="2699" hR="2699" stAng="16200000" swAng="-5400000"/>
                  <a:lnTo>
                    <a:pt x="0" y="22557"/>
                  </a:lnTo>
                  <a:arcTo wR="2699" hR="2699" stAng="10800000" swAng="-5400000"/>
                  <a:lnTo>
                    <a:pt x="18901" y="2525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10240" y="233028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15280" y="26193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15280" y="247968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15280" y="21891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39160" y="206064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Process Log Writer (LGWR)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005280" y="4264200"/>
            <a:ext cx="779400" cy="428400"/>
            <a:chOff x="3005280" y="4264200"/>
            <a:chExt cx="779400" cy="428400"/>
          </a:xfrm>
        </p:grpSpPr>
        <p:sp>
          <p:nvSpPr>
            <p:cNvPr id="470" name=""/>
            <p:cNvSpPr/>
            <p:nvPr/>
          </p:nvSpPr>
          <p:spPr>
            <a:xfrm>
              <a:off x="3005280" y="4351320"/>
              <a:ext cx="779400" cy="2570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05280" y="4264200"/>
              <a:ext cx="779400" cy="1648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05280" y="4529160"/>
              <a:ext cx="779400" cy="1634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038400" y="4568760"/>
            <a:ext cx="779400" cy="428760"/>
            <a:chOff x="3038400" y="4568760"/>
            <a:chExt cx="779400" cy="428760"/>
          </a:xfrm>
        </p:grpSpPr>
        <p:sp>
          <p:nvSpPr>
            <p:cNvPr id="474" name=""/>
            <p:cNvSpPr/>
            <p:nvPr/>
          </p:nvSpPr>
          <p:spPr>
            <a:xfrm>
              <a:off x="3038400" y="4656240"/>
              <a:ext cx="779400" cy="2570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38400" y="4568760"/>
              <a:ext cx="779400" cy="1652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38400" y="4834080"/>
              <a:ext cx="779400" cy="1634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087720" y="4906800"/>
            <a:ext cx="779400" cy="428760"/>
            <a:chOff x="3087720" y="4906800"/>
            <a:chExt cx="779400" cy="428760"/>
          </a:xfrm>
        </p:grpSpPr>
        <p:sp>
          <p:nvSpPr>
            <p:cNvPr id="478" name=""/>
            <p:cNvSpPr/>
            <p:nvPr/>
          </p:nvSpPr>
          <p:spPr>
            <a:xfrm>
              <a:off x="3087720" y="4994280"/>
              <a:ext cx="779400" cy="2570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87720" y="4906800"/>
              <a:ext cx="779400" cy="1652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87720" y="5172120"/>
              <a:ext cx="779400" cy="1634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120680" y="392580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20680" y="506880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49480" y="339264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35160" y="347508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81120" y="4429080"/>
            <a:ext cx="0" cy="6382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1542960" y="3042720"/>
            <a:ext cx="571680" cy="8766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066760" y="4389120"/>
            <a:ext cx="935280" cy="3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179880" y="2562120"/>
            <a:ext cx="635040" cy="8128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386160" y="3903480"/>
            <a:ext cx="0" cy="3553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84920" y="341640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67360" y="349884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G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327640" y="3925440"/>
            <a:ext cx="1440" cy="4986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67320" y="2567160"/>
            <a:ext cx="1038240" cy="8380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809960" y="4430880"/>
            <a:ext cx="1398600" cy="839520"/>
            <a:chOff x="4809960" y="4430880"/>
            <a:chExt cx="1398600" cy="839520"/>
          </a:xfrm>
        </p:grpSpPr>
        <p:grpSp>
          <p:nvGrpSpPr>
            <p:cNvPr id="495" name=""/>
            <p:cNvGrpSpPr/>
            <p:nvPr/>
          </p:nvGrpSpPr>
          <p:grpSpPr>
            <a:xfrm>
              <a:off x="4971960" y="4430880"/>
              <a:ext cx="720720" cy="371160"/>
              <a:chOff x="4971960" y="4430880"/>
              <a:chExt cx="720720" cy="371160"/>
            </a:xfrm>
          </p:grpSpPr>
          <p:sp>
            <p:nvSpPr>
              <p:cNvPr id="496" name=""/>
              <p:cNvSpPr/>
              <p:nvPr/>
            </p:nvSpPr>
            <p:spPr>
              <a:xfrm>
                <a:off x="4971960" y="450684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971960" y="44308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971960" y="466092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5487840" y="4676760"/>
              <a:ext cx="720720" cy="371520"/>
              <a:chOff x="5487840" y="4676760"/>
              <a:chExt cx="720720" cy="371520"/>
            </a:xfrm>
          </p:grpSpPr>
          <p:sp>
            <p:nvSpPr>
              <p:cNvPr id="500" name=""/>
              <p:cNvSpPr/>
              <p:nvPr/>
            </p:nvSpPr>
            <p:spPr>
              <a:xfrm>
                <a:off x="5487840" y="475308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487840" y="4676760"/>
                <a:ext cx="720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487840" y="490680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4809960" y="4735440"/>
              <a:ext cx="720720" cy="372960"/>
              <a:chOff x="4809960" y="4735440"/>
              <a:chExt cx="720720" cy="372960"/>
            </a:xfrm>
          </p:grpSpPr>
          <p:sp>
            <p:nvSpPr>
              <p:cNvPr id="504" name=""/>
              <p:cNvSpPr/>
              <p:nvPr/>
            </p:nvSpPr>
            <p:spPr>
              <a:xfrm>
                <a:off x="4809960" y="481320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809960" y="4735440"/>
                <a:ext cx="720720" cy="144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809960" y="49672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5235480" y="4898880"/>
              <a:ext cx="720720" cy="371520"/>
              <a:chOff x="5235480" y="4898880"/>
              <a:chExt cx="720720" cy="371520"/>
            </a:xfrm>
          </p:grpSpPr>
          <p:sp>
            <p:nvSpPr>
              <p:cNvPr id="508" name=""/>
              <p:cNvSpPr/>
              <p:nvPr/>
            </p:nvSpPr>
            <p:spPr>
              <a:xfrm>
                <a:off x="5235480" y="497520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35480" y="489888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235480" y="51292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1" name=""/>
          <p:cNvSpPr/>
          <p:nvPr/>
        </p:nvSpPr>
        <p:spPr>
          <a:xfrm>
            <a:off x="2573280" y="532440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s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109520" y="3908520"/>
            <a:ext cx="946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rv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36800" y="5064120"/>
            <a:ext cx="1096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1972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Fichiers Redo 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19T16:35:32Z</dcterms:created>
  <dc:creator>Hanne Rue Rasmussen</dc:creator>
  <dc:description/>
  <dc:language>en-US</dc:language>
  <cp:lastModifiedBy>MEDI TELECOM</cp:lastModifiedBy>
  <cp:lastPrinted>1996-03-20T15:31:44Z</cp:lastPrinted>
  <dcterms:modified xsi:type="dcterms:W3CDTF">2001-04-11T14:57:58Z</dcterms:modified>
  <cp:revision>15251</cp:revision>
  <dc:subject>Oracle7: Administration</dc:subject>
  <dc:title>Manage Transaction Concurrency and Consistency</dc:title>
</cp:coreProperties>
</file>