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FBAF41-B96A-4581-A657-E7D0620D2419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2960" y="4498920"/>
            <a:ext cx="502920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87C-9B19-48A8-9530-0300DC65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06D-2812-40F0-AEA8-A58A6B3A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52A-D5A6-4D5A-BB38-F4210FCD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084-24FE-4947-A8C7-C651D0D7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5DE-275A-4264-9491-48A08CAA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EC8-A23D-46CB-842C-E29EA12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212-08F5-40B7-8B83-A5F46CC8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99D-BB7E-4F5F-BAA5-FC237E84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2C2-F9B7-401D-A0A5-0D92317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3FA-E65D-4A74-B465-9C516F5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E04-7D98-47DE-9DAE-35236F1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31E-A90B-4019-9DCE-0E4B280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895744-DB98-438B-A80E-6C0D18337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0996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9 - </a:t>
            </a:r>
            <a:fld id="{575E042A-9CBA-4DEB-A046-B7DFFB12B360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92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253800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9: Gestion des Tables et des Segments d'Index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7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8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7964280" y="1941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816680" y="194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68320" y="17334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11960" y="1738440"/>
            <a:ext cx="0" cy="266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922320" y="19447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990720" y="2016000"/>
            <a:ext cx="6984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2023920"/>
            <a:ext cx="0" cy="171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87720" y="208296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632040" y="2206800"/>
            <a:ext cx="1308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980720" y="22068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2019240"/>
            <a:ext cx="0" cy="1724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5520" y="234936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20600" y="2473200"/>
            <a:ext cx="1219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0720" y="24732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25880" y="261612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733560" y="2739960"/>
            <a:ext cx="1206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980720" y="27399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39200" y="285768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848040" y="2981160"/>
            <a:ext cx="109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93680" y="29811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04360" y="361620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657240" y="3743280"/>
            <a:ext cx="1276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980720" y="3743280"/>
            <a:ext cx="34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65080" y="1736640"/>
            <a:ext cx="4647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9440" y="2016000"/>
            <a:ext cx="0" cy="2479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549080" y="44928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24760" y="2016000"/>
            <a:ext cx="0" cy="2513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46640" y="4530600"/>
            <a:ext cx="978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6320" y="3124080"/>
            <a:ext cx="253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_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993680" y="3247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25160" y="3362400"/>
            <a:ext cx="2096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_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79680" y="3489480"/>
            <a:ext cx="647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80720" y="34894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5160" y="3747960"/>
            <a:ext cx="0" cy="265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1720" y="3746520"/>
            <a:ext cx="0" cy="27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128320" y="4017960"/>
            <a:ext cx="1909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1960" y="4210200"/>
            <a:ext cx="0" cy="2998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066920" y="4211640"/>
            <a:ext cx="170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360" y="4203720"/>
            <a:ext cx="0" cy="320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73440" y="43862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225960" y="451008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80920" y="4376880"/>
            <a:ext cx="144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95960" y="4530600"/>
            <a:ext cx="642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30640" y="4397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11760" y="4505400"/>
            <a:ext cx="647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55080" y="437688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934920" y="47512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990720" y="4822920"/>
            <a:ext cx="6959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89120" y="4826160"/>
            <a:ext cx="0" cy="180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84920" y="4834080"/>
            <a:ext cx="0" cy="169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7905960" y="474984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93440" y="5011560"/>
            <a:ext cx="3287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0280" y="389736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95560" y="404820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9800" y="4888080"/>
            <a:ext cx="213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ARALLE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_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703400" y="3247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958680" y="194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8076960" y="19393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14480" y="201456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12880" y="2019240"/>
            <a:ext cx="0" cy="354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84640" y="2014560"/>
            <a:ext cx="0" cy="36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929360" y="19414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15880" y="1736640"/>
            <a:ext cx="0" cy="273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407960" y="1739880"/>
            <a:ext cx="2882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174636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717200" y="2190600"/>
            <a:ext cx="2459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715760" y="2376360"/>
            <a:ext cx="2469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97480" y="2019240"/>
            <a:ext cx="0" cy="354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2016000"/>
            <a:ext cx="0" cy="355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302160" y="2190600"/>
            <a:ext cx="1460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00720" y="2376360"/>
            <a:ext cx="1471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06840" y="2014560"/>
            <a:ext cx="0" cy="168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33960" y="2013120"/>
            <a:ext cx="0" cy="163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33560" y="2062080"/>
            <a:ext cx="194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ENABL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32840" y="2247840"/>
            <a:ext cx="20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ISABLE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 clause _dis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2176560"/>
            <a:ext cx="1528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31840" y="2048040"/>
            <a:ext cx="143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ous_requê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7760" y="206064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7760" y="2246400"/>
            <a:ext cx="95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O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9604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8078400" y="19918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015920" y="2066760"/>
            <a:ext cx="39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7930800" y="19936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43320" y="178452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339720" y="1787400"/>
            <a:ext cx="3187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26080" y="1784520"/>
            <a:ext cx="0" cy="277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8800" y="1962000"/>
            <a:ext cx="10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TORAGE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6680" y="1944720"/>
            <a:ext cx="117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IAL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56400" y="2076480"/>
            <a:ext cx="0" cy="438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132160" y="2516040"/>
            <a:ext cx="625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32520" y="2076480"/>
            <a:ext cx="0" cy="442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143320" y="22795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1061640" y="199512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200720" y="2066760"/>
            <a:ext cx="965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76560" y="2066760"/>
            <a:ext cx="2120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80040" y="194328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400120" y="2066760"/>
            <a:ext cx="1206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6400" y="2071800"/>
            <a:ext cx="0" cy="2589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24480" y="263052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774680" y="275256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416040" y="27525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75240" y="2071800"/>
            <a:ext cx="0" cy="2589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0760" y="3349800"/>
            <a:ext cx="162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IN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334120" y="3476520"/>
            <a:ext cx="104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416040" y="3476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1120" y="3629160"/>
            <a:ext cx="1686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486040" y="3755880"/>
            <a:ext cx="888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6040" y="37558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51480" y="3946680"/>
            <a:ext cx="173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INCREAS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524200" y="4073400"/>
            <a:ext cx="85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419280" y="4073400"/>
            <a:ext cx="237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231880" y="4365720"/>
            <a:ext cx="11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16040" y="43657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1120" y="4226040"/>
            <a:ext cx="148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892840" y="4657680"/>
            <a:ext cx="482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416040" y="4657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45360" y="4516560"/>
            <a:ext cx="208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 GROUP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07120" y="2403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07120" y="2162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08720" y="2755800"/>
            <a:ext cx="0" cy="438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884480" y="3195720"/>
            <a:ext cx="625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84840" y="2755800"/>
            <a:ext cx="0" cy="443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895640" y="295920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59440" y="308304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59440" y="284148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38160" y="1689120"/>
            <a:ext cx="7201080" cy="38624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REATE TABLE de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(deptno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UMBER (7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VARCHAR2(30) PRIMARY KEY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cation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UMBER 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5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PCTFREE 2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7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PCTUSED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8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ORAG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(PCTINCREAS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9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MAXEXTENTS 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ABLESPAC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user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58080" y="1749600"/>
            <a:ext cx="21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915840" y="167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1033200" y="167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8064360" y="167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14440" y="164448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TER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82160" y="175104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0160" y="2347920"/>
            <a:ext cx="0" cy="41292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3760" y="222408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993680" y="2360520"/>
            <a:ext cx="267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079960" y="2378160"/>
            <a:ext cx="2387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67480" y="2374920"/>
            <a:ext cx="0" cy="395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97280" y="2768760"/>
            <a:ext cx="380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8053200" y="2697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35520" y="2664000"/>
            <a:ext cx="60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DD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939960" y="2770200"/>
            <a:ext cx="34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03240" y="2770200"/>
            <a:ext cx="571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53320" y="264168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72400" y="2765520"/>
            <a:ext cx="33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6600" y="2781360"/>
            <a:ext cx="0" cy="393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3181320"/>
            <a:ext cx="523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65960" y="2781360"/>
            <a:ext cx="0" cy="393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5040" y="2924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contrainte_colon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695560" y="2781360"/>
            <a:ext cx="95400" cy="260280"/>
            <a:chOff x="5695560" y="2781360"/>
            <a:chExt cx="95400" cy="260280"/>
          </a:xfrm>
        </p:grpSpPr>
        <p:sp>
          <p:nvSpPr>
            <p:cNvPr id="445" name=""/>
            <p:cNvSpPr/>
            <p:nvPr/>
          </p:nvSpPr>
          <p:spPr>
            <a:xfrm flipH="1">
              <a:off x="5695560" y="3041640"/>
              <a:ext cx="954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03840" y="2781360"/>
              <a:ext cx="0" cy="25380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768760" y="1758960"/>
            <a:ext cx="2590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5320" y="163656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234960" y="2046240"/>
            <a:ext cx="187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27400" y="176832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05520" y="176544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929880" y="268416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130040" y="2193840"/>
            <a:ext cx="6808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35080" y="2197080"/>
            <a:ext cx="0" cy="571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39080" y="2195640"/>
            <a:ext cx="0" cy="560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70640" y="2471760"/>
            <a:ext cx="0" cy="2858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562720" y="2473200"/>
            <a:ext cx="171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75600" y="2481120"/>
            <a:ext cx="0" cy="27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9360" y="3041640"/>
            <a:ext cx="95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29440" y="278136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52600" y="292428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xp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981600" y="3041640"/>
            <a:ext cx="196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76560" y="278136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8880" y="3041640"/>
            <a:ext cx="241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5120" y="278136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67560" y="26496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54840" y="2768760"/>
            <a:ext cx="7920" cy="2679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209240" y="2781360"/>
            <a:ext cx="3240" cy="2666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60440" y="3381480"/>
            <a:ext cx="0" cy="3906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252520" y="3376440"/>
            <a:ext cx="527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31200" y="3376440"/>
            <a:ext cx="0" cy="409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87000" y="36752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ODIFY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206000" y="3786120"/>
            <a:ext cx="127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33720" y="3786120"/>
            <a:ext cx="304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18480" y="365292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96160" y="3781440"/>
            <a:ext cx="54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92840" y="3846600"/>
            <a:ext cx="1320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810400" y="3981600"/>
            <a:ext cx="95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8320" y="3797280"/>
            <a:ext cx="0" cy="184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35520" y="34956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7240" y="3498840"/>
            <a:ext cx="161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8960" y="350532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56440" y="3968640"/>
            <a:ext cx="95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5652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7120" y="384660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xp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425840" y="3968640"/>
            <a:ext cx="108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116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24560" y="3968640"/>
            <a:ext cx="101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076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94560" y="36608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3784680"/>
            <a:ext cx="448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96680" y="3848040"/>
            <a:ext cx="44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ty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346560" y="3968640"/>
            <a:ext cx="108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4152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78160" y="3968640"/>
            <a:ext cx="10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24520" y="4075200"/>
            <a:ext cx="115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658600" y="4179960"/>
            <a:ext cx="5194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11040" y="41799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23800" y="4341960"/>
            <a:ext cx="116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671560" y="4446720"/>
            <a:ext cx="518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25080" y="44467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23800" y="4608360"/>
            <a:ext cx="116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633400" y="4713120"/>
            <a:ext cx="52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225080" y="47131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4880" y="4849920"/>
            <a:ext cx="1280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760480" y="4954680"/>
            <a:ext cx="5079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23640" y="4954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8200" y="5099040"/>
            <a:ext cx="180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clause_ stor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3330720" y="5203800"/>
            <a:ext cx="451008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223640" y="52038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16960" y="5342040"/>
            <a:ext cx="161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ause_ d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171600" y="5446800"/>
            <a:ext cx="467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228680" y="5446800"/>
            <a:ext cx="21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9400" y="19080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03720" y="3059280"/>
            <a:ext cx="136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_constra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57480" y="324000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42800" y="383544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contrainte_colon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887960" y="1778040"/>
            <a:ext cx="4680" cy="169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51000" y="1778040"/>
            <a:ext cx="4680" cy="169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86440" y="1774800"/>
            <a:ext cx="1408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832120" y="187632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257120" y="1876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70280" y="19764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772080" y="198108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13480" y="199692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99600" y="21589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88040" y="226368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568480" y="2587680"/>
            <a:ext cx="614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64160" y="226368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556240" y="2397240"/>
            <a:ext cx="627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9920" y="2260440"/>
            <a:ext cx="173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13280" y="215748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594240" y="226044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44600" y="2728800"/>
            <a:ext cx="181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ATAFILE 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‘nom de fichier’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885840" y="28321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889080" y="3133800"/>
            <a:ext cx="2485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87720" y="1873080"/>
            <a:ext cx="0" cy="390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085920" y="22604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38280" y="215892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42040" y="1876320"/>
            <a:ext cx="0" cy="376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946560" y="22575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7640" y="2263680"/>
            <a:ext cx="0" cy="87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77040" y="2262240"/>
            <a:ext cx="0" cy="871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94720" y="3359160"/>
            <a:ext cx="161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ALLOCATE UNU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257120" y="3476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067200" y="3475080"/>
            <a:ext cx="482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63560" y="3475080"/>
            <a:ext cx="3240" cy="235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462120" y="3706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69840" y="3591000"/>
            <a:ext cx="90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EEP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4668840" y="3705120"/>
            <a:ext cx="820800" cy="5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45960" y="25020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41640" y="227808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60440" y="303048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STANC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491080" y="3474720"/>
            <a:ext cx="0" cy="235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5160" y="372096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756320" y="4044960"/>
            <a:ext cx="614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51280" y="3720960"/>
            <a:ext cx="0" cy="327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757760" y="3854520"/>
            <a:ext cx="61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34880" y="395604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30560" y="37321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67280" y="281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1506240" y="20858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7761240" y="20934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561680" y="2168640"/>
            <a:ext cx="6134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06840" y="2460600"/>
            <a:ext cx="0" cy="25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819400" y="2179800"/>
            <a:ext cx="3240" cy="1554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7613280" y="20952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65240" y="1889280"/>
            <a:ext cx="0" cy="2649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955880" y="1889280"/>
            <a:ext cx="5194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48520" y="188928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208240" y="2459160"/>
            <a:ext cx="3610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606480" y="2720880"/>
            <a:ext cx="330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2709720"/>
            <a:ext cx="86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58200" y="261468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ABLE 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51440" y="374652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30680" y="373392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200320" y="3741840"/>
            <a:ext cx="21175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92560" y="3730680"/>
            <a:ext cx="727200" cy="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8080" y="362916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81d58"/>
                </a:solidFill>
                <a:uFillTx/>
                <a:latin typeface="Arial"/>
              </a:rPr>
              <a:t>NO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053960" y="3990960"/>
            <a:ext cx="28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65840" y="3979800"/>
            <a:ext cx="558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71840" y="3878280"/>
            <a:ext cx="63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8240" y="3108240"/>
            <a:ext cx="360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06480" y="3394080"/>
            <a:ext cx="221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06840" y="311148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58920" y="23526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clause _en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9000" y="235908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EN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09680" y="2181240"/>
            <a:ext cx="0" cy="1552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39000" y="3008160"/>
            <a:ext cx="73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IS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58920" y="3002040"/>
            <a:ext cx="1119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clause _dis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58200" y="328608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ABLE 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38160" y="1692360"/>
            <a:ext cx="7201080" cy="1158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ALTER TABLE reser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TORAGE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(MAXEXTENTS 1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PCTINCREASE 10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Table alter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0760" y="3147840"/>
            <a:ext cx="7201080" cy="14245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ALTER TABLE too_sm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ALLOCATE EXTENT (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IZE 200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DATAFILE ‘/u02/Oracle/test/user1.dbs’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Table alter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de 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1506240" y="21222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7761240" y="20934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7613280" y="20952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7040" y="21844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75080" y="2184480"/>
            <a:ext cx="0" cy="216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22200" y="2179800"/>
            <a:ext cx="1498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54760" y="2168640"/>
            <a:ext cx="267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206208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139560" y="2428920"/>
            <a:ext cx="212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27400" y="2417760"/>
            <a:ext cx="241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08120" y="2300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604880" y="2192400"/>
            <a:ext cx="300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99720" y="2063880"/>
            <a:ext cx="117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43680" y="21718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61360" y="2184480"/>
            <a:ext cx="0" cy="216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146560" y="2416320"/>
            <a:ext cx="162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40760" y="2405160"/>
            <a:ext cx="114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97400" y="2286000"/>
            <a:ext cx="208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ASCAD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46800" y="3076560"/>
            <a:ext cx="782640" cy="574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Exemple B*-Tre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3480" y="4395960"/>
            <a:ext cx="82728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49840" y="5535720"/>
            <a:ext cx="1020600" cy="5666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2120" y="3063960"/>
            <a:ext cx="782640" cy="574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60960" y="1539720"/>
            <a:ext cx="14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GMENT INDEX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81360" y="2111400"/>
            <a:ext cx="905040" cy="345960"/>
            <a:chOff x="4581360" y="2111400"/>
            <a:chExt cx="905040" cy="345960"/>
          </a:xfrm>
        </p:grpSpPr>
        <p:sp>
          <p:nvSpPr>
            <p:cNvPr id="655" name=""/>
            <p:cNvSpPr/>
            <p:nvPr/>
          </p:nvSpPr>
          <p:spPr>
            <a:xfrm>
              <a:off x="4581360" y="2111400"/>
              <a:ext cx="771840" cy="345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0400" y="2174760"/>
              <a:ext cx="846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JON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817800" y="3089160"/>
            <a:ext cx="84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E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D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65880" y="3089160"/>
            <a:ext cx="84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ITH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FFF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00520" y="4395960"/>
            <a:ext cx="95400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25640" y="4432320"/>
            <a:ext cx="84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M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L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90800" y="4381560"/>
            <a:ext cx="1112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BLAKE-rowid</a:t>
            </a:r>
            <a:br>
              <a:rPr sz="1000"/>
            </a:b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CLARK-row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FORD-row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688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8400" y="4432320"/>
            <a:ext cx="84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836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37280" y="4419720"/>
            <a:ext cx="84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ING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0244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16560" y="4368960"/>
            <a:ext cx="84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LL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T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5652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58040" y="4444920"/>
            <a:ext cx="84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UR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1520" y="5549760"/>
            <a:ext cx="110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782 CLARK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698 BLAKE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902 FO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84160" y="2301840"/>
            <a:ext cx="192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Bloc d'Index rac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1560" y="3203640"/>
            <a:ext cx="1036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Times New Roman"/>
              </a:rPr>
              <a:t>Bloc d' Index intermédi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11280" y="4457880"/>
            <a:ext cx="1068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fr-FR" sz="1000" spc="-1" strike="noStrike">
                <a:solidFill>
                  <a:srgbClr val="081d58"/>
                </a:solidFill>
                <a:latin typeface="Times New Roman"/>
              </a:rPr>
              <a:t>Bloc d' Index feuil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34920" y="5410080"/>
            <a:ext cx="1925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Pointeurs de feuille suivante et précéde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19400" y="5651640"/>
            <a:ext cx="770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Times New Roman"/>
              </a:rPr>
              <a:t>Recherche row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1960" y="5295960"/>
            <a:ext cx="192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SEG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86592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554120" y="5016600"/>
            <a:ext cx="0" cy="380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83740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80852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71628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53512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405240" y="4901760"/>
            <a:ext cx="0" cy="723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416040" y="5622840"/>
            <a:ext cx="41436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214720" y="3352680"/>
            <a:ext cx="1519200" cy="10447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076640" y="2286000"/>
            <a:ext cx="495360" cy="7747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5541840" y="3683160"/>
            <a:ext cx="160560" cy="7142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2280" y="2273400"/>
            <a:ext cx="495000" cy="7999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35560" y="3454560"/>
            <a:ext cx="1408320" cy="95220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05440" y="3657600"/>
            <a:ext cx="695520" cy="7365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311280" y="3645000"/>
            <a:ext cx="625320" cy="7491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67080" y="3645000"/>
            <a:ext cx="250920" cy="7491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1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es tables et les index avec leur taille respectiv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mprendre les compromis entre stockage et performan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dimensionner le stockage physi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ation Bitmap 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alternative attractive à l'indexation par B*-arbre dans les situations suivantes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bles volumineuses(millions de lignes)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bles ayant une faible cardinalité, dont les colonnes ont un nombre de valeurs distinctes très faible ( Ex: sexe, âge,situation de famille, code postal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equêtes dont toutes les colonnes apparaissant dans la clause WHERE ont des index Bitmap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equêtes qui ont des conditions WHERE satisfaites individuellement par des milliers de lig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ation Bitmap : Concep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Bitmap pour chaque valeur, une entrée pour chaque ligne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binaison de bitmap efficace avec les opérateurs logiques (AND,OR...)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de l'espace utilisé comparativement aux autres techniques d'indexation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ins de performance très importants  pour certaines requêtes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ation  Bitmap : Comment l'utiliser?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44280" y="1758960"/>
            <a:ext cx="7296120" cy="41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quêtes complexes :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lonnes à faible cardinalit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binaisons de plusieurs conditions WHE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aque prédicat induit un grand nombre de lig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alternative aux index concaténés :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utilisation efficace de l'espace de stockag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cune dépendance sur l'ordre des colon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e cas de lecture seule ou de faible activité transactionnelle :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indexation Bitmap est onéreuse en mise à jo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Index Uniqu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14480" y="2106720"/>
            <a:ext cx="3073320" cy="30762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NO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(BLOCK# LINE# FIL#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36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1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9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2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2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3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66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4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54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5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98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6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82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0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23760" y="1795320"/>
            <a:ext cx="271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dex sur EMP (EMPN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44960" y="1795320"/>
            <a:ext cx="21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 E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35680" y="2106720"/>
            <a:ext cx="3073320" cy="30762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NO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B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9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36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E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2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66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54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98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82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4680" y="304164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3855960" y="3156120"/>
            <a:ext cx="1325520" cy="272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4680" y="358776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4680" y="384192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4680" y="412128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4680" y="465444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87960" y="332100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87960" y="358776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87960" y="385452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7960" y="412128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7960" y="465444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3855960" y="3676680"/>
            <a:ext cx="1325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868200" y="3930480"/>
            <a:ext cx="132588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855960" y="4210200"/>
            <a:ext cx="1325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855960" y="4743360"/>
            <a:ext cx="1325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Index Non-Uniqu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6400" y="2055960"/>
            <a:ext cx="3073320" cy="3875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(BLOCK# LINE# FIL#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2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9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7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4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5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6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8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11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12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3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85680" y="1743120"/>
            <a:ext cx="271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dex sur EMP (ENA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1280" y="1743120"/>
            <a:ext cx="21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EMP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08600" y="2055960"/>
            <a:ext cx="3276720" cy="3875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B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P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E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6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975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E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8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4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6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3873240" y="3111120"/>
            <a:ext cx="1104840" cy="266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23920" y="4603680"/>
            <a:ext cx="647640" cy="76212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3885840" y="3644640"/>
            <a:ext cx="1104840" cy="13208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3868560" y="3930480"/>
            <a:ext cx="1084320" cy="6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3855960" y="4438440"/>
            <a:ext cx="1084320" cy="6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23920" y="3790800"/>
            <a:ext cx="647640" cy="52092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59360" y="5111640"/>
            <a:ext cx="647640" cy="52092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9360" y="3803760"/>
            <a:ext cx="647640" cy="52056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9360" y="2965320"/>
            <a:ext cx="647640" cy="27936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 Concatén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63720" y="1959120"/>
            <a:ext cx="3835440" cy="2863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DEPTNO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(BLOCK# LINE# FIL#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------------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0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KING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7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ILL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9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ADAMS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10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FORD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13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4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643040"/>
            <a:ext cx="31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dex sur EMP (DEPTNO, ENA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932360" y="1643040"/>
            <a:ext cx="21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EMP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22720" y="1959120"/>
            <a:ext cx="3124440" cy="2863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JOB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DEPN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CLERK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80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60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975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8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4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4483080" y="2908440"/>
            <a:ext cx="596880" cy="15746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503600" y="3720960"/>
            <a:ext cx="588960" cy="451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73480" y="4311720"/>
            <a:ext cx="2934000" cy="2286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86440" y="3575160"/>
            <a:ext cx="2921040" cy="2030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047600" y="4044960"/>
            <a:ext cx="3429000" cy="2286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11320" y="2825640"/>
            <a:ext cx="3352680" cy="2160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442200" y="1863720"/>
            <a:ext cx="17683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40000" y="175896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108080" y="186516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76800" y="186372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2520" y="175104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40040" y="19288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476240" y="20397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64000" y="1870200"/>
            <a:ext cx="1800" cy="169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442120" y="2038320"/>
            <a:ext cx="17748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13480" y="1866960"/>
            <a:ext cx="0" cy="164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1854000" y="2473200"/>
            <a:ext cx="2476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59800" y="2511360"/>
            <a:ext cx="34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95920" y="2160720"/>
            <a:ext cx="0" cy="3236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702040" y="2170080"/>
            <a:ext cx="647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692400" y="2187720"/>
            <a:ext cx="685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91520" y="218448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81560" y="23702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826160" y="249084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96240" y="236232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94480" y="2511360"/>
            <a:ext cx="95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2000" y="23828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24560" y="2486160"/>
            <a:ext cx="4237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885640" y="236232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8067600" y="24397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32120" y="205884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5400000">
            <a:off x="93672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018800" y="2475000"/>
            <a:ext cx="45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52240" y="2381400"/>
            <a:ext cx="41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619000" y="24922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171880" y="2635200"/>
            <a:ext cx="419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73320" y="2492280"/>
            <a:ext cx="0" cy="136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03440" y="2635200"/>
            <a:ext cx="565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75120" y="2489040"/>
            <a:ext cx="0" cy="140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06320" y="2886120"/>
            <a:ext cx="90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983960" y="3029040"/>
            <a:ext cx="492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2880" y="2476440"/>
            <a:ext cx="1440" cy="55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71200" y="287172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19920" y="3016080"/>
            <a:ext cx="1866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86880" y="2514600"/>
            <a:ext cx="1440" cy="503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03440" y="3016080"/>
            <a:ext cx="198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9080" y="3038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669840" y="3181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72000" y="3025800"/>
            <a:ext cx="0" cy="14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86480" y="3181320"/>
            <a:ext cx="368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054760" y="3022560"/>
            <a:ext cx="0" cy="152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59760" y="1760400"/>
            <a:ext cx="65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06800" y="1863720"/>
            <a:ext cx="142380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29720" y="1919160"/>
            <a:ext cx="777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IQ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406240" y="20397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94000" y="1870200"/>
            <a:ext cx="3240" cy="382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254400" y="2038320"/>
            <a:ext cx="17784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25760" y="1878120"/>
            <a:ext cx="4680" cy="374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43880" y="2530440"/>
            <a:ext cx="50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S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6680160" y="2674440"/>
            <a:ext cx="11448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6676920" y="2519280"/>
            <a:ext cx="5040" cy="368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250040" y="2664000"/>
            <a:ext cx="13176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43520" y="2754360"/>
            <a:ext cx="60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ES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296120" y="2874960"/>
            <a:ext cx="745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80360" y="2525760"/>
            <a:ext cx="1440" cy="350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 flipV="1">
            <a:off x="6681600" y="2887200"/>
            <a:ext cx="11412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529000" y="213048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BITM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2405160" y="2251080"/>
            <a:ext cx="164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252960" y="2249640"/>
            <a:ext cx="17748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8065800" y="1904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7918560" y="19065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11160" y="1706400"/>
            <a:ext cx="0" cy="2700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54800" y="1704960"/>
            <a:ext cx="0" cy="27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5400000">
            <a:off x="960120" y="1908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028880" y="1979640"/>
            <a:ext cx="6984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19240" y="1986120"/>
            <a:ext cx="0" cy="1350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2019240" y="2144880"/>
            <a:ext cx="295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78440" y="1986120"/>
            <a:ext cx="0" cy="1350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018880" y="2360520"/>
            <a:ext cx="294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2019240" y="2563920"/>
            <a:ext cx="295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2031840" y="2754360"/>
            <a:ext cx="2935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2019240" y="3338640"/>
            <a:ext cx="295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803240" y="1700280"/>
            <a:ext cx="464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031840" y="2970360"/>
            <a:ext cx="2935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2018880" y="3147840"/>
            <a:ext cx="294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73320" y="3344760"/>
            <a:ext cx="0" cy="195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2179800" y="3538440"/>
            <a:ext cx="2087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67080" y="3328920"/>
            <a:ext cx="0" cy="198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5400000">
            <a:off x="960480" y="37116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015920" y="3782880"/>
            <a:ext cx="711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14680" y="3786120"/>
            <a:ext cx="0" cy="214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10120" y="3794040"/>
            <a:ext cx="0" cy="169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8057880" y="37098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719000" y="3995640"/>
            <a:ext cx="274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51440" y="3983040"/>
            <a:ext cx="960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35000" y="3873600"/>
            <a:ext cx="218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ARALLE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64040" y="284796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65120" y="302436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OS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64040" y="202104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64760" y="222408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340720" y="321480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61520" y="2427120"/>
            <a:ext cx="253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_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62240" y="2630520"/>
            <a:ext cx="213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06600" y="341460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'un Index : clause Storag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5400000">
            <a:off x="9604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8078760" y="19875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1015920" y="2066760"/>
            <a:ext cx="39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5400000">
            <a:off x="7930800" y="1989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43320" y="178596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343320" y="1787400"/>
            <a:ext cx="3184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26080" y="1785960"/>
            <a:ext cx="0" cy="276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378800" y="1940040"/>
            <a:ext cx="10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TORAGE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86320" y="1944720"/>
            <a:ext cx="113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ITIAL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1061640" y="199512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7200720" y="2066760"/>
            <a:ext cx="965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876560" y="2066760"/>
            <a:ext cx="2120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80040" y="194328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2417400" y="2066760"/>
            <a:ext cx="118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24480" y="24652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74680" y="258768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416040" y="2587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370200" y="2079720"/>
            <a:ext cx="4680" cy="2125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52920" y="3035160"/>
            <a:ext cx="162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IN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5334120" y="3159000"/>
            <a:ext cx="104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3416040" y="31590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49680" y="3290760"/>
            <a:ext cx="1686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5486040" y="3413160"/>
            <a:ext cx="888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416040" y="34131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51480" y="3527280"/>
            <a:ext cx="173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INCREAS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524200" y="3654360"/>
            <a:ext cx="85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404880" y="3654360"/>
            <a:ext cx="252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231880" y="3916440"/>
            <a:ext cx="11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416040" y="39164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51120" y="3776760"/>
            <a:ext cx="148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892840" y="4208400"/>
            <a:ext cx="482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416040" y="42084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45360" y="4067280"/>
            <a:ext cx="208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 GROUP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403440" y="2064960"/>
            <a:ext cx="0" cy="2143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97520" y="207180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277960" y="2395440"/>
            <a:ext cx="622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73640" y="2071800"/>
            <a:ext cx="0" cy="323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5265720" y="2205000"/>
            <a:ext cx="627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448240" y="23115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448240" y="208764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54600" y="259236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5135400" y="2916360"/>
            <a:ext cx="617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30720" y="2592360"/>
            <a:ext cx="0" cy="322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5122800" y="2725560"/>
            <a:ext cx="627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05320" y="283212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05320" y="26082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38160" y="1692360"/>
            <a:ext cx="7201080" cy="396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INDEX ind_emp_empno ON EMP(EMPN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38160" y="239076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INDEX ind_emp_empno ON EMP(EMP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INITIAL 500K NEXT 500K PCTINCREASE 75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38160" y="3770280"/>
            <a:ext cx="7201080" cy="9478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CREATE INDEX ind_parts ON PARTS(set_no, part_no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TABLESPACE tbs_i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STORAGE (INITIAL 1M NEXT 1M PCTINCREASE 0) PCTFREE 0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2040" y="1687680"/>
            <a:ext cx="186660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ype 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3680" y="1687680"/>
            <a:ext cx="539244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ent les données de la ba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nit une structure efficace  pour localiser les lignes spécifiques de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38160" y="2422440"/>
            <a:ext cx="7257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Gestion d'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orsque vous utilisez des index, il y a un compromis de performance entr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a rapidité de recherche des données de la ta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a rapidité de mise à jour de la ta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3416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6086520" y="2184480"/>
            <a:ext cx="1089000" cy="842760"/>
            <a:chOff x="6086520" y="2184480"/>
            <a:chExt cx="1089000" cy="842760"/>
          </a:xfrm>
        </p:grpSpPr>
        <p:sp>
          <p:nvSpPr>
            <p:cNvPr id="974" name=""/>
            <p:cNvSpPr/>
            <p:nvPr/>
          </p:nvSpPr>
          <p:spPr>
            <a:xfrm>
              <a:off x="608652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8652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8652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678640" y="308628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 DISQUE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Base Personnalisé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6672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819440" y="2184480"/>
            <a:ext cx="1089000" cy="842760"/>
            <a:chOff x="1819440" y="2184480"/>
            <a:chExt cx="1089000" cy="842760"/>
          </a:xfrm>
        </p:grpSpPr>
        <p:sp>
          <p:nvSpPr>
            <p:cNvPr id="981" name=""/>
            <p:cNvSpPr/>
            <p:nvPr/>
          </p:nvSpPr>
          <p:spPr>
            <a:xfrm>
              <a:off x="181944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1944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81944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436760" y="4965840"/>
            <a:ext cx="1890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PACE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621240" y="4965840"/>
            <a:ext cx="1890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PACE TBS_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29400" y="4965840"/>
            <a:ext cx="1890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PACE TBS_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411200" y="308628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SYST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2600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95680" y="189216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 DISQU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00720" y="2778120"/>
            <a:ext cx="0" cy="1031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978360" y="2209680"/>
            <a:ext cx="1089000" cy="843120"/>
            <a:chOff x="3978360" y="2209680"/>
            <a:chExt cx="1089000" cy="843120"/>
          </a:xfrm>
        </p:grpSpPr>
        <p:sp>
          <p:nvSpPr>
            <p:cNvPr id="992" name=""/>
            <p:cNvSpPr/>
            <p:nvPr/>
          </p:nvSpPr>
          <p:spPr>
            <a:xfrm>
              <a:off x="3978360" y="2381400"/>
              <a:ext cx="1089000" cy="50292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78360" y="220968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78360" y="272880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3595680" y="439416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 DISQU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965400" y="3479760"/>
            <a:ext cx="1089360" cy="843120"/>
            <a:chOff x="3965400" y="3479760"/>
            <a:chExt cx="1089360" cy="843120"/>
          </a:xfrm>
        </p:grpSpPr>
        <p:sp>
          <p:nvSpPr>
            <p:cNvPr id="997" name=""/>
            <p:cNvSpPr/>
            <p:nvPr/>
          </p:nvSpPr>
          <p:spPr>
            <a:xfrm>
              <a:off x="3965400" y="3651120"/>
              <a:ext cx="108936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65400" y="3479760"/>
              <a:ext cx="1089360" cy="32400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5400" y="3998880"/>
              <a:ext cx="1089360" cy="32400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stockage d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ITRAN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AXTRAN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CTFRE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ITIA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AXEXT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INEXT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CTINCRE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CTUSED (Ne peut pas être spécifié pour les index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7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Valeurs PCTFRE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oit être grand si un grand nombre de lignes doivent être insérées dans la table index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oit être petit si un petit nombre de lignes (ou pas du tout) doivent être insérées dans la table index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es valeurs de MAXTRANS et INITRANS peuvent être faibles si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es entrées d'index sont important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eu d'utilisateurs accéderont simultanément à la table indexée et donc à l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4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i aucun paramètre de stockage n'est spécifié, le Serveur Orac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lloue des extents utilisant les paramètres de stockage par défaut, si la table n'a pas de lig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lloue un extent pour l'index , si l'index est inférieur ou égal à 25 bloc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lloue 5 extents égaux à 1/5 de la taille total de l'index, si l'index est plus grand que 25 bloc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rveillance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1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rocédure de surveillance d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1. Analyser l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2. Noter le pourcentage d'espace utilisé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rveillance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1252440" y="19206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7392600" y="1904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76720" y="199404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14760" y="199404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2958840" y="1989000"/>
            <a:ext cx="184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124760" y="1978200"/>
            <a:ext cx="355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815360" y="1871640"/>
            <a:ext cx="237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 </a:t>
            </a: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VALIDATE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279240" y="2238480"/>
            <a:ext cx="1233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350720" y="2001960"/>
            <a:ext cx="29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45200" y="18730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NALYZE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1137960" y="19206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36640" y="212076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rveillance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50760" y="175572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ELECT btree_space, used_space, pct_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FROM index_st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WHERE name = ‘TAB_INDEX’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50760" y="313524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1371600"/>
                <a:tab algn="r" pos="2692440"/>
                <a:tab algn="r" pos="383544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TREE_SPA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SED_SPA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CT_US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------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-----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1371600"/>
                <a:tab algn="r" pos="2692440"/>
                <a:tab algn="r" pos="383544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89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96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02320" y="16588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56560" y="1649520"/>
            <a:ext cx="1440" cy="285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34240" y="251928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545160" y="2300400"/>
            <a:ext cx="919440" cy="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4792320" y="23036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47560" y="287496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6659640" y="2658960"/>
            <a:ext cx="804960" cy="6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4804920" y="26589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4694040" y="1652760"/>
            <a:ext cx="305244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32440" y="3205080"/>
            <a:ext cx="213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7090920" y="2989080"/>
            <a:ext cx="37332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4792320" y="29894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7464600" y="1940040"/>
            <a:ext cx="2880" cy="2276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911520" y="18558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5400000">
            <a:off x="1028880" y="18558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5400000">
            <a:off x="8055000" y="18558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451880" y="18223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TER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082160" y="192888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72000" y="1935000"/>
            <a:ext cx="351792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33280" y="2084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757600" y="2228760"/>
            <a:ext cx="17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3720" y="19461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726000" y="2227320"/>
            <a:ext cx="1807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02040" y="194328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7078680" y="3330360"/>
            <a:ext cx="38592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4803480" y="33307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58000" y="217800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2652840" y="1929960"/>
            <a:ext cx="134280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12560" y="180648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70080" y="3529080"/>
            <a:ext cx="0" cy="285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512000" y="3672000"/>
            <a:ext cx="1658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274400" y="3811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3138120" y="3792600"/>
            <a:ext cx="43261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62280" y="3940200"/>
            <a:ext cx="0" cy="2602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721560" y="3930480"/>
            <a:ext cx="1440" cy="285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659040" y="3933720"/>
            <a:ext cx="3052800" cy="5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074840" y="5148360"/>
            <a:ext cx="2158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74840" y="53942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42680" y="5264280"/>
            <a:ext cx="1379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STANCE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5877000" y="5390640"/>
            <a:ext cx="35568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056280" y="423072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08800" y="443232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621400" y="425448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437080" y="45543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432400" y="4230720"/>
            <a:ext cx="0" cy="322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5437080" y="437688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850000" y="437688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862240" y="45417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43040" y="5018040"/>
            <a:ext cx="18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ATAFILE 'nom fichier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71960" y="4238640"/>
            <a:ext cx="0" cy="1157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38800" y="4233960"/>
            <a:ext cx="0" cy="1162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3486240" y="4214880"/>
            <a:ext cx="3976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481560" y="3795840"/>
            <a:ext cx="0" cy="41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88960" y="4100400"/>
            <a:ext cx="98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IZE 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771720" y="4095720"/>
            <a:ext cx="235440" cy="2750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46840" y="4100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271520" y="3529080"/>
            <a:ext cx="3524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800600" y="1933560"/>
            <a:ext cx="0" cy="1595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03520"/>
            <a:ext cx="7108920" cy="37904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orders 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derid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3)NOT NUL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derdat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hipdat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ient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VARCHAR2(3)NOT NUL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mount_du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10,2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7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mount_paid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10,2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8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FREE 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USED 6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9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ITIAL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INCREAS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INEXTENTS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AXEXTENTS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user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7994520" y="15314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5400000">
            <a:off x="7846920" y="1533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5400000">
            <a:off x="933120" y="15476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298160" y="1906560"/>
            <a:ext cx="642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23080" y="1628640"/>
            <a:ext cx="0" cy="1589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3643200" y="2147760"/>
            <a:ext cx="1976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84360" y="2355840"/>
            <a:ext cx="29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1d58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97320" y="21780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1d58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5014800" y="247320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010120" y="2149560"/>
            <a:ext cx="0" cy="322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014800" y="22953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5427720" y="229536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5439960" y="24606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1297080" y="3224160"/>
            <a:ext cx="642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51040" y="29415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2647800" y="2946240"/>
            <a:ext cx="3052800" cy="5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5532120" y="3228840"/>
            <a:ext cx="4680" cy="1422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832120" y="3227400"/>
            <a:ext cx="0" cy="142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972880" y="3770280"/>
            <a:ext cx="216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5135040" y="3494160"/>
            <a:ext cx="1800" cy="260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2832120" y="4064040"/>
            <a:ext cx="2705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2960640" y="4346640"/>
            <a:ext cx="2176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2842920" y="3498840"/>
            <a:ext cx="2692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832120" y="4651200"/>
            <a:ext cx="270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3648240" y="1909440"/>
            <a:ext cx="0" cy="237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72080" y="2025720"/>
            <a:ext cx="95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KEEP </a:t>
            </a:r>
            <a:r>
              <a:rPr b="0" i="1" lang="en-US" sz="1200" spc="-1" strike="noStrike">
                <a:solidFill>
                  <a:srgbClr val="081d58"/>
                </a:solidFill>
                <a:latin typeface="Times New Roman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29320" y="1900080"/>
            <a:ext cx="0" cy="554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35760" y="1790640"/>
            <a:ext cx="1846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DEALLOCATE UNU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95280" y="1623960"/>
            <a:ext cx="0" cy="1600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44760" y="3100320"/>
            <a:ext cx="84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REBUI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3560" y="293544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90960" y="3371760"/>
            <a:ext cx="135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PARALLEL </a:t>
            </a:r>
            <a:r>
              <a:rPr b="0" i="1" lang="en-US" sz="1200" spc="-1" strike="noStrike">
                <a:solidFill>
                  <a:srgbClr val="081d58"/>
                </a:solidFill>
                <a:latin typeface="Times New Roman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090600" y="3641760"/>
            <a:ext cx="118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NO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973240" y="3498840"/>
            <a:ext cx="0" cy="27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090600" y="394812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2960640" y="406368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5151600" y="406368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090600" y="4218120"/>
            <a:ext cx="1513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89160" y="4511520"/>
            <a:ext cx="184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81d58"/>
                </a:solidFill>
                <a:latin typeface="Times New Roman"/>
              </a:rPr>
              <a:t>TABLESPACE </a:t>
            </a:r>
            <a:r>
              <a:rPr b="0" i="1" lang="fr-FR" sz="1200" spc="-1" strike="noStrike">
                <a:solidFill>
                  <a:srgbClr val="081d58"/>
                </a:solidFill>
                <a:latin typeface="Times New Roman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66680" y="1600200"/>
            <a:ext cx="6782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950760" y="175572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INDEX ind_emp_emp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AXTRANS 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dex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50760" y="291780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INDEX ind_emp_emp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PCTINCREASE 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dex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61920" y="1863720"/>
            <a:ext cx="724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5400000">
            <a:off x="8091360" y="1780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565640" y="1758960"/>
            <a:ext cx="117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11240" y="175104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52960" y="1882800"/>
            <a:ext cx="0" cy="162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254400" y="2050920"/>
            <a:ext cx="187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30720" y="1879560"/>
            <a:ext cx="0" cy="165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774960" y="193032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br>
              <a:rPr sz="2800"/>
            </a:b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947880" y="1674720"/>
            <a:ext cx="186660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09800" y="1674720"/>
            <a:ext cx="539280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ent les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nit une structure efficace pour localiser les lignes spécifiques d'une ta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938160" y="242244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08080" y="1666800"/>
            <a:ext cx="5072040" cy="574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63800" y="178128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ête de B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9240" y="2255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55800" y="2255760"/>
            <a:ext cx="287676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272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255760"/>
            <a:ext cx="71784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7800" y="235908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2640" y="2255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140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9240" y="2827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93040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55800" y="2827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44920" y="293040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2827440"/>
            <a:ext cx="215280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81480" y="293040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62640" y="2827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51400" y="293040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827440"/>
            <a:ext cx="71784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27800" y="2879640"/>
            <a:ext cx="911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l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-NU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9240" y="3398760"/>
            <a:ext cx="361332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3502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2640" y="3398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1400" y="3502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398760"/>
            <a:ext cx="71784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27800" y="350208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9240" y="3970440"/>
            <a:ext cx="43372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407340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62640" y="3970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76960" y="4022640"/>
            <a:ext cx="911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 vers le reste de la 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08080" y="1666800"/>
            <a:ext cx="5072040" cy="574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800" y="178128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înage entête de b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19240" y="2255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55800" y="2255760"/>
            <a:ext cx="432432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19360" y="2346480"/>
            <a:ext cx="1787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 la Col 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fi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6640" y="2819520"/>
            <a:ext cx="5081400" cy="674640"/>
          </a:xfrm>
          <a:custGeom>
            <a:avLst/>
            <a:gdLst/>
            <a:ahLst/>
            <a:rect l="l" t="t" r="r" b="b"/>
            <a:pathLst>
              <a:path w="3201" h="425">
                <a:moveTo>
                  <a:pt x="0" y="0"/>
                </a:moveTo>
                <a:lnTo>
                  <a:pt x="3200" y="0"/>
                </a:lnTo>
                <a:lnTo>
                  <a:pt x="3200" y="16"/>
                </a:lnTo>
                <a:lnTo>
                  <a:pt x="3200" y="296"/>
                </a:lnTo>
                <a:lnTo>
                  <a:pt x="3184" y="296"/>
                </a:lnTo>
                <a:lnTo>
                  <a:pt x="3168" y="288"/>
                </a:lnTo>
                <a:lnTo>
                  <a:pt x="3160" y="272"/>
                </a:lnTo>
                <a:lnTo>
                  <a:pt x="3144" y="272"/>
                </a:lnTo>
                <a:lnTo>
                  <a:pt x="3128" y="272"/>
                </a:lnTo>
                <a:lnTo>
                  <a:pt x="3112" y="272"/>
                </a:lnTo>
                <a:lnTo>
                  <a:pt x="3096" y="272"/>
                </a:lnTo>
                <a:lnTo>
                  <a:pt x="3080" y="280"/>
                </a:lnTo>
                <a:lnTo>
                  <a:pt x="3064" y="288"/>
                </a:lnTo>
                <a:lnTo>
                  <a:pt x="3048" y="296"/>
                </a:lnTo>
                <a:lnTo>
                  <a:pt x="3024" y="304"/>
                </a:lnTo>
                <a:lnTo>
                  <a:pt x="3008" y="312"/>
                </a:lnTo>
                <a:lnTo>
                  <a:pt x="2984" y="320"/>
                </a:lnTo>
                <a:lnTo>
                  <a:pt x="2960" y="312"/>
                </a:lnTo>
                <a:lnTo>
                  <a:pt x="2944" y="304"/>
                </a:lnTo>
                <a:lnTo>
                  <a:pt x="2928" y="304"/>
                </a:lnTo>
                <a:lnTo>
                  <a:pt x="2912" y="296"/>
                </a:lnTo>
                <a:lnTo>
                  <a:pt x="2896" y="296"/>
                </a:lnTo>
                <a:lnTo>
                  <a:pt x="2872" y="296"/>
                </a:lnTo>
                <a:lnTo>
                  <a:pt x="2856" y="296"/>
                </a:lnTo>
                <a:lnTo>
                  <a:pt x="2840" y="304"/>
                </a:lnTo>
                <a:lnTo>
                  <a:pt x="2808" y="312"/>
                </a:lnTo>
                <a:lnTo>
                  <a:pt x="2784" y="312"/>
                </a:lnTo>
                <a:lnTo>
                  <a:pt x="2768" y="320"/>
                </a:lnTo>
                <a:lnTo>
                  <a:pt x="2736" y="328"/>
                </a:lnTo>
                <a:lnTo>
                  <a:pt x="2720" y="328"/>
                </a:lnTo>
                <a:lnTo>
                  <a:pt x="2704" y="336"/>
                </a:lnTo>
                <a:lnTo>
                  <a:pt x="2688" y="336"/>
                </a:lnTo>
                <a:lnTo>
                  <a:pt x="2648" y="336"/>
                </a:lnTo>
                <a:lnTo>
                  <a:pt x="2632" y="328"/>
                </a:lnTo>
                <a:lnTo>
                  <a:pt x="2616" y="312"/>
                </a:lnTo>
                <a:lnTo>
                  <a:pt x="2560" y="296"/>
                </a:lnTo>
                <a:lnTo>
                  <a:pt x="2536" y="296"/>
                </a:lnTo>
                <a:lnTo>
                  <a:pt x="2512" y="296"/>
                </a:lnTo>
                <a:lnTo>
                  <a:pt x="2488" y="296"/>
                </a:lnTo>
                <a:lnTo>
                  <a:pt x="2472" y="296"/>
                </a:lnTo>
                <a:lnTo>
                  <a:pt x="2448" y="304"/>
                </a:lnTo>
                <a:lnTo>
                  <a:pt x="2400" y="312"/>
                </a:lnTo>
                <a:lnTo>
                  <a:pt x="2384" y="312"/>
                </a:lnTo>
                <a:lnTo>
                  <a:pt x="2368" y="312"/>
                </a:lnTo>
                <a:lnTo>
                  <a:pt x="2320" y="328"/>
                </a:lnTo>
                <a:lnTo>
                  <a:pt x="2304" y="328"/>
                </a:lnTo>
                <a:lnTo>
                  <a:pt x="2288" y="328"/>
                </a:lnTo>
                <a:lnTo>
                  <a:pt x="2272" y="344"/>
                </a:lnTo>
                <a:lnTo>
                  <a:pt x="2240" y="352"/>
                </a:lnTo>
                <a:lnTo>
                  <a:pt x="2232" y="368"/>
                </a:lnTo>
                <a:lnTo>
                  <a:pt x="2208" y="376"/>
                </a:lnTo>
                <a:lnTo>
                  <a:pt x="2184" y="392"/>
                </a:lnTo>
                <a:lnTo>
                  <a:pt x="2168" y="392"/>
                </a:lnTo>
                <a:lnTo>
                  <a:pt x="2152" y="392"/>
                </a:lnTo>
                <a:lnTo>
                  <a:pt x="2120" y="400"/>
                </a:lnTo>
                <a:lnTo>
                  <a:pt x="2096" y="400"/>
                </a:lnTo>
                <a:lnTo>
                  <a:pt x="2048" y="400"/>
                </a:lnTo>
                <a:lnTo>
                  <a:pt x="2024" y="400"/>
                </a:lnTo>
                <a:lnTo>
                  <a:pt x="2008" y="400"/>
                </a:lnTo>
                <a:lnTo>
                  <a:pt x="1992" y="400"/>
                </a:lnTo>
                <a:lnTo>
                  <a:pt x="1976" y="392"/>
                </a:lnTo>
                <a:lnTo>
                  <a:pt x="1952" y="384"/>
                </a:lnTo>
                <a:lnTo>
                  <a:pt x="1936" y="384"/>
                </a:lnTo>
                <a:lnTo>
                  <a:pt x="1912" y="376"/>
                </a:lnTo>
                <a:lnTo>
                  <a:pt x="1896" y="376"/>
                </a:lnTo>
                <a:lnTo>
                  <a:pt x="1856" y="376"/>
                </a:lnTo>
                <a:lnTo>
                  <a:pt x="1832" y="376"/>
                </a:lnTo>
                <a:lnTo>
                  <a:pt x="1808" y="376"/>
                </a:lnTo>
                <a:lnTo>
                  <a:pt x="1792" y="376"/>
                </a:lnTo>
                <a:lnTo>
                  <a:pt x="1776" y="376"/>
                </a:lnTo>
                <a:lnTo>
                  <a:pt x="1744" y="376"/>
                </a:lnTo>
                <a:lnTo>
                  <a:pt x="1728" y="384"/>
                </a:lnTo>
                <a:lnTo>
                  <a:pt x="1736" y="400"/>
                </a:lnTo>
                <a:lnTo>
                  <a:pt x="1752" y="384"/>
                </a:lnTo>
                <a:lnTo>
                  <a:pt x="1720" y="384"/>
                </a:lnTo>
                <a:lnTo>
                  <a:pt x="1696" y="392"/>
                </a:lnTo>
                <a:lnTo>
                  <a:pt x="1680" y="392"/>
                </a:lnTo>
                <a:lnTo>
                  <a:pt x="1664" y="392"/>
                </a:lnTo>
                <a:lnTo>
                  <a:pt x="1640" y="400"/>
                </a:lnTo>
                <a:lnTo>
                  <a:pt x="1624" y="408"/>
                </a:lnTo>
                <a:lnTo>
                  <a:pt x="1608" y="408"/>
                </a:lnTo>
                <a:lnTo>
                  <a:pt x="1592" y="408"/>
                </a:lnTo>
                <a:lnTo>
                  <a:pt x="1576" y="408"/>
                </a:lnTo>
                <a:lnTo>
                  <a:pt x="1552" y="408"/>
                </a:lnTo>
                <a:lnTo>
                  <a:pt x="1504" y="392"/>
                </a:lnTo>
                <a:lnTo>
                  <a:pt x="1488" y="392"/>
                </a:lnTo>
                <a:lnTo>
                  <a:pt x="1464" y="384"/>
                </a:lnTo>
                <a:lnTo>
                  <a:pt x="1448" y="384"/>
                </a:lnTo>
                <a:lnTo>
                  <a:pt x="1432" y="384"/>
                </a:lnTo>
                <a:lnTo>
                  <a:pt x="1408" y="384"/>
                </a:lnTo>
                <a:lnTo>
                  <a:pt x="1392" y="384"/>
                </a:lnTo>
                <a:lnTo>
                  <a:pt x="1376" y="384"/>
                </a:lnTo>
                <a:lnTo>
                  <a:pt x="1352" y="384"/>
                </a:lnTo>
                <a:lnTo>
                  <a:pt x="1336" y="392"/>
                </a:lnTo>
                <a:lnTo>
                  <a:pt x="1320" y="392"/>
                </a:lnTo>
                <a:lnTo>
                  <a:pt x="1304" y="392"/>
                </a:lnTo>
                <a:lnTo>
                  <a:pt x="1272" y="400"/>
                </a:lnTo>
                <a:lnTo>
                  <a:pt x="1256" y="400"/>
                </a:lnTo>
                <a:lnTo>
                  <a:pt x="1240" y="400"/>
                </a:lnTo>
                <a:lnTo>
                  <a:pt x="1208" y="408"/>
                </a:lnTo>
                <a:lnTo>
                  <a:pt x="1192" y="408"/>
                </a:lnTo>
                <a:lnTo>
                  <a:pt x="1176" y="416"/>
                </a:lnTo>
                <a:lnTo>
                  <a:pt x="1160" y="424"/>
                </a:lnTo>
                <a:lnTo>
                  <a:pt x="1144" y="424"/>
                </a:lnTo>
                <a:lnTo>
                  <a:pt x="1128" y="424"/>
                </a:lnTo>
                <a:lnTo>
                  <a:pt x="1112" y="424"/>
                </a:lnTo>
                <a:lnTo>
                  <a:pt x="1096" y="416"/>
                </a:lnTo>
                <a:lnTo>
                  <a:pt x="1080" y="416"/>
                </a:lnTo>
                <a:lnTo>
                  <a:pt x="1064" y="416"/>
                </a:lnTo>
                <a:lnTo>
                  <a:pt x="1048" y="416"/>
                </a:lnTo>
                <a:lnTo>
                  <a:pt x="1024" y="416"/>
                </a:lnTo>
                <a:lnTo>
                  <a:pt x="1008" y="416"/>
                </a:lnTo>
                <a:lnTo>
                  <a:pt x="992" y="416"/>
                </a:lnTo>
                <a:lnTo>
                  <a:pt x="968" y="416"/>
                </a:lnTo>
                <a:lnTo>
                  <a:pt x="952" y="416"/>
                </a:lnTo>
                <a:lnTo>
                  <a:pt x="928" y="416"/>
                </a:lnTo>
                <a:lnTo>
                  <a:pt x="904" y="408"/>
                </a:lnTo>
                <a:lnTo>
                  <a:pt x="872" y="400"/>
                </a:lnTo>
                <a:lnTo>
                  <a:pt x="848" y="384"/>
                </a:lnTo>
                <a:lnTo>
                  <a:pt x="840" y="368"/>
                </a:lnTo>
                <a:lnTo>
                  <a:pt x="816" y="360"/>
                </a:lnTo>
                <a:lnTo>
                  <a:pt x="800" y="352"/>
                </a:lnTo>
                <a:lnTo>
                  <a:pt x="776" y="344"/>
                </a:lnTo>
                <a:lnTo>
                  <a:pt x="752" y="344"/>
                </a:lnTo>
                <a:lnTo>
                  <a:pt x="736" y="344"/>
                </a:lnTo>
                <a:lnTo>
                  <a:pt x="720" y="344"/>
                </a:lnTo>
                <a:lnTo>
                  <a:pt x="704" y="352"/>
                </a:lnTo>
                <a:lnTo>
                  <a:pt x="688" y="360"/>
                </a:lnTo>
                <a:lnTo>
                  <a:pt x="672" y="368"/>
                </a:lnTo>
                <a:lnTo>
                  <a:pt x="656" y="376"/>
                </a:lnTo>
                <a:lnTo>
                  <a:pt x="640" y="384"/>
                </a:lnTo>
                <a:lnTo>
                  <a:pt x="608" y="384"/>
                </a:lnTo>
                <a:lnTo>
                  <a:pt x="600" y="400"/>
                </a:lnTo>
                <a:lnTo>
                  <a:pt x="592" y="416"/>
                </a:lnTo>
                <a:lnTo>
                  <a:pt x="576" y="416"/>
                </a:lnTo>
                <a:lnTo>
                  <a:pt x="560" y="416"/>
                </a:lnTo>
                <a:lnTo>
                  <a:pt x="544" y="408"/>
                </a:lnTo>
                <a:lnTo>
                  <a:pt x="528" y="408"/>
                </a:lnTo>
                <a:lnTo>
                  <a:pt x="496" y="400"/>
                </a:lnTo>
                <a:lnTo>
                  <a:pt x="480" y="400"/>
                </a:lnTo>
                <a:lnTo>
                  <a:pt x="456" y="384"/>
                </a:lnTo>
                <a:lnTo>
                  <a:pt x="440" y="376"/>
                </a:lnTo>
                <a:lnTo>
                  <a:pt x="416" y="376"/>
                </a:lnTo>
                <a:lnTo>
                  <a:pt x="392" y="368"/>
                </a:lnTo>
                <a:lnTo>
                  <a:pt x="376" y="368"/>
                </a:lnTo>
                <a:lnTo>
                  <a:pt x="360" y="376"/>
                </a:lnTo>
                <a:lnTo>
                  <a:pt x="344" y="376"/>
                </a:lnTo>
                <a:lnTo>
                  <a:pt x="328" y="376"/>
                </a:lnTo>
                <a:lnTo>
                  <a:pt x="312" y="376"/>
                </a:lnTo>
                <a:lnTo>
                  <a:pt x="280" y="376"/>
                </a:lnTo>
                <a:lnTo>
                  <a:pt x="264" y="376"/>
                </a:lnTo>
                <a:lnTo>
                  <a:pt x="248" y="376"/>
                </a:lnTo>
                <a:lnTo>
                  <a:pt x="216" y="376"/>
                </a:lnTo>
                <a:lnTo>
                  <a:pt x="184" y="376"/>
                </a:lnTo>
                <a:lnTo>
                  <a:pt x="168" y="384"/>
                </a:lnTo>
                <a:lnTo>
                  <a:pt x="160" y="400"/>
                </a:lnTo>
                <a:lnTo>
                  <a:pt x="136" y="400"/>
                </a:lnTo>
                <a:lnTo>
                  <a:pt x="120" y="408"/>
                </a:lnTo>
                <a:lnTo>
                  <a:pt x="104" y="416"/>
                </a:lnTo>
                <a:lnTo>
                  <a:pt x="88" y="424"/>
                </a:lnTo>
                <a:lnTo>
                  <a:pt x="48" y="416"/>
                </a:lnTo>
                <a:lnTo>
                  <a:pt x="32" y="416"/>
                </a:lnTo>
                <a:lnTo>
                  <a:pt x="16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1960" y="1658880"/>
            <a:ext cx="3133800" cy="5526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1960" y="2220840"/>
            <a:ext cx="3133800" cy="44928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01960" y="2644920"/>
            <a:ext cx="3133800" cy="107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d’un Bloc d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0880" y="175572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01960" y="3724200"/>
            <a:ext cx="3138480" cy="129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92520" y="226044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T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4640" y="420048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T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56440" y="1676520"/>
            <a:ext cx="0" cy="8697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43480" y="2846160"/>
            <a:ext cx="0" cy="21812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54720" y="1843200"/>
            <a:ext cx="1803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Incrémentation d’espace descend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2280" y="2895480"/>
            <a:ext cx="1803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Incrémentation d’espace mont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5240" y="3591000"/>
            <a:ext cx="1803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ONNE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349000" y="2652840"/>
            <a:ext cx="528840" cy="1058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349000" y="3722760"/>
            <a:ext cx="528840" cy="12938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Entête de Bloc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08320" y="1681200"/>
            <a:ext cx="4821120" cy="33987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8400" y="4422600"/>
            <a:ext cx="3821040" cy="65916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1790640"/>
            <a:ext cx="180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756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 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2616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 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496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1840" y="2300400"/>
            <a:ext cx="48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29440" y="1676520"/>
            <a:ext cx="0" cy="33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264280" y="1672920"/>
            <a:ext cx="0" cy="339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64200" y="1676520"/>
            <a:ext cx="0" cy="33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98680" y="1676520"/>
            <a:ext cx="0" cy="33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01840" y="4416480"/>
            <a:ext cx="48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1840" y="3722760"/>
            <a:ext cx="483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01840" y="2981160"/>
            <a:ext cx="481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9240" y="179064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9840" y="1790640"/>
            <a:ext cx="180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13200" y="179064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43440" y="179064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13040" y="2471760"/>
            <a:ext cx="180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2480" y="247176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9640" y="1758960"/>
            <a:ext cx="136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108080" y="186516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01960" y="2719440"/>
            <a:ext cx="0" cy="4618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00160" y="2720880"/>
            <a:ext cx="5492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88360" y="2717640"/>
            <a:ext cx="0" cy="454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8078400" y="3098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1160" y="3176640"/>
            <a:ext cx="6954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73320" y="3191040"/>
            <a:ext cx="0" cy="581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81240" y="3765600"/>
            <a:ext cx="5210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3187800"/>
            <a:ext cx="0" cy="584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2040" y="33256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contrainte_colon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21480" y="3187800"/>
            <a:ext cx="95040" cy="260280"/>
            <a:chOff x="5721480" y="3187800"/>
            <a:chExt cx="95040" cy="260280"/>
          </a:xfrm>
        </p:grpSpPr>
        <p:sp>
          <p:nvSpPr>
            <p:cNvPr id="233" name=""/>
            <p:cNvSpPr/>
            <p:nvPr/>
          </p:nvSpPr>
          <p:spPr>
            <a:xfrm flipH="1">
              <a:off x="5721480" y="3448080"/>
              <a:ext cx="9504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29400" y="3187800"/>
              <a:ext cx="0" cy="25380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93960" y="1873080"/>
            <a:ext cx="5349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947520" y="24652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003320" y="253692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8076960" y="2454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5840" y="2536920"/>
            <a:ext cx="0" cy="637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3000" y="2535120"/>
            <a:ext cx="0" cy="63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91160" y="2876400"/>
            <a:ext cx="0" cy="301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87920" y="2879640"/>
            <a:ext cx="1703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6120" y="2881440"/>
            <a:ext cx="0" cy="290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4920" y="3448080"/>
            <a:ext cx="95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55000" y="318780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79600" y="332568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xp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006440" y="3448080"/>
            <a:ext cx="196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02120" y="318780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4440" y="3448080"/>
            <a:ext cx="241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40320" y="318780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14800" y="1876320"/>
            <a:ext cx="0" cy="257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4800" y="2138400"/>
            <a:ext cx="1109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324320" y="18712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2640" y="2001960"/>
            <a:ext cx="83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10880" y="175104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19320" y="256716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77880" y="3038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92760" y="303696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78520" y="304812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0720" y="3638520"/>
            <a:ext cx="136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ntrainte_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3:36:20Z</dcterms:created>
  <dc:creator>annabelle</dc:creator>
  <dc:description/>
  <dc:language>en-US</dc:language>
  <cp:lastModifiedBy>MEDI TELECOM</cp:lastModifiedBy>
  <cp:lastPrinted>1996-08-14T09:43:18Z</cp:lastPrinted>
  <dcterms:modified xsi:type="dcterms:W3CDTF">2001-04-11T15:00:18Z</dcterms:modified>
  <cp:revision>15251</cp:revision>
  <dc:subject/>
  <dc:title>Lesson 9</dc:title>
</cp:coreProperties>
</file>