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3E815C-2401-4AF6-9E70-3534F846B2AF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90640"/>
            <a:ext cx="502920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6F2-D8F4-4B19-9BCB-F26AB043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6C2-1C72-43A6-B89E-86036733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446-CA66-4767-A281-C496CD8F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CB5-29F6-4F84-84B7-8C008B0C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B77-D241-4BBA-BF6B-C4382D05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7F5-2BBA-4189-BCC7-C40D3C62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FD7-33B8-4CBC-A5CA-66133B1C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A91-5318-4B95-A44C-6CDA0A6F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C0E-73D4-4A8E-98E8-CD3161A3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626-B546-4A19-BD09-58B8EAF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886-B2B6-4DF3-852E-2C77824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643-F960-4A1A-8843-277BD545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F4C070-41A4-43EC-9481-F687C86D5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96640" y="64324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2 - </a:t>
            </a:r>
            <a:fld id="{8011573B-9B27-4C47-8D82-8F547214AD8F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7440" y="646272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538000"/>
            <a:ext cx="637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2: Démarrer et Arrêter une Instance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034040" y="3306600"/>
            <a:ext cx="160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-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Boîte de Dialogue Startup 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25760" y="1733400"/>
            <a:ext cx="5871960" cy="397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Boîte de Dialogue Startup 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25760" y="1657440"/>
            <a:ext cx="5871960" cy="3976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yntaxe du STARTUP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43160" y="19479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5200" y="194616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66800" y="194796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4720" y="1803240"/>
            <a:ext cx="89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TART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8440" y="1924200"/>
            <a:ext cx="500220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5600" y="1925640"/>
            <a:ext cx="0" cy="255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536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7640" y="1930320"/>
            <a:ext cx="0" cy="254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7052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4656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9304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0000" y="2655720"/>
            <a:ext cx="6032520" cy="1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25520" y="265428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05560" y="265752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4000" y="4248000"/>
            <a:ext cx="6032160" cy="1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78640" y="4249800"/>
            <a:ext cx="150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9960" y="3122640"/>
            <a:ext cx="7686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OU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39960" y="3490920"/>
            <a:ext cx="9972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NOMOU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1360" y="2664000"/>
            <a:ext cx="0" cy="958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9560" y="362124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14680" y="2914560"/>
            <a:ext cx="1440" cy="331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400" y="324972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49960" y="266400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32120" y="291780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2908440"/>
            <a:ext cx="0" cy="258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02200" y="2924280"/>
            <a:ext cx="0" cy="237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6040" y="2908440"/>
            <a:ext cx="0" cy="258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05480" y="266400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266400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08400" y="3790800"/>
            <a:ext cx="135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mount_options </a:t>
            </a: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::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1360" y="4253040"/>
            <a:ext cx="0" cy="561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0160" y="4249800"/>
            <a:ext cx="0" cy="56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04960" y="4821120"/>
            <a:ext cx="0" cy="250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9800" y="4821120"/>
            <a:ext cx="0" cy="250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0920" y="4815000"/>
            <a:ext cx="0" cy="247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91040" y="4821120"/>
            <a:ext cx="0" cy="250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53960" y="4248000"/>
            <a:ext cx="157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8120" y="2657520"/>
            <a:ext cx="0" cy="952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70200" y="3610080"/>
            <a:ext cx="4416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2181240"/>
            <a:ext cx="1447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07760" y="2057400"/>
            <a:ext cx="1271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PFILE=</a:t>
            </a: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file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9720" y="2181240"/>
            <a:ext cx="1092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72960" y="2057400"/>
            <a:ext cx="9651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STRI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0560" y="2181240"/>
            <a:ext cx="873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1200" y="2057400"/>
            <a:ext cx="718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12800" y="2905200"/>
            <a:ext cx="3735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9600" y="2782800"/>
            <a:ext cx="6087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8600" y="3181320"/>
            <a:ext cx="1114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43000" y="3052800"/>
            <a:ext cx="9471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C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08320" y="3168720"/>
            <a:ext cx="1016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3040200"/>
            <a:ext cx="7351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00800" y="2905200"/>
            <a:ext cx="1446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86480" y="2766960"/>
            <a:ext cx="12906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mount_op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9560" y="4815000"/>
            <a:ext cx="3000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4505400"/>
            <a:ext cx="2990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39600" y="4687920"/>
            <a:ext cx="1015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9240" y="4383000"/>
            <a:ext cx="10749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EXCLU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04960" y="5072040"/>
            <a:ext cx="1376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14800" y="5072040"/>
            <a:ext cx="876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9240" y="4948200"/>
            <a:ext cx="8204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H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28560" y="4948200"/>
            <a:ext cx="718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Starting Up Databa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625760" y="1657440"/>
            <a:ext cx="5871960" cy="3976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nter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1681200"/>
            <a:ext cx="7234200" cy="7779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ALTER DATABASE MOUNT;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Starting Up Databa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625760" y="1733400"/>
            <a:ext cx="5871960" cy="397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Sessions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Restricted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90680" y="2133720"/>
            <a:ext cx="1699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4520" y="213372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81200" y="2135160"/>
            <a:ext cx="59482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13680" y="2019240"/>
            <a:ext cx="13766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LTE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0960" y="2629080"/>
            <a:ext cx="158760" cy="46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53440" y="2630520"/>
            <a:ext cx="14760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92200" y="2629080"/>
            <a:ext cx="59659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52360" y="3705120"/>
            <a:ext cx="6883560" cy="1464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CONNECT / AS SYSD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nn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ALTER SYSTEM ENABLE RESTRICTED SES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33680" y="2633760"/>
            <a:ext cx="0" cy="357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2633760"/>
            <a:ext cx="0" cy="357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8640" y="2990880"/>
            <a:ext cx="11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67600" y="2857680"/>
            <a:ext cx="8557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IS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03280" y="2503440"/>
            <a:ext cx="1861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STRICTED SE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5000" y="2519280"/>
            <a:ext cx="8128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Shutdown Databa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625760" y="1657440"/>
            <a:ext cx="5871960" cy="3976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43160" y="19479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66800" y="194796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4720" y="1803240"/>
            <a:ext cx="157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LTER 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1924200"/>
            <a:ext cx="4287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656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9304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0000" y="2351160"/>
            <a:ext cx="60325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5520" y="234936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05560" y="235260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09200" y="2359080"/>
            <a:ext cx="1800" cy="727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9560" y="308772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49960" y="235908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32120" y="261288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26040" y="260352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28880" y="235908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88120" y="2352600"/>
            <a:ext cx="3240" cy="71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33680" y="3076560"/>
            <a:ext cx="4657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43680" y="2181240"/>
            <a:ext cx="1447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08480" y="2057400"/>
            <a:ext cx="7351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8880" y="2600280"/>
            <a:ext cx="2519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37800" y="2962440"/>
            <a:ext cx="6087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38600" y="2876400"/>
            <a:ext cx="228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42640" y="2725560"/>
            <a:ext cx="1015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32920" y="2468520"/>
            <a:ext cx="10749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EXCLU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1320" y="2241720"/>
            <a:ext cx="7686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OU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70280" y="328932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4200" y="327960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67040" y="3276720"/>
            <a:ext cx="2519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76400" y="3552840"/>
            <a:ext cx="228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9360" y="3363840"/>
            <a:ext cx="13402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NORESETLO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0000" y="3144960"/>
            <a:ext cx="11116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SETLO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07200" y="3083040"/>
            <a:ext cx="288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67040" y="306396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52520" y="1943280"/>
            <a:ext cx="1699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76360" y="194328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0960" y="2352600"/>
            <a:ext cx="171720" cy="32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415280" y="2352240"/>
            <a:ext cx="185760" cy="180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Fermer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2680" y="3916440"/>
            <a:ext cx="26431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4920" y="1708200"/>
            <a:ext cx="7199280" cy="20127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CONNECT / AS SYSD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nn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SHUTDOWN NORM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atabase clo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atabase dismoun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Oracle instance shut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98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électionner une méthode de contrôle d’identit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émarrer une instance en utilisant le mode appropri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ermer une instance en utilisant le mode appropri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odifier le mod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Restreindre les connexion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43160" y="19479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66800" y="194796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4360" y="1803240"/>
            <a:ext cx="13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LTE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1924200"/>
            <a:ext cx="4287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0000" y="2655720"/>
            <a:ext cx="6032520" cy="1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25520" y="265428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05560" y="265752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78640" y="4249800"/>
            <a:ext cx="150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9720" y="265428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31880" y="2908440"/>
            <a:ext cx="0" cy="258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25800" y="289872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28640" y="265428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28640" y="2895480"/>
            <a:ext cx="251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38360" y="3171960"/>
            <a:ext cx="228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43840" y="3022560"/>
            <a:ext cx="8557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IS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34480" y="2765520"/>
            <a:ext cx="8128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52520" y="1943280"/>
            <a:ext cx="1699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194328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80960" y="2657520"/>
            <a:ext cx="171720" cy="32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415280" y="2657520"/>
            <a:ext cx="185760" cy="144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36600" y="2527200"/>
            <a:ext cx="1861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STRICTED SE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87400" y="1917720"/>
            <a:ext cx="82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2440" y="2882880"/>
            <a:ext cx="106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90360" y="3971880"/>
            <a:ext cx="14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NO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28840" y="501984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HUT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347800" y="2262240"/>
            <a:ext cx="183060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86320" y="2300400"/>
            <a:ext cx="0" cy="10540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206960" y="3321000"/>
            <a:ext cx="12160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45120" y="3335400"/>
            <a:ext cx="0" cy="10792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471320" y="5423040"/>
            <a:ext cx="166212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933800" y="3530520"/>
            <a:ext cx="1694160" cy="16938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94320" y="2341440"/>
            <a:ext cx="1806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ous les fichiers ouverts, définis dans le fichier de contrôle, pour cette 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52760" y="3419640"/>
            <a:ext cx="1571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Contrôle ouvert pour cette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78080" y="445464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stance </a:t>
            </a:r>
            <a:br>
              <a:rPr sz="1400"/>
            </a:b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émarré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8900000">
            <a:off x="5300640" y="4376520"/>
            <a:ext cx="13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TART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066840" y="4379760"/>
            <a:ext cx="12142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03560" y="4416480"/>
            <a:ext cx="0" cy="10414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909880" y="1893600"/>
            <a:ext cx="1693800" cy="16938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8960000">
            <a:off x="2832840" y="2356920"/>
            <a:ext cx="160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HUT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43160" y="19479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66800" y="194796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93320" y="1803240"/>
            <a:ext cx="109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HUT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1924200"/>
            <a:ext cx="4287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05560" y="265752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778800" y="1933560"/>
            <a:ext cx="2880" cy="257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57360" y="2203560"/>
            <a:ext cx="3240" cy="263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781320" y="2193840"/>
            <a:ext cx="1800" cy="273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57720" y="1924200"/>
            <a:ext cx="0" cy="261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57720" y="2190600"/>
            <a:ext cx="2519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2467080"/>
            <a:ext cx="251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71840" y="2317680"/>
            <a:ext cx="11163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IMMEDI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62120" y="2060640"/>
            <a:ext cx="8784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N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52520" y="1943280"/>
            <a:ext cx="1699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76360" y="194328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634160" y="1914120"/>
            <a:ext cx="185760" cy="1116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257360" y="2479680"/>
            <a:ext cx="3240" cy="263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781320" y="2470320"/>
            <a:ext cx="1800" cy="27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7080" y="2743200"/>
            <a:ext cx="250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71120" y="2593800"/>
            <a:ext cx="727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B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6026040" cy="25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étapes du Startu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Lancer Server Manager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CONNECT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utilisateur</a:t>
            </a: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 AS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sysdba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Démarrer l’instance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onter la Base de Données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Ouvrir la Base de Données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6400" y="1711080"/>
            <a:ext cx="703908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étapes du Shutdow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Lancer Server Manager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CONNECT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utilisateur</a:t>
            </a: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 AS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sysdba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Fermer l’instance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7360" y="4003560"/>
            <a:ext cx="0" cy="7621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4160" y="3995640"/>
            <a:ext cx="0" cy="7732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97240" y="3441600"/>
            <a:ext cx="1069920" cy="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éthodes de Contrôle d’Identité 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590920"/>
            <a:ext cx="1870200" cy="1523880"/>
          </a:xfrm>
          <a:prstGeom prst="diamond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2480" y="2666880"/>
            <a:ext cx="2246040" cy="1524240"/>
          </a:xfrm>
          <a:prstGeom prst="diamond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15000" y="2870280"/>
            <a:ext cx="1482840" cy="97308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37320" y="4265640"/>
            <a:ext cx="1482840" cy="97308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9760" y="4761000"/>
            <a:ext cx="1984320" cy="14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9960" y="4761000"/>
            <a:ext cx="2846520" cy="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0" y="2201760"/>
            <a:ext cx="23760" cy="46512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17640" y="2189160"/>
            <a:ext cx="11160" cy="4017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8320" y="1647720"/>
            <a:ext cx="146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dmin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à distance d'u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Base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05280" y="1649520"/>
            <a:ext cx="145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dmin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locale d'u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Base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2880" y="2906640"/>
            <a:ext cx="47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Ou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26800" y="2906640"/>
            <a:ext cx="47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Ou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37160" y="4232160"/>
            <a:ext cx="50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N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91600" y="4232160"/>
            <a:ext cx="50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N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2800" y="3106800"/>
            <a:ext cx="159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posez-v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'une connex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écurisé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90360" y="2973240"/>
            <a:ext cx="1929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ulez-v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 contrôle d’ident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 l'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1480" y="3127320"/>
            <a:ext cx="149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e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'authent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 l'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8440" y="4483080"/>
            <a:ext cx="142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sez u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chie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ts de pas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9680" y="3443400"/>
            <a:ext cx="890640" cy="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éthodes de Contrôle d’Identit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750680"/>
            <a:ext cx="716256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er le contrôle d’identité par l’O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aramètrer l’utilisateur pour qu’il soit authentifié par le système d’exploit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éciser REMOTE_LOGIN_PASSWORDFILE = NO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NECT/ AS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dba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er un Fichier de mots de pas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le fichier de mots de passe avec l’utilitaire ORAPWD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éciser REMOTE_LOGIN_PASSWORDFILE = EXCLUSIV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onner le droit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oper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 ou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dba 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ux administrateurs de la base de données par le verbe GRA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er la syntaxe CONNECT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user 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S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dba 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u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op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ncer Server Manager en Mode Lign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34920" y="1739880"/>
            <a:ext cx="7153560" cy="3438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$ svrmg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acle Server Manager Release 2.3.2.0.0 -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opyright (c) Oracle Corporation 1994, 1995. All rights reserv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acle7 Server Release 7.3.2.1.0 - Production Rele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with the distributed, replication, parallel query and Spatial Data op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L/SQL Release 2.3.2.0.0 -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ncer Server Manager en Mode Ecra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06640" y="1663560"/>
            <a:ext cx="5102280" cy="3807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Démarrer une 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87400" y="1917720"/>
            <a:ext cx="82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22440" y="2882880"/>
            <a:ext cx="106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0360" y="3971880"/>
            <a:ext cx="14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NO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28840" y="501984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HUT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47800" y="2262240"/>
            <a:ext cx="183060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86320" y="2300400"/>
            <a:ext cx="0" cy="10522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206960" y="3321000"/>
            <a:ext cx="12160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45120" y="3335400"/>
            <a:ext cx="0" cy="106992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480680" y="5423040"/>
            <a:ext cx="16462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924080" y="3635280"/>
            <a:ext cx="1693800" cy="16938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4320" y="2341440"/>
            <a:ext cx="1806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ous les fichiers ouverts, définis dans le fichier de contrôle, pour cette 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3419640"/>
            <a:ext cx="1571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Contrôle ouvert pour cette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8080" y="445464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stance </a:t>
            </a:r>
            <a:br>
              <a:rPr sz="1400"/>
            </a:b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émarré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63960" y="4379760"/>
            <a:ext cx="12160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03560" y="4416480"/>
            <a:ext cx="0" cy="10414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8900000">
            <a:off x="5291280" y="4480920"/>
            <a:ext cx="13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TART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4T12:17:44Z</dcterms:created>
  <dc:creator>Hanne Rue Rasmussen</dc:creator>
  <dc:description/>
  <dc:language>en-US</dc:language>
  <cp:lastModifiedBy>MEDI TELECOM</cp:lastModifiedBy>
  <cp:lastPrinted>1996-04-01T11:16:10Z</cp:lastPrinted>
  <dcterms:modified xsi:type="dcterms:W3CDTF">2001-04-11T14:55:54Z</dcterms:modified>
  <cp:revision>24787</cp:revision>
  <dc:subject>Oracle7: Administration</dc:subject>
  <dc:title>Démarrer et Arrêter une Instance</dc:title>
</cp:coreProperties>
</file>